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Peliculas-Exodo.wav" ContentType="audio/x-wav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1696-E23A-4D57-8256-E345B930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3A5F-9845-4C3E-9CB5-72421A84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7E81-7E99-401C-95D6-2F946CEB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3EFA-518F-47CF-873F-93EDDD95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7DAE-2488-4197-932F-65201213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2E82-AB8F-4AED-A3AA-B185E60F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CA8F-7E06-4E75-93BA-ABC5A1C2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D062-AD5F-479B-90C0-F0BEF22C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8B95-4328-4A06-B1D8-E06FC902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FA3A-3DA6-4D48-9161-11254EC9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C09B-DC5D-4841-95B6-ACFC7B2E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097C-27E0-4301-BFC7-F11E5B78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CDC7-D8E7-4319-AB81-259BB7E5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1119-4531-49B5-88AF-77AA5490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4726-54AD-4943-AE7A-E8F4B770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B3F7-8141-4188-8B33-5E354853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B366-11F9-493E-BB42-0A43B505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6ECE-B3A1-4147-8822-13FBE4F4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7CCF-956F-4CF4-9422-9ECAD28B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6D4A-7995-454A-B170-F7DBF254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154B-2F4E-479C-95F7-C811A1EE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36D-6204-4A6B-856D-1B4671D1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CC10-1E21-4D42-8C70-D0AD5BF0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6F56-3629-4EBF-9263-525B01EE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56EF-A0FE-44C3-828E-8D1C18804D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D276-A4D5-4C0B-AAD4-0A5A818F93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eliculas-Exodo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42920" y="155664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LA MUERTE (CIENTÍFICA) DE JESÚ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364428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A los 33 años Jesús fue condenado a muer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00000" y="641160"/>
            <a:ext cx="7704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Todo esto sin mencionar la humillación que pasó después de haber cargado su propia cruz por casi dos kilómetros, mientras la multitud le escupía el rostro y le tiraba piedras (la cruz pesaba cerca de 30 kilos, tan solo en la parte superior, en la que le clavaron sus manos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336240"/>
            <a:ext cx="82072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Todo eso pasó Jesús, sólo para que tú tengas un libre acceso a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Para que tengas todos tus pecados "lavados". ¡Todos ellos sin excepción!. No ignores esta situación. ¡ÉL MURIÓ POR TI!. Por ti que estás ahora leyendo este e-mail. No creas que Él murió por otros, por aquellos que van a la iglesia o por aquellos monjes, curas, pastores, obispos, etc.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1250640"/>
            <a:ext cx="8136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Él murió por ti! Es fácil pasar un chiste, fotos con tonterías o pornografías por e-mail, pero cuando es alguna cosa relacionada con Dios, te da vergüenza pasarlo a los demás, porque te preocupa lo que ellos puedan creer de tu moralida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641160"/>
            <a:ext cx="7991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Acepta la realidad, la verdad de que JESÚS ES LA ÚNICA SALVACIÓN PARA EL MUNDO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Dios tiene planes para ti, Enséñales a todos lo que Él pasó, únicamente para darte la salvación. ¡Piensa en esto ahora! ¡Dios bendiga nuestras vidas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4149000"/>
            <a:ext cx="770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Todo lo que tienes que hacer es lo siguient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692280"/>
            <a:ext cx="820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Durante 60 segundos, deja lo que estás haciendo, y ¡aprovecha esta oportunidad! Veamos si satanás puede detener est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641160"/>
            <a:ext cx="83516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 Narrow"/>
              <a:buAutoNum type="arabicPeriod"/>
              <a:tabLst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Simplemente ora por la persona que te envió este mensaje: Señor tu conoces bien la vida de ................. y te pido que en todo aspecto tú le bendigas y le prosperes. Cuida de su familia, de su salud, de su, trabajo y de todos los planes trazados para este año. No le dejes caer en tentación, mas líbralo del mal. En el nombre de Jesús, amé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335520"/>
            <a:ext cx="84247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s-ES" sz="3600" spc="-1" strike="noStrike">
                <a:solidFill>
                  <a:srgbClr val="ffffff"/>
                </a:solidFill>
                <a:latin typeface="Arial Narrow"/>
              </a:rPr>
              <a:t>2.Luego, envíala a TODAS las personas que tienes en tu lista de contactos y las que no también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s-ES" sz="3600" spc="-1" strike="noStrike">
                <a:solidFill>
                  <a:srgbClr val="ffffff"/>
                </a:solidFill>
                <a:latin typeface="Arial Narrow"/>
              </a:rPr>
              <a:t>3. En un rato más, estas personas  habrán orado por ti, y tú habrás logrado que muchas personas oren a Dios por otras person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s-ES" sz="3600" spc="-1" strike="noStrike">
                <a:solidFill>
                  <a:srgbClr val="ffffff"/>
                </a:solidFill>
                <a:latin typeface="Arial Narrow"/>
              </a:rPr>
              <a:t>4. Luego, piensa por un momento y aprecia el poder de Dios en tu vida, por hacer lo que tú sabes que a Él le encan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95280" y="183960"/>
            <a:ext cx="8280360" cy="64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Si no tienes vergüenza de hacer esto, por favor, sigue las instrucciones. Jesucristo dijo, "Si te avergüenzas de mí, yo me avergonzaré de ti ante mi Padre"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Si no tienes vergüenza, envía este mensaje... sólo si crees en ello. Sí, amo a Dios. Él es mi fuente de existencia y mi Salvador. Él me mantiene funcionando día y noche.</a:t>
            </a:r>
            <a:r>
              <a:rPr b="0" lang="es-E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44280"/>
            <a:ext cx="8280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Sin Él, nada soy, pero con Él "todo lo puedo en Cristo que me fortalece". Filipenses 4:13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Ésta es la prueba más simple. Si amas a Dios y no te avergüenzas de todas las cosas maravillosas que Él ha hecho por ti, envía esto a las personas que ama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42920" y="1248840"/>
            <a:ext cx="7274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La "peor" muerte de la época. Sólo los peores criminales murieron como Jesús. Y con Jesús todavía fue peor, porque no todos los criminales condenados a aquel castigo recibieron clavos en sus miembr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2128320"/>
            <a:ext cx="7489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Sí, fueron clavos... ¡y de los grandes! Cada uno tenía de 15 a 20 cm, con una punta de 6 cm. y el otro extremo puntiagudo.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29880"/>
            <a:ext cx="76327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Ellos eran clavados en las muñecas y no en las manos como dicen. En la muñeca, hay un tendón que llega a nuestro hombro, y cuando los clavos fueron martillados, ese tendón se rompió obligando a Jesús a forzar todos los músculos de su espalda, por tener sus muñecas clavadas, para poder respirar porque perdía todo el aire de sus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pulmones.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11280" y="639360"/>
            <a:ext cx="7921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De esta forma era obligado a apoyarse en el clavo metidos en sus pies que todavía era más grande que el de sus manos, porque clavaban los dos pies juntos. Y como sus pies no aguantarían por mucho tiempo sin rasgarse también, Jesús era obligado a alternar ese "ciclo" simplemente para lograr respir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32000" y="641160"/>
            <a:ext cx="5976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Jesús aguantó esa situación por poco más de 3 hora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Sí, ¡más de 3 horas! Mucho tiempo, ¿verdad? Algunos minutos antes de morir, Jesús ya no sangraba má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Sencillamente le salía agua de sus cortes y heridas.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1248840"/>
            <a:ext cx="8064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Cuando lo imaginamos herido, imaginamos meras heridas, pero no; las de Él eran verdaderos agujeros, agujeros hechos en su cuerp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Él no tenía más sangre para sangrar, por lo tanto, le salía agua.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5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639360"/>
            <a:ext cx="7993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El cuerpo humano está compuesto de aproximadamente 3,5 litros de sangre (en un adulto)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Jesús derramó 3,5 litros de sangre; tuvo tres clavos enormes metidos en sus miembros; una corona de espinas en su cabeza y además un soldado romano le clavó una lanza en su tórax.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20:25:24Z</dcterms:created>
  <dc:creator>lucho chapi</dc:creator>
  <dc:description/>
  <dc:language>en-US</dc:language>
  <cp:lastModifiedBy>Zuleima Figueroa</cp:lastModifiedBy>
  <dcterms:modified xsi:type="dcterms:W3CDTF">2007-03-23T17:01:56Z</dcterms:modified>
  <cp:revision>8</cp:revision>
  <dc:subject/>
  <dc:title>Diapositiva 1</dc:title>
</cp:coreProperties>
</file>