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Peliculas-Exodo.wav" ContentType="audio/x-wav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8AB-5DCB-4064-920F-7FAC76AD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1D7-1915-44D1-80F0-39A692B9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8D9-02F7-4D9C-8DCF-06299EEC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87E-7D06-412E-976A-486F3B67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3FA3-0553-4910-BE62-CF31130D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0AE9-2AC4-4CD8-A96A-4633C215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9F3A-527D-461C-85F6-3C167BFB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41DC-BF7F-4C91-954C-8556F7DA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552A-F510-4B98-B106-710B16B7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AC20-7899-4C8E-A6B5-616413DD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879B-6218-477A-8E0F-82B99AFF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6B5-C209-4883-8B34-3A9BB0D7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5248-D58C-414F-9070-769ADE3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AED0-D2B4-4A4E-B381-B6BEB5E9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32F1-C91C-46D6-9B3C-4622EE2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DE11-8A16-4F98-BACE-5C785CD7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F0AC-68DD-4146-858B-A7E76A2A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CEA-A05B-4E4D-8DB7-BAC8CDBC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DBB-EC32-472E-9152-205922BE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761-8ED8-4389-BB50-D4B5B6D8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F8B-4B7B-4E42-BA54-20A83A86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2E7-BBAF-401F-B095-E2C93AE7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105-A24A-4239-BCDE-C70E2BA2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BFE-1C46-4967-9BF8-5B315520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95A1-7194-46C4-97A0-847E29C5C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8D32-D9C5-4657-9F6F-03ED45822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eliculas-Exodo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1556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LA MUERTE (CIENTÍFICA) DE JESÚ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3644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A los 33 años Jesús fue condenado a muer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641160"/>
            <a:ext cx="7704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Todo esto sin mencionar la humillación que pasó después de haber cargado su propia cruz por casi dos kilómetros, mientras la multitud le escupía el rostro y le tiraba piedras (la cruz pesaba cerca de 30 kilos, tan solo en la parte superior, en la que le clavaron sus mano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336240"/>
            <a:ext cx="820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Todo eso pasó Jesús, sólo para que tú tengas un libre acceso a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Para que tengas todos tus pecados "lavados". ¡Todos ellos sin excepción!. No ignores esta situación. ¡ÉL MURIÓ POR TI!. Por ti que estás ahora leyendo este e-mail. No creas que Él murió por otros, por aquellos que van a la iglesia o por aquellos monjes, curas, pastores, obispos, etc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250640"/>
            <a:ext cx="813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Él murió por ti! Es fácil pasar un chiste, fotos con tonterías o pornografías por e-mail, pero cuando es alguna cosa relacionada con Dios, te da vergüenza pasarlo a los demás, porque te preocupa lo que ellos puedan creer de tu moralid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6411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Acepta la realidad, la verdad de que JESÚS ES LA ÚNICA SALVACIÓN PARA EL MUNDO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Dios tiene planes para ti, Enséñales a todos lo que Él pasó, únicamente para darte la salvación. ¡Piensa en esto ahora! ¡Dios bendiga nuestras vidas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14900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Todo lo que tienes que hacer es lo siguien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69228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Durante 60 segundos, deja lo que estás haciendo, y ¡aprovecha esta oportunidad! Veamos si satanás puede detener es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641160"/>
            <a:ext cx="835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implemente ora por la persona que te envió este mensaje: Señor tu conoces bien la vida de ................. y te pido que en todo aspecto tú le bendigas y le prosperes. Cuida de su familia, de su salud, de su, trabajo y de todos los planes trazados para este año. No le dejes caer en tentación, mas líbralo del mal. En el nombre de Jesús, amé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335520"/>
            <a:ext cx="8424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 Narrow"/>
              </a:rPr>
              <a:t>2.Luego, envíala a TODAS las personas que tienes en tu lista de contactos y las que no tambié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Arial Narrow"/>
              </a:rPr>
              <a:t>3. En un rato más, estas personas  habrán orado por ti, y tú habrás logrado que muchas personas oren a Dios por otras person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Arial Narrow"/>
              </a:rPr>
              <a:t>4. Luego, piensa por un momento y aprecia el poder de Dios en tu vida, por hacer lo que tú sabes que a Él le encan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83960"/>
            <a:ext cx="8280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 no tienes vergüenza de hacer esto, por favor, sigue las instrucciones. Jesucristo dijo, "Si te avergüenzas de mí, yo me avergonzaré de ti ante mi Padre"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s-ES" sz="4000" spc="-1" strike="noStrike">
                <a:solidFill>
                  <a:srgbClr val="ffffff"/>
                </a:solidFill>
                <a:latin typeface="Arial Narrow"/>
              </a:rPr>
              <a:t>Si no tienes vergüenza, envía este mensaje... sólo si crees en ello. Sí, amo a Dios. Él es mi fuente de existencia y mi Salvador. Él me mantiene funcionando día y noche.</a:t>
            </a: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4428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in Él, nada soy, pero con Él "todo lo puedo en Cristo que me fortalece". Filipenses 4: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Ésta es la prueba más simple. Si amas a Dios y no te avergüenzas de todas las cosas maravillosas que Él ha hecho por ti, envía esto a las personas que am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42920" y="1248840"/>
            <a:ext cx="7274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La "peor" muerte de la época. Sólo los peores criminales murieron como Jesús. Y con Jesús todavía fue peor, porque no todos los criminales condenados a aquel castigo recibieron clavos en sus miembr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2128320"/>
            <a:ext cx="748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í, fueron clavos... ¡y de los grandes! Cada uno tenía de 15 a 20 cm, con una punta de 6 cm. y el otro extremo puntiagudo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9880"/>
            <a:ext cx="7632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Ellos eran clavados en las muñecas y no en las manos como dicen. En la muñeca, hay un tendón que llega a nuestro hombro, y cuando los clavos fueron martillados, ese tendón se rompió obligando a Jesús a forzar todos los músculos de su espalda, por tener sus muñecas clavadas, para poder respirar porque perdía todo el aire de su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pulmones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639360"/>
            <a:ext cx="7921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De esta forma era obligado a apoyarse en el clavo metidos en sus pies que todavía era más grande que el de sus manos, porque clavaban los dos pies juntos. Y como sus pies no aguantarían por mucho tiempo sin rasgarse también, Jesús era obligado a alternar ese "ciclo" simplemente para lograr respir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641160"/>
            <a:ext cx="597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Jesús aguantó esa situación por poco más de 3 hor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í, ¡más de 3 horas! Mucho tiempo, ¿verdad? Algunos minutos antes de morir, Jesús ya no sangraba má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Sencillamente le salía agua de sus cortes y heridas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248840"/>
            <a:ext cx="806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Cuando lo imaginamos herido, imaginamos meras heridas, pero no; las de Él eran verdaderos agujeros, agujeros hechos en su cuerp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Él no tenía más sangre para sangrar, por lo tanto, le salía agua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639360"/>
            <a:ext cx="79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El cuerpo humano está compuesto de aproximadamente 3,5 litros de sangre (en un adulto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Jesús derramó 3,5 litros de sangre; tuvo tres clavos enormes metidos en sus miembros; una corona de espinas en su cabeza y además un soldado romano le clavó una lanza en su tórax.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25:24Z</dcterms:created>
  <dc:creator>lucho chapi</dc:creator>
  <dc:description/>
  <dc:language>en-US</dc:language>
  <cp:lastModifiedBy>Zuleima Figueroa</cp:lastModifiedBy>
  <dcterms:modified xsi:type="dcterms:W3CDTF">2007-03-23T17:01:56Z</dcterms:modified>
  <cp:revision>8</cp:revision>
  <dc:subject/>
  <dc:title>Diapositiva 1</dc:title>
</cp:coreProperties>
</file>