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11%20La%20Valse%20d'Am%C3%A9lie%20(Version%20Orchestre).wav" ContentType="audio/x-wav"/>
  <Override PartName="/ppt/media/image6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AEC-6674-4752-800B-7FF1D156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E65-318F-427B-A961-8F9CE353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189-2F2C-43BF-9EAD-ABB13EB1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0AA-8C9A-4087-9D6E-223784D3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D3A-256B-481C-8011-F9A4EF9A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803-40FF-4E68-8E91-B62FFA9C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303-454C-4DF9-A2F5-20E2CECE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AE9-401E-46CD-B14C-EA68D9C6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C40-83ED-49E7-888E-72C1B276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A4B-8574-4B8A-A692-99C4BAC1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412-3B3D-483F-9DBC-B674008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AE5-066F-40A7-A344-96D0C6F6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C723-7CBC-467D-9929-0D90D7B7F4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1%20La%20Valse%20d&apos;Am&#233;lie%20(Version%20Orchestre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m_049"/>
          <p:cNvPicPr/>
          <p:nvPr/>
        </p:nvPicPr>
        <p:blipFill>
          <a:blip r:embed="rId1"/>
          <a:stretch/>
        </p:blipFill>
        <p:spPr>
          <a:xfrm>
            <a:off x="152280" y="154080"/>
            <a:ext cx="8839440" cy="6576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0"/>
          <p:cNvSpPr/>
          <p:nvPr/>
        </p:nvSpPr>
        <p:spPr>
          <a:xfrm>
            <a:off x="4419720" y="380880"/>
            <a:ext cx="419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Mamá y Papá estaban mirando la televisión  cuando Mamá di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"estoy cansada, es tarde, me voy a la  cama".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m_024"/>
          <p:cNvPicPr/>
          <p:nvPr/>
        </p:nvPicPr>
        <p:blipFill>
          <a:blip r:embed="rId1"/>
          <a:stretch/>
        </p:blipFill>
        <p:spPr>
          <a:xfrm>
            <a:off x="1152360" y="0"/>
            <a:ext cx="6804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0"/>
          <p:cNvSpPr/>
          <p:nvPr/>
        </p:nvSpPr>
        <p:spPr>
          <a:xfrm>
            <a:off x="2819520" y="213372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Mamá a continuación se lavó la cara con las toallitas, se  puso crema anti-arrugas, se lavó los dientes y las uñ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m_077"/>
          <p:cNvPicPr/>
          <p:nvPr/>
        </p:nvPicPr>
        <p:blipFill>
          <a:blip r:embed="rId1"/>
          <a:stretch/>
        </p:blipFill>
        <p:spPr>
          <a:xfrm>
            <a:off x="914400" y="17640"/>
            <a:ext cx="6934320" cy="6851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0"/>
          <p:cNvSpPr/>
          <p:nvPr/>
        </p:nvSpPr>
        <p:spPr>
          <a:xfrm>
            <a:off x="1600200" y="533520"/>
            <a:ext cx="563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Papá grit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"pensaba que te estabas yendo a la cama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"Estoy yendo", dijo ella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m_094"/>
          <p:cNvPicPr/>
          <p:nvPr/>
        </p:nvPicPr>
        <p:blipFill>
          <a:blip r:embed="rId1"/>
          <a:stretch/>
        </p:blipFill>
        <p:spPr>
          <a:xfrm>
            <a:off x="1295280" y="11160"/>
            <a:ext cx="701064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0"/>
          <p:cNvSpPr/>
          <p:nvPr/>
        </p:nvSpPr>
        <p:spPr>
          <a:xfrm>
            <a:off x="1752480" y="502920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Puso un poco de  agua en el bebedero del perro y sacó el gato al balcón, cerró la puerta con  llave y apagó la luz de la  ent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m_servilletero9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0"/>
          <p:cNvSpPr/>
          <p:nvPr/>
        </p:nvSpPr>
        <p:spPr>
          <a:xfrm>
            <a:off x="2743200" y="45496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Dio una ojeada a los niños, les apagó las luces y la  televisión y un momento rezo por ellos, recogió una camiseta, tiró los calcetines a la cesta de ropa y habló  con uno de ellos que estaba todavía haciendo los debe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m_013"/>
          <p:cNvPicPr/>
          <p:nvPr/>
        </p:nvPicPr>
        <p:blipFill>
          <a:blip r:embed="rId1"/>
          <a:stretch/>
        </p:blipFill>
        <p:spPr>
          <a:xfrm>
            <a:off x="1066680" y="85680"/>
            <a:ext cx="6782040" cy="6728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0"/>
          <p:cNvSpPr/>
          <p:nvPr/>
        </p:nvSpPr>
        <p:spPr>
          <a:xfrm>
            <a:off x="1295280" y="53352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En su habitación puso el despertador, preparó la ropa para el día siguiente, ordenó mínimamente el zapatero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m_022"/>
          <p:cNvPicPr/>
          <p:nvPr/>
        </p:nvPicPr>
        <p:blipFill>
          <a:blip r:embed="rId1"/>
          <a:stretch/>
        </p:blipFill>
        <p:spPr>
          <a:xfrm>
            <a:off x="1295280" y="104760"/>
            <a:ext cx="6782040" cy="6753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0"/>
          <p:cNvSpPr/>
          <p:nvPr/>
        </p:nvSpPr>
        <p:spPr>
          <a:xfrm>
            <a:off x="1676520" y="152280"/>
            <a:ext cx="557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Añadió tres cosas a las seis de la lista de las cosas urgentes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Y visualizó el alcanzar sus propios obje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m_128"/>
          <p:cNvPicPr/>
          <p:nvPr/>
        </p:nvPicPr>
        <p:blipFill>
          <a:blip r:embed="rId1"/>
          <a:stretch/>
        </p:blipFill>
        <p:spPr>
          <a:xfrm>
            <a:off x="2362320" y="1295280"/>
            <a:ext cx="464796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0"/>
          <p:cNvSpPr/>
          <p:nvPr/>
        </p:nvSpPr>
        <p:spPr>
          <a:xfrm>
            <a:off x="2590920" y="167652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En ese momento, Papá apagó la televisión y anunció "me voy a la cama". Y lo hizo, sin otros pensamientos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m_132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40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0"/>
          <p:cNvSpPr/>
          <p:nvPr/>
        </p:nvSpPr>
        <p:spPr>
          <a:xfrm>
            <a:off x="1676520" y="0"/>
            <a:ext cx="606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¿Nada extraordina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¿Os preguntáis por qué las mujeres viven más tiempo?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m_124"/>
          <p:cNvPicPr/>
          <p:nvPr/>
        </p:nvPicPr>
        <p:blipFill>
          <a:blip r:embed="rId1"/>
          <a:stretch/>
        </p:blipFill>
        <p:spPr>
          <a:xfrm>
            <a:off x="1219320" y="7920"/>
            <a:ext cx="6933960" cy="6891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0"/>
          <p:cNvSpPr/>
          <p:nvPr/>
        </p:nvSpPr>
        <p:spPr>
          <a:xfrm>
            <a:off x="1295280" y="0"/>
            <a:ext cx="678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Porque están hechas para los largos recorridos (y no se pueden Morir antes, tienen demasiadas cosas que hac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m_005"/>
          <p:cNvPicPr/>
          <p:nvPr/>
        </p:nvPicPr>
        <p:blipFill>
          <a:blip r:embed="rId1"/>
          <a:stretch/>
        </p:blipFill>
        <p:spPr>
          <a:xfrm>
            <a:off x="2000160" y="0"/>
            <a:ext cx="50338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0"/>
          <p:cNvSpPr/>
          <p:nvPr/>
        </p:nvSpPr>
        <p:spPr>
          <a:xfrm>
            <a:off x="1143000" y="533520"/>
            <a:ext cx="716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Manda este e-mail a diez mujeres fenomenales y que has llegado a apreciar, ellas lo apreciarán, y a algunos hombres que tengan la inteligencia de  poder apreciar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m_050"/>
          <p:cNvPicPr/>
          <p:nvPr/>
        </p:nvPicPr>
        <p:blipFill>
          <a:blip r:embed="rId1"/>
          <a:stretch/>
        </p:blipFill>
        <p:spPr>
          <a:xfrm>
            <a:off x="1252440" y="0"/>
            <a:ext cx="6680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24"/>
          <p:cNvSpPr/>
          <p:nvPr/>
        </p:nvSpPr>
        <p:spPr>
          <a:xfrm>
            <a:off x="2041560" y="1981080"/>
            <a:ext cx="550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Fue a la cocina  a preparar los bocadillos para el día siguiente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madoz214"/>
          <p:cNvPicPr/>
          <p:nvPr/>
        </p:nvPicPr>
        <p:blipFill>
          <a:blip r:embed="rId1"/>
          <a:stretch/>
        </p:blipFill>
        <p:spPr>
          <a:xfrm>
            <a:off x="1219320" y="0"/>
            <a:ext cx="7010280" cy="6889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0"/>
          <p:cNvSpPr/>
          <p:nvPr/>
        </p:nvSpPr>
        <p:spPr>
          <a:xfrm>
            <a:off x="2180520" y="990720"/>
            <a:ext cx="4868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Despué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¡¡¡VETE A LA CAMA!!!</a:t>
            </a:r>
            <a:r>
              <a:rPr b="1" lang="es-E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adoz214"/>
          <p:cNvPicPr/>
          <p:nvPr/>
        </p:nvPicPr>
        <p:blipFill>
          <a:blip r:embed="rId1"/>
          <a:stretch/>
        </p:blipFill>
        <p:spPr>
          <a:xfrm>
            <a:off x="1219320" y="0"/>
            <a:ext cx="7010280" cy="6889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048680" y="990720"/>
            <a:ext cx="77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DOY GRACIAS A DIOS POR TENE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392120" y="160020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M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381680" y="2971800"/>
            <a:ext cx="13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H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381680" y="251460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ESP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367280" y="2057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AB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400400" y="3429000"/>
            <a:ext cx="26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HERM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419840" y="3886200"/>
            <a:ext cx="37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BUENAS AMI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646640" y="4724280"/>
            <a:ext cx="54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‘’</a:t>
            </a: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MUJERES GRANDIOSAS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585800" y="5257800"/>
            <a:ext cx="66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Y SI NO LAS TIENES DA GRACIAS A DIOS DE QUE YA LAS TIENE CON E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m_084"/>
          <p:cNvPicPr/>
          <p:nvPr/>
        </p:nvPicPr>
        <p:blipFill>
          <a:blip r:embed="rId1"/>
          <a:stretch/>
        </p:blipFill>
        <p:spPr>
          <a:xfrm>
            <a:off x="0" y="0"/>
            <a:ext cx="9144000" cy="6575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0"/>
          <p:cNvSpPr/>
          <p:nvPr/>
        </p:nvSpPr>
        <p:spPr>
          <a:xfrm>
            <a:off x="1143000" y="114300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Puso en remojo los recipientes  de las palomitas, sacó la carne del congelador para 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la cena del día siguiente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m_117"/>
          <p:cNvPicPr/>
          <p:nvPr/>
        </p:nvPicPr>
        <p:blipFill>
          <a:blip r:embed="rId1"/>
          <a:stretch/>
        </p:blipFill>
        <p:spPr>
          <a:xfrm>
            <a:off x="228600" y="74520"/>
            <a:ext cx="8686800" cy="6775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0"/>
          <p:cNvSpPr/>
          <p:nvPr/>
        </p:nvSpPr>
        <p:spPr>
          <a:xfrm>
            <a:off x="762120" y="3657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controló si quedaban bastantes cereales, llenó el azucarero, puso las cucharitas y los platos del desayuno en la mesa y 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dejó preparada la cafetera.</a:t>
            </a:r>
            <a:r>
              <a:rPr b="1" lang="es-E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lluvia_2_2001"/>
          <p:cNvPicPr/>
          <p:nvPr/>
        </p:nvPicPr>
        <p:blipFill>
          <a:blip r:embed="rId1"/>
          <a:stretch/>
        </p:blipFill>
        <p:spPr>
          <a:xfrm>
            <a:off x="990720" y="54000"/>
            <a:ext cx="7010280" cy="6746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0"/>
          <p:cNvSpPr/>
          <p:nvPr/>
        </p:nvSpPr>
        <p:spPr>
          <a:xfrm>
            <a:off x="1600200" y="3581280"/>
            <a:ext cx="586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Puso la ropa húmeda en la secadora, la ropa sucia en la lavadora, planchó una camisa y  cosió un botón, recogió los juguetes, puso a cargar el teléfono y guardó la guía telefónica.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m_037"/>
          <p:cNvPicPr/>
          <p:nvPr/>
        </p:nvPicPr>
        <p:blipFill>
          <a:blip r:embed="rId1"/>
          <a:stretch/>
        </p:blipFill>
        <p:spPr>
          <a:xfrm>
            <a:off x="2043000" y="0"/>
            <a:ext cx="4992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0"/>
          <p:cNvSpPr/>
          <p:nvPr/>
        </p:nvSpPr>
        <p:spPr>
          <a:xfrm>
            <a:off x="2514600" y="48769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Regó las plantas, ató la bolsa de basura y tendió una toalla.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m_llave6"/>
          <p:cNvPicPr/>
          <p:nvPr/>
        </p:nvPicPr>
        <p:blipFill>
          <a:blip r:embed="rId1"/>
          <a:stretch/>
        </p:blipFill>
        <p:spPr>
          <a:xfrm>
            <a:off x="1925640" y="0"/>
            <a:ext cx="4768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0"/>
          <p:cNvSpPr/>
          <p:nvPr/>
        </p:nvSpPr>
        <p:spPr>
          <a:xfrm>
            <a:off x="4724280" y="3809880"/>
            <a:ext cx="403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Bostezó, se desperezó y se fue al dormitorio.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m_103"/>
          <p:cNvPicPr/>
          <p:nvPr/>
        </p:nvPicPr>
        <p:blipFill>
          <a:blip r:embed="rId1"/>
          <a:stretch/>
        </p:blipFill>
        <p:spPr>
          <a:xfrm>
            <a:off x="1743120" y="0"/>
            <a:ext cx="5199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0"/>
          <p:cNvSpPr/>
          <p:nvPr/>
        </p:nvSpPr>
        <p:spPr>
          <a:xfrm>
            <a:off x="762120" y="487692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Courier New"/>
              </a:rPr>
              <a:t>Se paró un momento para  escribir una nota a la maestra, contó el dinero para la excursión y cogió un libro que estaba debajo de la 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silla.</a:t>
            </a:r>
            <a:r>
              <a:rPr b="1" lang="es-ES" sz="2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m_106"/>
          <p:cNvPicPr/>
          <p:nvPr/>
        </p:nvPicPr>
        <p:blipFill>
          <a:blip r:embed="rId1"/>
          <a:stretch/>
        </p:blipFill>
        <p:spPr>
          <a:xfrm>
            <a:off x="1219320" y="0"/>
            <a:ext cx="6638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0"/>
          <p:cNvSpPr/>
          <p:nvPr/>
        </p:nvSpPr>
        <p:spPr>
          <a:xfrm>
            <a:off x="1295280" y="0"/>
            <a:ext cx="65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alatino Linotype"/>
                <a:ea typeface="Courier New"/>
              </a:rPr>
              <a:t>Firmó una felicitación para un amigo y  escribió la dirección en el sobre, escribió una nota para el charcutero y colocó todo junto a su bolso.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4:25:14Z</dcterms:created>
  <dc:creator>Rodrigo</dc:creator>
  <dc:description/>
  <dc:language>en-US</dc:language>
  <cp:lastModifiedBy>Sonia Alexandra león Ospina</cp:lastModifiedBy>
  <dcterms:modified xsi:type="dcterms:W3CDTF">2007-03-08T13:29:09Z</dcterms:modified>
  <cp:revision>23</cp:revision>
  <dc:subject/>
  <dc:title>Chema Madoz   www.chemamadoz.com</dc:title>
</cp:coreProperties>
</file>