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11%20La%20Valse%20d'Am%C3%A9lie%20(Version%20Orchestre).wav" ContentType="audio/x-wav"/>
  <Override PartName="/ppt/media/image6.jpeg" ContentType="image/jpeg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6EE-4C20-4113-8BE3-16AA612F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E03-88E3-437F-9EF1-5DE89B07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564-1FDD-4AAB-B85B-2A01E923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C41-1470-41DD-80E5-E755843D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712-496F-448E-8B10-0A8B48A1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6CF-2436-4F31-8D90-AC35DA30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7D5-0AF0-4966-A511-5C4FC654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7218-B6BA-4DE5-92D8-C4DF4F1F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34C1-DE21-4999-BE1D-E0101157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437-5D42-4222-8429-277D7DC2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523D-4AC1-4834-8B21-1EF8A014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3F0A-87CA-4A93-9804-30AFFA1D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E342-D2A5-43D2-844E-759784720D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1%20La%20Valse%20d&apos;Am&#233;lie%20(Version%20Orchestre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m_049"/>
          <p:cNvPicPr/>
          <p:nvPr/>
        </p:nvPicPr>
        <p:blipFill>
          <a:blip r:embed="rId1"/>
          <a:stretch/>
        </p:blipFill>
        <p:spPr>
          <a:xfrm>
            <a:off x="152280" y="154080"/>
            <a:ext cx="8839440" cy="6576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0"/>
          <p:cNvSpPr/>
          <p:nvPr/>
        </p:nvSpPr>
        <p:spPr>
          <a:xfrm>
            <a:off x="4419720" y="380880"/>
            <a:ext cx="4190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Mamá y Papá estaban mirando la televisión  cuando Mamá dij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"estoy cansada, es tarde, me voy a la  cama".</a:t>
            </a:r>
            <a:r>
              <a:rPr b="1" lang="es-ES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m_024"/>
          <p:cNvPicPr/>
          <p:nvPr/>
        </p:nvPicPr>
        <p:blipFill>
          <a:blip r:embed="rId1"/>
          <a:stretch/>
        </p:blipFill>
        <p:spPr>
          <a:xfrm>
            <a:off x="1152360" y="0"/>
            <a:ext cx="68043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0"/>
          <p:cNvSpPr/>
          <p:nvPr/>
        </p:nvSpPr>
        <p:spPr>
          <a:xfrm>
            <a:off x="2819520" y="2133720"/>
            <a:ext cx="3429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Mamá a continuación se lavó la cara con las toallitas, se  puso crema anti-arrugas, se lavó los dientes y las uñ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m_077"/>
          <p:cNvPicPr/>
          <p:nvPr/>
        </p:nvPicPr>
        <p:blipFill>
          <a:blip r:embed="rId1"/>
          <a:stretch/>
        </p:blipFill>
        <p:spPr>
          <a:xfrm>
            <a:off x="914400" y="17640"/>
            <a:ext cx="6934320" cy="6851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0"/>
          <p:cNvSpPr/>
          <p:nvPr/>
        </p:nvSpPr>
        <p:spPr>
          <a:xfrm>
            <a:off x="1600200" y="533520"/>
            <a:ext cx="563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Papá grit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"pensaba que te estabas yendo a la cama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"Estoy yendo", dijo ella.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m_094"/>
          <p:cNvPicPr/>
          <p:nvPr/>
        </p:nvPicPr>
        <p:blipFill>
          <a:blip r:embed="rId1"/>
          <a:stretch/>
        </p:blipFill>
        <p:spPr>
          <a:xfrm>
            <a:off x="1295280" y="11160"/>
            <a:ext cx="701064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0"/>
          <p:cNvSpPr/>
          <p:nvPr/>
        </p:nvSpPr>
        <p:spPr>
          <a:xfrm>
            <a:off x="1752480" y="5029200"/>
            <a:ext cx="59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Puso un poco de  agua en el bebedero del perro y sacó el gato al balcón, cerró la puerta con  llave y apagó la luz de la  entr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m_servilletero9"/>
          <p:cNvPicPr/>
          <p:nvPr/>
        </p:nvPicPr>
        <p:blipFill>
          <a:blip r:embed="rId1"/>
          <a:stretch/>
        </p:blipFill>
        <p:spPr>
          <a:xfrm>
            <a:off x="9144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0"/>
          <p:cNvSpPr/>
          <p:nvPr/>
        </p:nvSpPr>
        <p:spPr>
          <a:xfrm>
            <a:off x="2743200" y="454968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Dio una ojeada a los niños, les apagó las luces y la  televisión y un momento rezo por ellos, recogió una camiseta, tiró los calcetines a la cesta de ropa y habló  con uno de ellos que estaba todavía haciendo los debe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m_013"/>
          <p:cNvPicPr/>
          <p:nvPr/>
        </p:nvPicPr>
        <p:blipFill>
          <a:blip r:embed="rId1"/>
          <a:stretch/>
        </p:blipFill>
        <p:spPr>
          <a:xfrm>
            <a:off x="1066680" y="85680"/>
            <a:ext cx="6782040" cy="67280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0"/>
          <p:cNvSpPr/>
          <p:nvPr/>
        </p:nvSpPr>
        <p:spPr>
          <a:xfrm>
            <a:off x="1295280" y="533520"/>
            <a:ext cx="64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En su habitación puso el despertador, preparó la ropa para el día siguiente, ordenó mínimamente el zapatero.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m_022"/>
          <p:cNvPicPr/>
          <p:nvPr/>
        </p:nvPicPr>
        <p:blipFill>
          <a:blip r:embed="rId1"/>
          <a:stretch/>
        </p:blipFill>
        <p:spPr>
          <a:xfrm>
            <a:off x="1295280" y="104760"/>
            <a:ext cx="6782040" cy="6753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0"/>
          <p:cNvSpPr/>
          <p:nvPr/>
        </p:nvSpPr>
        <p:spPr>
          <a:xfrm>
            <a:off x="1676520" y="152280"/>
            <a:ext cx="557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Añadió tres cosas a las seis de la lista de las cosas urgentes 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Y visualizó el alcanzar sus propios objetiv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m_128"/>
          <p:cNvPicPr/>
          <p:nvPr/>
        </p:nvPicPr>
        <p:blipFill>
          <a:blip r:embed="rId1"/>
          <a:stretch/>
        </p:blipFill>
        <p:spPr>
          <a:xfrm>
            <a:off x="2362320" y="1295280"/>
            <a:ext cx="4647960" cy="4762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0"/>
          <p:cNvSpPr/>
          <p:nvPr/>
        </p:nvSpPr>
        <p:spPr>
          <a:xfrm>
            <a:off x="2590920" y="167652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En ese momento, Papá apagó la televisión y anunció "me voy a la cama". Y lo hizo, sin otros pensamientos.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m_132"/>
          <p:cNvPicPr/>
          <p:nvPr/>
        </p:nvPicPr>
        <p:blipFill>
          <a:blip r:embed="rId1"/>
          <a:stretch/>
        </p:blipFill>
        <p:spPr>
          <a:xfrm>
            <a:off x="1219320" y="0"/>
            <a:ext cx="6933960" cy="6740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0"/>
          <p:cNvSpPr/>
          <p:nvPr/>
        </p:nvSpPr>
        <p:spPr>
          <a:xfrm>
            <a:off x="1676520" y="0"/>
            <a:ext cx="606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¿Nada extraordinar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¿Os preguntáis por qué las mujeres viven más tiempo?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m_124"/>
          <p:cNvPicPr/>
          <p:nvPr/>
        </p:nvPicPr>
        <p:blipFill>
          <a:blip r:embed="rId1"/>
          <a:stretch/>
        </p:blipFill>
        <p:spPr>
          <a:xfrm>
            <a:off x="1219320" y="7920"/>
            <a:ext cx="6933960" cy="6891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0"/>
          <p:cNvSpPr/>
          <p:nvPr/>
        </p:nvSpPr>
        <p:spPr>
          <a:xfrm>
            <a:off x="1295280" y="0"/>
            <a:ext cx="678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Porque están hechas para los largos recorridos (y no se pueden Morir antes, tienen demasiadas cosas que hace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m_005"/>
          <p:cNvPicPr/>
          <p:nvPr/>
        </p:nvPicPr>
        <p:blipFill>
          <a:blip r:embed="rId1"/>
          <a:stretch/>
        </p:blipFill>
        <p:spPr>
          <a:xfrm>
            <a:off x="2000160" y="0"/>
            <a:ext cx="50338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0"/>
          <p:cNvSpPr/>
          <p:nvPr/>
        </p:nvSpPr>
        <p:spPr>
          <a:xfrm>
            <a:off x="1143000" y="533520"/>
            <a:ext cx="7162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Manda este e-mail a diez mujeres fenomenales y que has llegado a apreciar, ellas lo apreciarán, y a algunos hombres que tengan la inteligencia de  poder apreciarl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m_050"/>
          <p:cNvPicPr/>
          <p:nvPr/>
        </p:nvPicPr>
        <p:blipFill>
          <a:blip r:embed="rId1"/>
          <a:stretch/>
        </p:blipFill>
        <p:spPr>
          <a:xfrm>
            <a:off x="1252440" y="0"/>
            <a:ext cx="6680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24"/>
          <p:cNvSpPr/>
          <p:nvPr/>
        </p:nvSpPr>
        <p:spPr>
          <a:xfrm>
            <a:off x="2041560" y="1981080"/>
            <a:ext cx="550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Fue a la cocina  a preparar los bocadillos para el día siguiente.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madoz214"/>
          <p:cNvPicPr/>
          <p:nvPr/>
        </p:nvPicPr>
        <p:blipFill>
          <a:blip r:embed="rId1"/>
          <a:stretch/>
        </p:blipFill>
        <p:spPr>
          <a:xfrm>
            <a:off x="1219320" y="0"/>
            <a:ext cx="7010280" cy="6889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0"/>
          <p:cNvSpPr/>
          <p:nvPr/>
        </p:nvSpPr>
        <p:spPr>
          <a:xfrm>
            <a:off x="2180520" y="990720"/>
            <a:ext cx="4868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Después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¡¡¡VETE A LA CAMA!!!</a:t>
            </a:r>
            <a:r>
              <a:rPr b="1" lang="es-E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madoz214"/>
          <p:cNvPicPr/>
          <p:nvPr/>
        </p:nvPicPr>
        <p:blipFill>
          <a:blip r:embed="rId1"/>
          <a:stretch/>
        </p:blipFill>
        <p:spPr>
          <a:xfrm>
            <a:off x="1219320" y="0"/>
            <a:ext cx="7010280" cy="68896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048680" y="990720"/>
            <a:ext cx="77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DOY GRACIAS A DIOS POR TENER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392120" y="1600200"/>
            <a:ext cx="17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M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381680" y="2971800"/>
            <a:ext cx="13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H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381680" y="251460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ESP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367280" y="205740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AB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400400" y="3429000"/>
            <a:ext cx="262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HERM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419840" y="3886200"/>
            <a:ext cx="37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BUENAS AMI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646640" y="4724280"/>
            <a:ext cx="54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‘’</a:t>
            </a: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MUJERES GRANDIOSAS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1585800" y="5257800"/>
            <a:ext cx="66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Y SI NO LAS TIENES DA GRACIAS A DIOS DE QUE YA LAS TIENE CON E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m_084"/>
          <p:cNvPicPr/>
          <p:nvPr/>
        </p:nvPicPr>
        <p:blipFill>
          <a:blip r:embed="rId1"/>
          <a:stretch/>
        </p:blipFill>
        <p:spPr>
          <a:xfrm>
            <a:off x="0" y="0"/>
            <a:ext cx="9144000" cy="65754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0"/>
          <p:cNvSpPr/>
          <p:nvPr/>
        </p:nvSpPr>
        <p:spPr>
          <a:xfrm>
            <a:off x="1143000" y="114300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Puso en remojo los recipientes  de las palomitas, sacó la carne del congelador para </a:t>
            </a: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la cena del día siguiente</a:t>
            </a:r>
            <a:r>
              <a:rPr b="1" lang="es-ES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m_117"/>
          <p:cNvPicPr/>
          <p:nvPr/>
        </p:nvPicPr>
        <p:blipFill>
          <a:blip r:embed="rId1"/>
          <a:stretch/>
        </p:blipFill>
        <p:spPr>
          <a:xfrm>
            <a:off x="228600" y="74520"/>
            <a:ext cx="8686800" cy="6775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0"/>
          <p:cNvSpPr/>
          <p:nvPr/>
        </p:nvSpPr>
        <p:spPr>
          <a:xfrm>
            <a:off x="762120" y="36576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controló si quedaban bastantes cereales, llenó el azucarero, puso las cucharitas y los platos del desayuno en la mesa y 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dejó preparada la cafetera.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lluvia_2_2001"/>
          <p:cNvPicPr/>
          <p:nvPr/>
        </p:nvPicPr>
        <p:blipFill>
          <a:blip r:embed="rId1"/>
          <a:stretch/>
        </p:blipFill>
        <p:spPr>
          <a:xfrm>
            <a:off x="990720" y="54000"/>
            <a:ext cx="7010280" cy="67467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0"/>
          <p:cNvSpPr/>
          <p:nvPr/>
        </p:nvSpPr>
        <p:spPr>
          <a:xfrm>
            <a:off x="1600200" y="3581280"/>
            <a:ext cx="5867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Puso la ropa húmeda en la secadora, la ropa sucia en la lavadora, planchó una camisa y  cosió un botón, recogió los juguetes, puso a cargar el teléfono y guardó la guía telefónica.</a:t>
            </a:r>
            <a:r>
              <a:rPr b="1" lang="es-ES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m_037"/>
          <p:cNvPicPr/>
          <p:nvPr/>
        </p:nvPicPr>
        <p:blipFill>
          <a:blip r:embed="rId1"/>
          <a:stretch/>
        </p:blipFill>
        <p:spPr>
          <a:xfrm>
            <a:off x="2043000" y="0"/>
            <a:ext cx="4992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0"/>
          <p:cNvSpPr/>
          <p:nvPr/>
        </p:nvSpPr>
        <p:spPr>
          <a:xfrm>
            <a:off x="2514600" y="487692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Regó las plantas, ató la bolsa de basura y tendió una toalla.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m_llave6"/>
          <p:cNvPicPr/>
          <p:nvPr/>
        </p:nvPicPr>
        <p:blipFill>
          <a:blip r:embed="rId1"/>
          <a:stretch/>
        </p:blipFill>
        <p:spPr>
          <a:xfrm>
            <a:off x="1925640" y="0"/>
            <a:ext cx="47689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0"/>
          <p:cNvSpPr/>
          <p:nvPr/>
        </p:nvSpPr>
        <p:spPr>
          <a:xfrm>
            <a:off x="4724280" y="3809880"/>
            <a:ext cx="403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Bostezó, se desperezó y se fue al dormitorio.</a:t>
            </a:r>
            <a:r>
              <a:rPr b="1" lang="es-ES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m_103"/>
          <p:cNvPicPr/>
          <p:nvPr/>
        </p:nvPicPr>
        <p:blipFill>
          <a:blip r:embed="rId1"/>
          <a:stretch/>
        </p:blipFill>
        <p:spPr>
          <a:xfrm>
            <a:off x="1743120" y="0"/>
            <a:ext cx="51991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0"/>
          <p:cNvSpPr/>
          <p:nvPr/>
        </p:nvSpPr>
        <p:spPr>
          <a:xfrm>
            <a:off x="762120" y="487692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Se paró un momento para  escribir una nota a la maestra, contó el dinero para la excursión y cogió un libro que estaba debajo de la </a:t>
            </a: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silla.</a:t>
            </a:r>
            <a:r>
              <a:rPr b="1" lang="es-ES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m_106"/>
          <p:cNvPicPr/>
          <p:nvPr/>
        </p:nvPicPr>
        <p:blipFill>
          <a:blip r:embed="rId1"/>
          <a:stretch/>
        </p:blipFill>
        <p:spPr>
          <a:xfrm>
            <a:off x="1219320" y="0"/>
            <a:ext cx="66387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0"/>
          <p:cNvSpPr/>
          <p:nvPr/>
        </p:nvSpPr>
        <p:spPr>
          <a:xfrm>
            <a:off x="1295280" y="0"/>
            <a:ext cx="65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Firmó una felicitación para un amigo y  escribió la dirección en el sobre, escribió una nota para el charcutero y colocó todo junto a su bolso.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14:25:14Z</dcterms:created>
  <dc:creator>Rodrigo</dc:creator>
  <dc:description/>
  <dc:language>en-US</dc:language>
  <cp:lastModifiedBy>Sonia Alexandra león Ospina</cp:lastModifiedBy>
  <dcterms:modified xsi:type="dcterms:W3CDTF">2007-03-08T13:29:09Z</dcterms:modified>
  <cp:revision>23</cp:revision>
  <dc:subject/>
  <dc:title>Chema Madoz   www.chemamadoz.com</dc:title>
</cp:coreProperties>
</file>