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laudatePueri%2003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18E-DD22-4B3D-8168-4F57FB93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F97-DA26-47C5-8698-EADAA385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C66-C321-48CA-BB34-F9D522D5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51D-F990-408F-93DC-F15EA511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899-83D8-4D5E-8EF0-EE69C174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885-46FB-4455-BF73-FAB56864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709-4174-4C42-B35C-66E5A3B7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1BA-84D6-4834-B46E-14A7DD1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076-CF7D-44B5-A43C-A196FC4A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97E-7977-4BF2-B5DC-2F18B611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72C-D767-445A-B29E-94DE201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984-E715-4D1D-8494-F58A54C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8022-1146-4E55-8FBC-F3D455047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laudatePueri%2003w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3141720"/>
            <a:ext cx="4392720" cy="266940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Laudate pueri” (4’53)</a:t>
            </a: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de Mendelssohn, evoca la grandeza de los gestos insignificantes</a:t>
            </a: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colanía de Montserrat</a:t>
            </a: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37168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4240" y="170028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32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  <p:sndAc>
      <p:stSnd>
        <p:snd r:embed="rId6" name="laudatePueri%2003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04920"/>
            <a:ext cx="8229600" cy="496980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acercó una viuda pobre y echó dos reales.</a:t>
            </a: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919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867280" y="1989000"/>
            <a:ext cx="28450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Sois más avaros que ell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24360" y="4437000"/>
            <a:ext cx="313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buela cuidando a una niña con sida del Perú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89000"/>
            <a:ext cx="64800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os reales dados con amor son el mejor tes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457200"/>
            <a:ext cx="8001000" cy="50317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lamando a los discípulos, les dijo: "Os aseguro que esa pobre viuda ha echado en el arca de las ofrendas más que nadi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916280"/>
            <a:ext cx="33861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pequeños servicios diarios os engrandec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27640" y="1179360"/>
            <a:ext cx="4295520" cy="556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260280"/>
            <a:ext cx="5832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paséis por alto las ayudas insignific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457200"/>
            <a:ext cx="7775280" cy="5123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que los demás han echado de lo que les sobra, pero ésta, que pasa necesidad, ha echado todo lo que tenía para vivir."</a:t>
            </a: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360" y="115920"/>
            <a:ext cx="8748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 que a vosotros os sobra, es lo que otros necesitan para viv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617840"/>
            <a:ext cx="7308720" cy="497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40360" y="4138560"/>
            <a:ext cx="2916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abéis entendido la doctrina de Jesú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907920"/>
            <a:ext cx="626436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 ayúdanos a valorar nuestros actos a la luz del evangelio, y a darnos cuenta de la importancia que tienen los gestos insignifican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404640"/>
            <a:ext cx="7705800" cy="119124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tapa final de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Jesús en Jerusal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700280"/>
            <a:ext cx="7777080" cy="466452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a-E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clusión a su doctrina:</a:t>
            </a: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el valor depende</a:t>
            </a:r>
            <a:br>
              <a:rPr sz="5000"/>
            </a:b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 del corazón de cada uno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6021360"/>
            <a:ext cx="683928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 medio la explanada d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124000" y="0"/>
            <a:ext cx="13950720" cy="68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904000"/>
            <a:ext cx="619128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bajo, muros del antiguo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404640"/>
            <a:ext cx="543528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ugar del evangelio de ho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25 0.00116 L -0.33768 0.00116 E">
                                      <p:cBhvr>
                                        <p:cTn id="43" dur="1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353440" cy="56556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12, 38-44 En aquel tiempo, entre lo que enseñaba Jesús a la gente, dijo: "¡Cuidado con los escribas! Les encanta pasearse con amplio ropaje y que les hagan reverencias en la plaza, buscan los asientos de honor en las sinagogas y los primeros puestos en los banquetes;</a:t>
            </a: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8136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33360"/>
            <a:ext cx="2305080" cy="41486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No os fiéis de los que ocupan los primeros puest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653000"/>
            <a:ext cx="475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más importantes son los que sir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380880"/>
            <a:ext cx="7848360" cy="54702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devoran los bienes de las viudas, con pretexto de largos rezos. Éstos recibirán una sentencia más rigurosa."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7308720" cy="548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89000"/>
            <a:ext cx="8569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i devoráis los bienes de los demás vuestra plegaria será vac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1773360"/>
            <a:ext cx="3059280" cy="29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plegaria y la limosna van unidas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Mt 6,1s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7993080" cy="60688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ando Jesús sentado enfrente del arca de las ofrendas, observaba a la gente que iba echando dinero: muchos ricos echaban en cantidad;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-20016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5373720"/>
            <a:ext cx="648180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Es hipocresía ayudar a los que antes habéis arruin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0"/>
            <a:ext cx="644508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grandeza no viene de ser los primeros en el ranking de inver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1-04T20:21:56Z</dcterms:modified>
  <cp:revision>267</cp:revision>
  <dc:subject/>
  <dc:title>evangeli</dc:title>
</cp:coreProperties>
</file>