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laudatePueri%2003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F36-4783-4322-8720-FC56D124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065-2831-4048-9941-D8154D93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D33-2B07-4FD2-8F92-E4D64A88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C34-E53A-4B69-8AB2-DA58CF14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24-D900-432A-8900-2C99A10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8FB-19DA-453D-83F8-BA8F3F2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D2B-21C2-4113-B080-0418127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741-FB1B-41F5-BEEA-78A4057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8FA-3616-4F54-94A5-A1AD04C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BE2-8E6A-4CCD-8F71-9DF1241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10E-04F2-419C-BBA5-029335B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1EE-5121-423E-AE2A-A288E5B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FD2-1BB8-4CD2-A419-AB7AFDDB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laudatePueri%2003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3141720"/>
            <a:ext cx="4392720" cy="266940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audate pueri” (4’53)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e Mendelssohn, evoca la grandeza de los gestos insignificantes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colanía de Montserrat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2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laudatePueri%2003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04920"/>
            <a:ext cx="822960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acercó una viuda pobre y echó dos reales.</a:t>
            </a: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19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867280" y="1989000"/>
            <a:ext cx="2845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Sois más avaros que ell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4437000"/>
            <a:ext cx="313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buela cuidando a una niña con sida del Perú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89000"/>
            <a:ext cx="6480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os reales dados con amor son el mejor tes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457200"/>
            <a:ext cx="8001000" cy="50317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amando a los discípulos, les dijo: "Os aseguro que esa pobre viuda ha echado en el arca de las ofrendas más que nadi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916280"/>
            <a:ext cx="33861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pequeños servicios diarios os engrandec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1179360"/>
            <a:ext cx="4295520" cy="556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26028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paséis por alto las ayudas insignific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457200"/>
            <a:ext cx="7775280" cy="5123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los demás han echado de lo que les sobra, pero ésta, que pasa necesidad, ha echado todo lo que tenía para vivir."</a:t>
            </a: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360" y="115920"/>
            <a:ext cx="8748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 que a vosotros os sobra, es lo que otros necesitan para vi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617840"/>
            <a:ext cx="7308720" cy="497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40360" y="4138560"/>
            <a:ext cx="2916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abéis entendido la doctrina de Jesú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907920"/>
            <a:ext cx="6264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 ayúdanos a valorar nuestros actos a la luz del evangelio, y a darnos cuenta de la importancia que tienen los gestos insignifica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404640"/>
            <a:ext cx="7705800" cy="119124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tapa final d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sús en Jerusal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700280"/>
            <a:ext cx="7777080" cy="466452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a-E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clusión a su doctrina:</a:t>
            </a: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l valor depende</a:t>
            </a: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del corazón de cada uno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6021360"/>
            <a:ext cx="683928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medio la explanada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124000" y="0"/>
            <a:ext cx="13950720" cy="68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904000"/>
            <a:ext cx="619128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bajo, muros del antiguo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04640"/>
            <a:ext cx="543528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el evangelio de ho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25 0.00116 L -0.33768 0.00116 E">
                                      <p:cBhvr>
                                        <p:cTn id="43" dur="1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353440" cy="5655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2, 38-44 En aquel tiempo, entre lo que enseñaba Jesús a la gente, dijo: "¡Cuidado con los escribas! Les encanta pasearse con amplio ropaje y que les hagan reverencias en la plaza, buscan los asientos de honor en las sinagogas y los primeros puestos en los banquetes;</a:t>
            </a: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8136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33360"/>
            <a:ext cx="2305080" cy="41486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o os fiéis de los que ocupan los primeros puest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653000"/>
            <a:ext cx="475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más importantes son los que sir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380880"/>
            <a:ext cx="7848360" cy="54702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devoran los bienes de las viudas, con pretexto de largos rezos. Éstos recibirán una sentencia más rigurosa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308720" cy="548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89000"/>
            <a:ext cx="8569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i devoráis los bienes de los demás vuestra plegaria será vac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773360"/>
            <a:ext cx="305928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plegaria y la limosna van unidas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Mt 6,1s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7993080" cy="60688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ndo Jesús sentado enfrente del arca de las ofrendas, observaba a la gente que iba echando dinero: muchos ricos echaban en cantidad;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20016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5373720"/>
            <a:ext cx="64818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hipocresía ayudar a los que antes habéis arruin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0"/>
            <a:ext cx="644508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grandeza no viene de ser los primeros en el ranking de inver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04T20:21:56Z</dcterms:modified>
  <cp:revision>267</cp:revision>
  <dc:subject/>
  <dc:title>evangeli</dc:title>
</cp:coreProperties>
</file>