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13C-9343-40E2-9B2A-C46E0534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23E-282F-4C63-8E44-ED8CB23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6E1-EE58-40B8-BC00-5875E510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7C1-65A1-431C-AB3B-A50882F2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4F9-EEEB-469D-9911-AEEB408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2FA-E235-445C-98C3-3B66BA60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034-001E-4D48-8B09-CEE6185A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BC3-153B-4F4E-ACE7-E121E19C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796-76C4-4E14-898C-6D1F4B41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2F7-F639-403E-A1FD-A3B17265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922-8D28-4BF3-97CD-80359DEB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3D8-8635-4352-9388-37F13C21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017C-7F68-4DFC-B57C-3234229D8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68360" y="762120"/>
            <a:ext cx="6037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fffff"/>
                </a:solidFill>
                <a:latin typeface="Times New Roman"/>
              </a:rPr>
              <a:t>Luisito vio pasar el coche de su papá cerca del parque y dirigirse hacia el bosq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fffff"/>
                </a:solidFill>
                <a:latin typeface="Times New Roman"/>
              </a:rPr>
              <a:t>Curioso, siguió al auto y vió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fffff"/>
                </a:solidFill>
                <a:latin typeface="Times New Roman"/>
              </a:rPr>
              <a:t>a papá y a la tía María desnudos y un poco « acaramelados »</a:t>
            </a: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304920" y="2674800"/>
            <a:ext cx="3154320" cy="418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9480" y="5335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45400" y="1670040"/>
            <a:ext cx="154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309600"/>
            <a:ext cx="8534520" cy="623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958680"/>
            <a:ext cx="723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        </a:t>
            </a: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Extrañado corrió a casa a </a:t>
            </a: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	</a:t>
            </a: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contárselo a su mamá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" MAMÁ, MAMÁ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bffff"/>
                </a:solidFill>
                <a:latin typeface="Times New Roman"/>
              </a:rPr>
              <a:t>ESTABA EN EL PARQUE Y PAPÁ Y 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925560" cy="81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315200" y="762120"/>
            <a:ext cx="9255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309600"/>
            <a:ext cx="8763120" cy="623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95280" y="1295280"/>
            <a:ext cx="5410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d9ffff"/>
                </a:solidFill>
                <a:latin typeface="Times New Roman"/>
              </a:rPr>
              <a:t>Su madre le pide que se tranquilice y empiece desde el principio ya que no entendía n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d9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d9ffff"/>
                </a:solidFill>
                <a:latin typeface="Times New Roman"/>
              </a:rPr>
              <a:t>Luisito volvió a empezar 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d9ffff"/>
                </a:solidFill>
                <a:latin typeface="Times New Roman"/>
              </a:rPr>
              <a:t>«Estaba en el parque y vi  el coche de papá ir hacia el bosque con la tía Marí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2103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09600"/>
            <a:ext cx="8534160" cy="623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2565360"/>
            <a:ext cx="747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efffff"/>
                </a:solidFill>
                <a:latin typeface="Times New Roman"/>
              </a:rPr>
              <a:t>«Ví a papá darle un gran beso  a la tía María, después le ayudó a quitarse su jersey, más tarde la tía María es quien ayudó a papá a quitarse el pantalón, y después la tía se tumbó en el asiento, y después papá… 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1611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6548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89280" y="762120"/>
            <a:ext cx="51973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efffff"/>
                </a:solidFill>
                <a:latin typeface="Times New Roman"/>
              </a:rPr>
              <a:t>En este momento, su madre le corta y le dic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efffff"/>
                </a:solidFill>
                <a:latin typeface="Times New Roman"/>
              </a:rPr>
              <a:t>« Luisito, tu historia es tan divertida que la deberías guardar hasta la c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efffff"/>
                </a:solidFill>
                <a:latin typeface="Times New Roman"/>
              </a:rPr>
              <a:t>Me gustaría ver la cara de papá cuando nos la cuentes a los dos. !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e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1219320"/>
            <a:ext cx="63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efffff"/>
                </a:solidFill>
                <a:latin typeface="Times New Roman"/>
              </a:rPr>
              <a:t>A la noche, en la cena, alrededor de la mesa, Mama le pide a Luisito que cuente su historia</a:t>
            </a:r>
            <a:r>
              <a:rPr b="1" lang="fr-CA" sz="4400" spc="-1" strike="noStrike">
                <a:solidFill>
                  <a:srgbClr val="efffff"/>
                </a:solidFill>
                <a:latin typeface="Times New Roman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309600"/>
            <a:ext cx="8305920" cy="623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36640" y="1263600"/>
            <a:ext cx="549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efffff"/>
                </a:solidFill>
                <a:latin typeface="Times New Roman"/>
              </a:rPr>
              <a:t>Luisito cuenta entonces su historia describiendo la llegada del coche al bosque, papá, el desnudo, la tía María tendida en el asiento, y después dice</a:t>
            </a:r>
            <a:r>
              <a:rPr b="0" lang="fr-CA" sz="3600" spc="-1" strike="noStrike">
                <a:solidFill>
                  <a:srgbClr val="efffff"/>
                </a:solidFill>
                <a:latin typeface="Times New Roman"/>
              </a:rPr>
              <a:t> :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309600"/>
            <a:ext cx="8305920" cy="6238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1492200"/>
            <a:ext cx="624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efffff"/>
                </a:solidFill>
                <a:latin typeface="Times New Roman"/>
              </a:rPr>
              <a:t>« … papá y la tía Marí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efffff"/>
                </a:solidFill>
                <a:latin typeface="Times New Roman"/>
              </a:rPr>
              <a:t>desnudos, hicieron lo mismo que mamá y el tío Carlos … cuando papá se va de viaje de trabajo … »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58200" cy="623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1292400"/>
            <a:ext cx="65214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0" spc="-1" strike="noStrike">
                <a:solidFill>
                  <a:srgbClr val="efffff"/>
                </a:solidFill>
                <a:latin typeface="Times New Roman"/>
              </a:rPr>
              <a:t>        </a:t>
            </a:r>
            <a:r>
              <a:rPr b="1" lang="es-CO" sz="6000" spc="-1" strike="noStrike">
                <a:solidFill>
                  <a:srgbClr val="efffff"/>
                </a:solidFill>
                <a:latin typeface="Times New Roman"/>
              </a:rPr>
              <a:t>Moraleja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efffff"/>
                </a:solidFill>
                <a:latin typeface="Times New Roman"/>
              </a:rPr>
              <a:t> </a:t>
            </a:r>
            <a:r>
              <a:rPr b="1" lang="es-CO" sz="4400" spc="-1" strike="noStrike">
                <a:solidFill>
                  <a:srgbClr val="efffff"/>
                </a:solidFill>
                <a:latin typeface="Times New Roman"/>
              </a:rPr>
              <a:t>debes escuchar hasta el final cuando alguien te 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16000" y="836640"/>
            <a:ext cx="15318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3:33:40Z</dcterms:created>
  <dc:creator/>
  <dc:description/>
  <dc:language>en-US</dc:language>
  <cp:lastModifiedBy>José Briz Manzanares</cp:lastModifiedBy>
  <dcterms:modified xsi:type="dcterms:W3CDTF">2007-09-13T10:44:00Z</dcterms:modified>
  <cp:revision>8</cp:revision>
  <dc:subject>Délicieux enfant</dc:subject>
  <dc:title>Diapositive 1</dc:title>
</cp:coreProperties>
</file>