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779B-4AD9-4EB5-BB4F-180EFEE23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3C80-C159-44F9-AC9F-3E605E9E3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9DB9-F6CF-4DA9-B401-7EEFC0137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B9DD-6305-4256-A09D-8FC912AB1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0CB4-61E0-4BE9-BADE-AB211FF3F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2835-2D94-4B4A-9EB3-32F6B19E5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4012-09F5-44CB-AFE0-3DEE86BCC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0938-0C13-49CF-ABE0-09CAB066B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9B1B-B78A-43D2-967F-5CC25C31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DE09-781D-4892-81E2-23E98D85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B4AC-933E-4B58-8007-E6E58A05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6DC8-30ED-4BA5-B5B5-19896BD7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E18F1-E1B5-4F05-9857-12ADAB0460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8305920" cy="6553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68360" y="762120"/>
            <a:ext cx="60375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efffff"/>
                </a:solidFill>
                <a:latin typeface="Times New Roman"/>
              </a:rPr>
              <a:t>Luisito vio pasar el coche de su papá cerca del parque y dirigirse hacia el bosqu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efffff"/>
                </a:solidFill>
                <a:latin typeface="Times New Roman"/>
              </a:rPr>
              <a:t>Curioso, siguió al auto y vió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efffff"/>
                </a:solidFill>
                <a:latin typeface="Times New Roman"/>
              </a:rPr>
              <a:t>a papá y a la tía María desnudos y un poco « acaramelados »</a:t>
            </a: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-304920" y="2674800"/>
            <a:ext cx="3154320" cy="4183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609480" y="5335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6845400" y="1670040"/>
            <a:ext cx="154296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09480" y="309600"/>
            <a:ext cx="8534520" cy="6238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219320" y="958680"/>
            <a:ext cx="7235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ebffff"/>
                </a:solidFill>
                <a:latin typeface="Times New Roman"/>
              </a:rPr>
              <a:t>        </a:t>
            </a:r>
            <a:r>
              <a:rPr b="0" lang="es-CO" sz="3600" spc="-1" strike="noStrike">
                <a:solidFill>
                  <a:srgbClr val="ebffff"/>
                </a:solidFill>
                <a:latin typeface="Times New Roman"/>
              </a:rPr>
              <a:t>Extrañado corrió a casa a </a:t>
            </a:r>
            <a:r>
              <a:rPr b="0" lang="es-CO" sz="3600" spc="-1" strike="noStrike">
                <a:solidFill>
                  <a:srgbClr val="ebffff"/>
                </a:solidFill>
                <a:latin typeface="Times New Roman"/>
              </a:rPr>
              <a:t>	</a:t>
            </a:r>
            <a:r>
              <a:rPr b="0" lang="es-CO" sz="3600" spc="-1" strike="noStrike">
                <a:solidFill>
                  <a:srgbClr val="ebffff"/>
                </a:solidFill>
                <a:latin typeface="Times New Roman"/>
              </a:rPr>
              <a:t>contárselo a su mamá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ebffff"/>
                </a:solidFill>
                <a:latin typeface="Times New Roman"/>
              </a:rPr>
              <a:t>" MAMÁ, MAMÁ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ebffff"/>
                </a:solidFill>
                <a:latin typeface="Times New Roman"/>
              </a:rPr>
              <a:t>ESTABA EN EL PARQUE Y PAPÁ Y ..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914400" y="685800"/>
            <a:ext cx="925560" cy="811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7315200" y="762120"/>
            <a:ext cx="925560" cy="8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80880" y="309600"/>
            <a:ext cx="8763120" cy="6238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295280" y="1295280"/>
            <a:ext cx="5410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d9ffff"/>
                </a:solidFill>
                <a:latin typeface="Times New Roman"/>
              </a:rPr>
              <a:t>Su madre le pide que se tranquilice y empiece desde el principio ya que no entendía na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d9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d9ffff"/>
                </a:solidFill>
                <a:latin typeface="Times New Roman"/>
              </a:rPr>
              <a:t>Luisito volvió a empezar 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d9ffff"/>
                </a:solidFill>
                <a:latin typeface="Times New Roman"/>
              </a:rPr>
              <a:t>«Estaba en el parque y vi  el coche de papá ir hacia el bosque con la tía Marí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715000" y="2286000"/>
            <a:ext cx="21034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309600"/>
            <a:ext cx="8534160" cy="6238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55640" y="2565360"/>
            <a:ext cx="7475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efffff"/>
                </a:solidFill>
                <a:latin typeface="Times New Roman"/>
              </a:rPr>
              <a:t>«Ví a papá darle un gran beso  a la tía María, después le ayudó a quitarse su jersey, más tarde la tía María es quien ayudó a papá a quitarse el pantalón, y después la tía se tumbó en el asiento, y después papá… "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6516720" y="260280"/>
            <a:ext cx="161136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80880" y="0"/>
            <a:ext cx="8382240" cy="65484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889280" y="762120"/>
            <a:ext cx="519732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efffff"/>
                </a:solidFill>
                <a:latin typeface="Times New Roman"/>
              </a:rPr>
              <a:t>En este momento, su madre le corta y le dice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e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efffff"/>
                </a:solidFill>
                <a:latin typeface="Times New Roman"/>
              </a:rPr>
              <a:t>« Luisito, tu historia es tan divertida que la deberías guardar hasta la ce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efffff"/>
                </a:solidFill>
                <a:latin typeface="Times New Roman"/>
              </a:rPr>
              <a:t>Me gustaría ver la cara de papá cuando nos la cuentes a los dos. ! 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e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57200" y="309600"/>
            <a:ext cx="8229600" cy="6238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258920" y="1219320"/>
            <a:ext cx="63374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400" spc="-1" strike="noStrike">
                <a:solidFill>
                  <a:srgbClr val="efffff"/>
                </a:solidFill>
                <a:latin typeface="Times New Roman"/>
              </a:rPr>
              <a:t>A la noche, en la cena, alrededor de la mesa, Mama le pide a Luisito que cuente su historia</a:t>
            </a:r>
            <a:r>
              <a:rPr b="1" lang="fr-CA" sz="4400" spc="-1" strike="noStrike">
                <a:solidFill>
                  <a:srgbClr val="efffff"/>
                </a:solidFill>
                <a:latin typeface="Times New Roman"/>
              </a:rPr>
              <a:t>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80880" y="309600"/>
            <a:ext cx="8305920" cy="6238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736640" y="1263600"/>
            <a:ext cx="5499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efffff"/>
                </a:solidFill>
                <a:latin typeface="Times New Roman"/>
              </a:rPr>
              <a:t>Luisito cuenta entonces su historia describiendo la llegada del coche al bosque, papá, el desnudo, la tía María tendida en el asiento, y después dice</a:t>
            </a:r>
            <a:r>
              <a:rPr b="0" lang="fr-CA" sz="3600" spc="-1" strike="noStrike">
                <a:solidFill>
                  <a:srgbClr val="efffff"/>
                </a:solidFill>
                <a:latin typeface="Times New Roman"/>
              </a:rPr>
              <a:t> :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57200" y="309600"/>
            <a:ext cx="8305920" cy="62388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295280" y="1492200"/>
            <a:ext cx="6248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efffff"/>
                </a:solidFill>
                <a:latin typeface="Times New Roman"/>
              </a:rPr>
              <a:t>« … papá y la tía María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efffff"/>
                </a:solidFill>
                <a:latin typeface="Times New Roman"/>
              </a:rPr>
              <a:t>desnudos, hicieron lo mismo que mamá y el tío Carlos … cuando papá se va de viaje de trabajo … » 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8458200" cy="62388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219320" y="1292400"/>
            <a:ext cx="652140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6000" spc="-1" strike="noStrike">
                <a:solidFill>
                  <a:srgbClr val="efffff"/>
                </a:solidFill>
                <a:latin typeface="Times New Roman"/>
              </a:rPr>
              <a:t>        </a:t>
            </a:r>
            <a:r>
              <a:rPr b="1" lang="es-CO" sz="6000" spc="-1" strike="noStrike">
                <a:solidFill>
                  <a:srgbClr val="efffff"/>
                </a:solidFill>
                <a:latin typeface="Times New Roman"/>
              </a:rPr>
              <a:t>Moraleja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efffff"/>
                </a:solidFill>
                <a:latin typeface="Times New Roman"/>
              </a:rPr>
              <a:t> </a:t>
            </a:r>
            <a:r>
              <a:rPr b="1" lang="es-CO" sz="4400" spc="-1" strike="noStrike">
                <a:solidFill>
                  <a:srgbClr val="efffff"/>
                </a:solidFill>
                <a:latin typeface="Times New Roman"/>
              </a:rPr>
              <a:t>debes escuchar hasta el final cuando alguien te hab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116000" y="836640"/>
            <a:ext cx="153180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1T23:33:40Z</dcterms:created>
  <dc:creator/>
  <dc:description/>
  <dc:language>en-US</dc:language>
  <cp:lastModifiedBy>José Briz Manzanares</cp:lastModifiedBy>
  <dcterms:modified xsi:type="dcterms:W3CDTF">2007-09-13T10:44:00Z</dcterms:modified>
  <cp:revision>8</cp:revision>
  <dc:subject>Délicieux enfant</dc:subject>
  <dc:title>Diapositive 1</dc:title>
</cp:coreProperties>
</file>