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1207-7551-4B58-A896-373CE6104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62F9-8E68-4574-B446-82A623E434E4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042A-9C35-4EEA-A8FB-F82D7D3B90D9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8597-6D75-43EA-9FEE-1B5E7677390E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C8AB-1257-497C-A09B-C96396A7BD58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54A4-3497-4155-A6C8-D3B14699D7B3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C821-4D22-4B32-9B1B-EEE2EF3F5E7B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FB1D-E310-4D69-9E91-F71B727E5567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C8B8-48CB-4532-89E2-D065727926B1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8ACD-4C26-4E26-95F4-BD68DAA22369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978-B7A9-40A2-9D7D-E053A3F300AA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180C-D34D-427D-8F40-596BF58BBEA6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C160-0189-40B3-8668-57D1B6CD122F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2529-2D37-45B2-8247-D910B98DF856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D53B-5460-4284-BFAE-557BC014F133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FA3-6DC6-4E66-A180-82057130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7D7-FA48-4EAB-A96C-FB0E3275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5F3-AE3E-4397-85A7-4328A17C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E29-5EBA-4C9A-B8E5-2916CDB8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F917-4A8A-4C27-B2C3-4C5DB1D0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C610-2F3C-41F1-B48E-6DDFE17F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6DC7-2633-4F63-9F42-446CD077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4E2D-A18D-4E0B-A4C3-416969B4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D2BA-1FEC-447E-AAEE-02D17302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CC1D-E082-4E63-8BBB-D41067C3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2D59-2CD8-4BA3-BA60-1154D1A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B21-C64B-4148-89A7-23B7FA89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8788-543E-49EA-AD6B-5F662D4D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76F1-9630-4CEA-BA3D-66D2A405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4C7E-EDC1-4C88-9C30-F8A84906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1812-12C4-494E-BE78-BCBE639A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55A7-FFFA-4FD3-91E2-EFEF841E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A09-0AAC-4BEB-810B-3C980337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A92-E8F9-4808-8CFE-87DAB57E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2A9-9B5E-4616-8237-E8414FF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D23-86AA-475E-B42D-5C530D51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B2C-022A-4C7A-8E83-2AFF20F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C33-C272-4609-9B03-28625F98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DEE-B9EA-4602-8EEC-77423FB6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F5B9-B059-4A11-97A2-41269A9E0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60E1-C3C7-4C18-8677-8090DAB2DD3A}" type="slidenum">
              <a:rPr b="0" lang="en-US" sz="14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197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c4ece"/>
                </a:solidFill>
                <a:latin typeface="comic"/>
              </a:rPr>
              <a:t>La bendición</a:t>
            </a:r>
            <a:endParaRPr b="1" lang="en-US" sz="88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94" name="Picture 5" descr="Image"/>
          <p:cNvPicPr/>
          <p:nvPr/>
        </p:nvPicPr>
        <p:blipFill>
          <a:blip r:embed="rId2"/>
          <a:stretch/>
        </p:blipFill>
        <p:spPr>
          <a:xfrm>
            <a:off x="2362320" y="2057400"/>
            <a:ext cx="440820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33520" y="1523880"/>
            <a:ext cx="2438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c4ece"/>
                </a:solidFill>
                <a:latin typeface="comic"/>
              </a:rPr>
              <a:t>del</a:t>
            </a:r>
            <a:endParaRPr b="0" lang="en-US" sz="8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438280" y="259092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800" spc="-1" strike="noStrike">
                <a:solidFill>
                  <a:srgbClr val="0c4ece"/>
                </a:solidFill>
                <a:latin typeface="comic"/>
              </a:rPr>
              <a:t>oso polar</a:t>
            </a:r>
            <a:endParaRPr b="0" lang="en-US" sz="8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1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hugs"/>
          <p:cNvPicPr/>
          <p:nvPr/>
        </p:nvPicPr>
        <p:blipFill>
          <a:blip r:embed="rId1"/>
          <a:stretch/>
        </p:blipFill>
        <p:spPr>
          <a:xfrm>
            <a:off x="457200" y="380880"/>
            <a:ext cx="8298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5335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Muchas bendiciones...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57200" y="1600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Que tengas amor para compartir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2590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salud de sobra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35971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y amigos que te quieran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47563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Y cuídate de esos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" y="5464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atrevidos pingüinos!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2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Pinguin"/>
          <p:cNvPicPr/>
          <p:nvPr/>
        </p:nvPicPr>
        <p:blipFill>
          <a:blip r:embed="rId1"/>
          <a:stretch/>
        </p:blipFill>
        <p:spPr>
          <a:xfrm>
            <a:off x="685800" y="1208160"/>
            <a:ext cx="77724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te haz sentido alguna vez con ganas</a:t>
            </a:r>
            <a:endParaRPr b="1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28" name="Picture 9" descr="Pinguin01"/>
          <p:cNvPicPr/>
          <p:nvPr/>
        </p:nvPicPr>
        <p:blipFill>
          <a:blip r:embed="rId1"/>
          <a:stretch/>
        </p:blipFill>
        <p:spPr>
          <a:xfrm>
            <a:off x="1295280" y="1676520"/>
            <a:ext cx="6591600" cy="480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304920" y="1066680"/>
            <a:ext cx="8534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de hacerle a alguien esto? 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380880" y="6858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0c4ece"/>
                </a:solidFill>
                <a:latin typeface="Georgia"/>
              </a:rPr>
              <a:t>Ahora mándale esto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04920" y="152388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0c4ece"/>
                </a:solidFill>
                <a:latin typeface="Georgia"/>
              </a:rPr>
              <a:t>a quien consideres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81952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0" spc="-1" strike="noStrike">
                <a:solidFill>
                  <a:srgbClr val="ff0000"/>
                </a:solidFill>
                <a:latin typeface="Georgia"/>
              </a:rPr>
              <a:t>“</a:t>
            </a:r>
            <a:r>
              <a:rPr b="0" i="1" lang="es-MX" sz="9000" spc="-1" strike="noStrike">
                <a:solidFill>
                  <a:srgbClr val="ff0000"/>
                </a:solidFill>
                <a:latin typeface="Georgia"/>
              </a:rPr>
              <a:t>Un@ amig@”</a:t>
            </a:r>
            <a:endParaRPr b="0" lang="en-US" sz="9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80880" y="45496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sin olvidar a la persona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80880" y="51595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272776"/>
                </a:solidFill>
                <a:latin typeface="Georgia"/>
              </a:rPr>
              <a:t>que te lo envió</a:t>
            </a:r>
            <a:endParaRPr b="0" lang="en-US" sz="4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45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685800" y="10414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272776"/>
                </a:solidFill>
                <a:latin typeface="Cooper Std Black"/>
              </a:rPr>
              <a:t>Deseándote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120" y="264168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272776"/>
                </a:solidFill>
                <a:latin typeface="Happy"/>
              </a:rPr>
              <a:t>en tu ocupada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5800" y="44704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272776"/>
                </a:solidFill>
                <a:latin typeface="Happy"/>
              </a:rPr>
              <a:t>vida,</a:t>
            </a:r>
            <a:r>
              <a:rPr b="0" lang="es-MX" sz="6000" spc="-1" strike="noStrike">
                <a:solidFill>
                  <a:srgbClr val="392524"/>
                </a:solidFill>
                <a:latin typeface="Happy"/>
              </a:rPr>
              <a:t> 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5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95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Tiempo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1" name="Picture 5" descr="Bear"/>
          <p:cNvPicPr/>
          <p:nvPr/>
        </p:nvPicPr>
        <p:blipFill>
          <a:blip r:embed="rId1"/>
          <a:stretch/>
        </p:blipFill>
        <p:spPr>
          <a:xfrm>
            <a:off x="4038480" y="533520"/>
            <a:ext cx="4496040" cy="5724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304920" y="304812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para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04920" y="396252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reflexionar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Buen  descanso 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5" name="Picture 4" descr="Sleep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Buena salud con ejercicio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7" name="Picture 4" descr="Exercice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6386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Pareja para bailar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09" name="Picture 4" descr="Dance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... Un poco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11" name="Picture 4" descr="Adventure"/>
          <p:cNvPicPr/>
          <p:nvPr/>
        </p:nvPicPr>
        <p:blipFill>
          <a:blip r:embed="rId1"/>
          <a:stretch/>
        </p:blipFill>
        <p:spPr>
          <a:xfrm>
            <a:off x="3886200" y="380880"/>
            <a:ext cx="4782960" cy="6070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457200" y="29718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de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57200" y="38098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aventura</a:t>
            </a:r>
            <a:endParaRPr b="0" lang="en-US" sz="4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327672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272776"/>
                </a:solidFill>
                <a:latin typeface="Georgia"/>
              </a:rPr>
              <a:t>Buena cara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115" name="Picture 4" descr="Good looks"/>
          <p:cNvPicPr/>
          <p:nvPr/>
        </p:nvPicPr>
        <p:blipFill>
          <a:blip r:embed="rId1"/>
          <a:stretch/>
        </p:blipFill>
        <p:spPr>
          <a:xfrm>
            <a:off x="457200" y="1106640"/>
            <a:ext cx="8305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272776"/>
                </a:solidFill>
                <a:latin typeface="Georgia"/>
              </a:rPr>
              <a:t>Pero mas que nada... </a:t>
            </a:r>
            <a:endParaRPr b="1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09480" y="2954160"/>
            <a:ext cx="7848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272776"/>
                </a:solidFill>
                <a:latin typeface="Georgia"/>
              </a:rPr>
              <a:t>Te deseo muchos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609480" y="4259160"/>
            <a:ext cx="78487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6000" spc="-1" strike="noStrike">
                <a:solidFill>
                  <a:srgbClr val="272776"/>
                </a:solidFill>
                <a:latin typeface="Georgia"/>
              </a:rPr>
              <a:t>“</a:t>
            </a:r>
            <a:r>
              <a:rPr b="0" i="1" lang="es-MX" sz="6000" spc="-1" strike="noStrike">
                <a:solidFill>
                  <a:srgbClr val="272776"/>
                </a:solidFill>
                <a:latin typeface="Georgia"/>
              </a:rPr>
              <a:t>abrazos de oso”</a:t>
            </a:r>
            <a:endParaRPr b="0" lang="en-US" sz="6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7:14:10Z</dcterms:created>
  <dc:creator>Office 2004 Test Drive User</dc:creator>
  <dc:description/>
  <dc:language>en-US</dc:language>
  <cp:lastModifiedBy>Usuario</cp:lastModifiedBy>
  <dcterms:modified xsi:type="dcterms:W3CDTF">2008-10-02T13:12:05Z</dcterms:modified>
  <cp:revision>15</cp:revision>
  <dc:subject/>
  <dc:title>The Polar Bear Blessing</dc:title>
</cp:coreProperties>
</file>