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EFCA-3C88-4E7F-A8A5-B84B365A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B4E-C104-406B-B786-A0E25591467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7F59-E273-469E-8A1C-5E472143544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2C6-EEAC-408F-ADA7-3EDE12CF0B9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88A0-F6C2-4B43-A6E1-071ADDB2307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8E2-9E27-4981-9DD5-B45EB3FA62AD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63B-9ADF-4C08-BEE1-3402867BF6B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690F-A772-47C2-8631-DB6ADB6560B1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B7F7-567B-4A1D-901D-AB66E3ED728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D94-6779-4514-BA63-35AEE3EF8EE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534-C441-423A-BA94-8F89C193D3AD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974-A9D3-404A-8751-34E314B9CA3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F76E-D9F3-4012-945C-F12BF82764A0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7627-0A08-4986-BB85-ED39FF281574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578-C811-468D-A7DA-781A36BD82E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9E6-5614-4F64-B557-372E99BB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113-D0E9-4C3C-9191-6784E67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2D1-115E-4ACE-86F8-B3DA2E13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E5A-B4FC-4412-AD00-8B057678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3624-87E0-49F2-8E34-82DAABD9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A453-BB26-453E-A665-9AD28B4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C64B-F92A-4D77-A49A-0A79CFF9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6CB-E548-44EA-9297-5ED4BA0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88D-AD16-4CA1-9EAD-C0A66790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F24-9711-4C32-97AF-8661C088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CD8-0D89-49D0-A2B1-45ED3EA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CC8-F51C-497F-B9D0-858698E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EEC-4D9F-424A-8D46-DC46B81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530-F17A-43BC-9D6D-B0A92EE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A917-B632-4DB7-A76B-B361BB69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A01-4297-4761-9AB8-198EC10F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64A-27D7-4422-946B-6FBD6409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676-0338-4EFE-82EB-69162A5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1D9-65E3-486F-8775-B507AF0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F5-A7D9-479B-A360-1F85F29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3FF-3D25-4689-BCFB-9E26531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D21-E177-49E5-A24B-AF46402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EFE-C1A8-47A5-AF41-2570D26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526-B527-4AB8-A95D-E4ADDA7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23D-43C3-47E9-9314-3174BBE25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FF0-4596-4CFF-BB90-CC33399C314B}" type="slidenum">
              <a:rPr b="0" lang="en-US" sz="14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La bendición</a:t>
            </a:r>
            <a:endParaRPr b="1" lang="en-US" sz="88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94" name="Picture 5" descr="Image"/>
          <p:cNvPicPr/>
          <p:nvPr/>
        </p:nvPicPr>
        <p:blipFill>
          <a:blip r:embed="rId2"/>
          <a:stretch/>
        </p:blipFill>
        <p:spPr>
          <a:xfrm>
            <a:off x="2362320" y="2057400"/>
            <a:ext cx="44082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3520" y="1523880"/>
            <a:ext cx="2438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del</a:t>
            </a:r>
            <a:endParaRPr b="0" lang="en-US" sz="8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438280" y="259092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oso polar</a:t>
            </a:r>
            <a:endParaRPr b="0" lang="en-US" sz="8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1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hugs"/>
          <p:cNvPicPr/>
          <p:nvPr/>
        </p:nvPicPr>
        <p:blipFill>
          <a:blip r:embed="rId1"/>
          <a:stretch/>
        </p:blipFill>
        <p:spPr>
          <a:xfrm>
            <a:off x="457200" y="380880"/>
            <a:ext cx="8298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35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Muchas bendiciones...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600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Que tengas amor para compartir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2590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salud de sobra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3597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y amigos que te quieran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47563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Y cuídate de eso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5464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atrevidos pingüinos!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Pinguin"/>
          <p:cNvPicPr/>
          <p:nvPr/>
        </p:nvPicPr>
        <p:blipFill>
          <a:blip r:embed="rId1"/>
          <a:stretch/>
        </p:blipFill>
        <p:spPr>
          <a:xfrm>
            <a:off x="685800" y="1208160"/>
            <a:ext cx="7772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te haz sentido alguna vez con ganas</a:t>
            </a:r>
            <a:endParaRPr b="1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28" name="Picture 9" descr="Pinguin01"/>
          <p:cNvPicPr/>
          <p:nvPr/>
        </p:nvPicPr>
        <p:blipFill>
          <a:blip r:embed="rId1"/>
          <a:stretch/>
        </p:blipFill>
        <p:spPr>
          <a:xfrm>
            <a:off x="1295280" y="1676520"/>
            <a:ext cx="6591600" cy="480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30492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de hacerle a alguien esto?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0880" y="685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0c4ece"/>
                </a:solidFill>
                <a:latin typeface="Georgia"/>
              </a:rPr>
              <a:t>Ahora mándale esto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04920" y="152388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0c4ece"/>
                </a:solidFill>
                <a:latin typeface="Georgia"/>
              </a:rPr>
              <a:t>a quien consideres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81952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0" spc="-1" strike="noStrike">
                <a:solidFill>
                  <a:srgbClr val="ff0000"/>
                </a:solidFill>
                <a:latin typeface="Georgia"/>
              </a:rPr>
              <a:t>“</a:t>
            </a:r>
            <a:r>
              <a:rPr b="0" i="1" lang="es-MX" sz="9000" spc="-1" strike="noStrike">
                <a:solidFill>
                  <a:srgbClr val="ff0000"/>
                </a:solidFill>
                <a:latin typeface="Georgia"/>
              </a:rPr>
              <a:t>Un@ amig@”</a:t>
            </a:r>
            <a:endParaRPr b="0" lang="en-US" sz="9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80880" y="45496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sin olvidar a la persona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880" y="5159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que te lo envió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45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10414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Cooper Std Black"/>
              </a:rPr>
              <a:t>Deseándote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120" y="264168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Happy"/>
              </a:rPr>
              <a:t>en tu ocupada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44704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Happy"/>
              </a:rPr>
              <a:t>vida,</a:t>
            </a:r>
            <a:r>
              <a:rPr b="0" lang="es-MX" sz="6000" spc="-1" strike="noStrike">
                <a:solidFill>
                  <a:srgbClr val="392524"/>
                </a:solidFill>
                <a:latin typeface="Happy"/>
              </a:rPr>
              <a:t> 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Tiempo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1" name="Picture 5" descr="Bear"/>
          <p:cNvPicPr/>
          <p:nvPr/>
        </p:nvPicPr>
        <p:blipFill>
          <a:blip r:embed="rId1"/>
          <a:stretch/>
        </p:blipFill>
        <p:spPr>
          <a:xfrm>
            <a:off x="4038480" y="533520"/>
            <a:ext cx="449604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304920" y="30481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para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04920" y="39625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reflexionar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  descanso 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5" name="Picture 4" descr="Sleep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a salud con ejercicio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7" name="Picture 4" descr="Exercice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Pareja para bailar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9" name="Picture 4" descr="Dance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... Un poco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11" name="Picture 4" descr="Adventure"/>
          <p:cNvPicPr/>
          <p:nvPr/>
        </p:nvPicPr>
        <p:blipFill>
          <a:blip r:embed="rId1"/>
          <a:stretch/>
        </p:blipFill>
        <p:spPr>
          <a:xfrm>
            <a:off x="3886200" y="380880"/>
            <a:ext cx="4782960" cy="6070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57200" y="2971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de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" y="38098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aventura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a cara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15" name="Picture 4" descr="Good looks"/>
          <p:cNvPicPr/>
          <p:nvPr/>
        </p:nvPicPr>
        <p:blipFill>
          <a:blip r:embed="rId1"/>
          <a:stretch/>
        </p:blipFill>
        <p:spPr>
          <a:xfrm>
            <a:off x="457200" y="1106640"/>
            <a:ext cx="8305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Pero mas que nada... </a:t>
            </a:r>
            <a:endParaRPr b="1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09480" y="2954160"/>
            <a:ext cx="784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Te deseo muchos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09480" y="4259160"/>
            <a:ext cx="7848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“</a:t>
            </a: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abrazos de oso”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7:14:10Z</dcterms:created>
  <dc:creator>Office 2004 Test Drive User</dc:creator>
  <dc:description/>
  <dc:language>en-US</dc:language>
  <cp:lastModifiedBy>Usuario</cp:lastModifiedBy>
  <dcterms:modified xsi:type="dcterms:W3CDTF">2008-10-02T13:12:05Z</dcterms:modified>
  <cp:revision>15</cp:revision>
  <dc:subject/>
  <dc:title>The Polar Bear Blessing</dc:title>
</cp:coreProperties>
</file>