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1A7-CA1E-4555-ADF2-8BB1E55B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814-F986-4CAE-BA6A-22D5BE07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6BF-BD7C-4B4A-A3F2-A80D05A6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6D3-2D06-448C-8702-EBE7898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252-9955-4196-BA14-1566961F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3DC-194B-4FC8-A702-04E3D8E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018-91B7-4AF9-B796-2D951E6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3BC-DA7E-4BDD-8884-ADA3D4A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E36-9C66-488A-8628-A610F7F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637-8E69-4EA5-B895-05B954E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3EF-DEFA-410C-AE19-EA2397D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905-F3C1-4BAA-A7BE-1470CAF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C5C-B856-49F4-AC4A-15D128088B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71840" y="1143000"/>
            <a:ext cx="3867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SEXO EN EL COCHE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840" y="1143000"/>
            <a:ext cx="3867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Qué esperabas ver??? andaaa....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un abrazo. 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1143000"/>
            <a:ext cx="3867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Si fuerzas un poco la vista los verás,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istrador\Escritorio\llevar\1.jpg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00240" y="1214280"/>
            <a:ext cx="38671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Sino mira más adelante en alta resolució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Administrador\Escritorio\llevar\2.jpg"/>
          <p:cNvPicPr/>
          <p:nvPr/>
        </p:nvPicPr>
        <p:blipFill>
          <a:blip r:embed="rId1"/>
          <a:stretch/>
        </p:blipFill>
        <p:spPr>
          <a:xfrm>
            <a:off x="500040" y="500040"/>
            <a:ext cx="821520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Administrador\Escritorio\llevar\3.jpg"/>
          <p:cNvPicPr/>
          <p:nvPr/>
        </p:nvPicPr>
        <p:blipFill>
          <a:blip r:embed="rId1"/>
          <a:stretch/>
        </p:blipFill>
        <p:spPr>
          <a:xfrm>
            <a:off x="785880" y="571680"/>
            <a:ext cx="7858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Administrador\Escritorio\llevar\4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Administrador\Escritorio\llevar\5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Administrador\Escritorio\llevar\6.jpg"/>
          <p:cNvPicPr/>
          <p:nvPr/>
        </p:nvPicPr>
        <p:blipFill>
          <a:blip r:embed="rId1"/>
          <a:stretch/>
        </p:blipFill>
        <p:spPr>
          <a:xfrm>
            <a:off x="642960" y="428760"/>
            <a:ext cx="79563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6:05:57Z</dcterms:created>
  <dc:creator>jorodriguez</dc:creator>
  <dc:description/>
  <dc:language>en-US</dc:language>
  <cp:lastModifiedBy>Administrador</cp:lastModifiedBy>
  <dcterms:modified xsi:type="dcterms:W3CDTF">2009-06-16T01:41:07Z</dcterms:modified>
  <cp:revision>6</cp:revision>
  <dc:subject/>
  <dc:title>ALGUNAS MUESTRAS DEL INGENIO CARTELERO</dc:title>
</cp:coreProperties>
</file>