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B66-8EA6-47A8-A24B-287EF54B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2B9-8252-4244-B4DC-4187C463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0AA-37E1-41CF-A86C-F442AD6E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613-BC3C-4C6D-B9C6-DD5C966D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BA6-F887-484B-9DE9-A599E0C7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89D-7A17-406E-A86D-E48D3EAA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379-A81A-40F6-941A-5B9B647E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30F-0DB6-4989-8FC1-E2129827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31C-D4D6-44A3-88B0-021D5B97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30E-2EFD-404A-ADE1-5C66598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D44-B3F4-4FB3-A473-94B1C740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2C8-2D44-496B-B325-8063B9B8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AB09-EBFA-4C24-95C2-2C133BEF07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71840" y="1143000"/>
            <a:ext cx="386712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SEXO EN EL COCHE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840" y="1143000"/>
            <a:ext cx="386712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Qué esperabas ver??? andaaa....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un abrazo. 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1143000"/>
            <a:ext cx="386712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Si fuerzas un poco la vista los verás,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istrador\Escritorio\llevar\1.jpg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00240" y="1214280"/>
            <a:ext cx="38671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Sino mira más adelante en alta resolució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Administrador\Escritorio\llevar\2.jpg"/>
          <p:cNvPicPr/>
          <p:nvPr/>
        </p:nvPicPr>
        <p:blipFill>
          <a:blip r:embed="rId1"/>
          <a:stretch/>
        </p:blipFill>
        <p:spPr>
          <a:xfrm>
            <a:off x="500040" y="500040"/>
            <a:ext cx="821520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Administrador\Escritorio\llevar\3.jpg"/>
          <p:cNvPicPr/>
          <p:nvPr/>
        </p:nvPicPr>
        <p:blipFill>
          <a:blip r:embed="rId1"/>
          <a:stretch/>
        </p:blipFill>
        <p:spPr>
          <a:xfrm>
            <a:off x="785880" y="571680"/>
            <a:ext cx="7858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Administrador\Escritorio\llevar\4.jpg"/>
          <p:cNvPicPr/>
          <p:nvPr/>
        </p:nvPicPr>
        <p:blipFill>
          <a:blip r:embed="rId1"/>
          <a:stretch/>
        </p:blipFill>
        <p:spPr>
          <a:xfrm>
            <a:off x="714240" y="57168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Administrador\Escritorio\llevar\5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Administrador\Escritorio\llevar\6.jpg"/>
          <p:cNvPicPr/>
          <p:nvPr/>
        </p:nvPicPr>
        <p:blipFill>
          <a:blip r:embed="rId1"/>
          <a:stretch/>
        </p:blipFill>
        <p:spPr>
          <a:xfrm>
            <a:off x="642960" y="428760"/>
            <a:ext cx="795636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6:05:57Z</dcterms:created>
  <dc:creator>jorodriguez</dc:creator>
  <dc:description/>
  <dc:language>en-US</dc:language>
  <cp:lastModifiedBy>Administrador</cp:lastModifiedBy>
  <dcterms:modified xsi:type="dcterms:W3CDTF">2009-06-16T01:41:07Z</dcterms:modified>
  <cp:revision>6</cp:revision>
  <dc:subject/>
  <dc:title>ALGUNAS MUESTRAS DEL INGENIO CARTELERO</dc:title>
</cp:coreProperties>
</file>