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pendejos.wav" ContentType="audio/x-wav"/>
  <Override PartName="/ppt/media/image21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388-2564-4682-BEA8-6CE05036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1C3-CE6F-4D8C-8F2F-7413D05E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6DF-60B5-44DA-8DF0-20432B17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276-24C3-44E7-9C9C-58625965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D48-5296-4451-8601-A85A745F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609-55D6-4355-B8BE-14B6E04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1A3-BB00-4457-A132-1EEB48D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9AD-4AB7-465D-81FE-8017254D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7BF-1F1D-4280-B958-45951A34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C19-6D54-454A-850C-16274D3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0FF-AB60-41CF-9300-523D7EFF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23E-F9DE-46C2-84D3-2EF8F307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5BEF-051E-49AB-AB20-94D1D818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endejo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52354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DEFINICIÓN DE PEND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04000" y="6453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vance automátic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16360" y="58294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UDIO: FACUNDO CAB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8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195640" y="5517720"/>
            <a:ext cx="475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esférico, que es pendejo por todos 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7120" y="782640"/>
            <a:ext cx="606924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58920" y="5662080"/>
            <a:ext cx="69120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fosforescente, porque hasta de noche se ve que por allá viene un pen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93960" y="692280"/>
            <a:ext cx="355608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32000" y="5300640"/>
            <a:ext cx="648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de referencia, ¿dónde está Alberto? aaahh!... allá... al lado del pendejo de la chaqueta g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77920" y="758880"/>
            <a:ext cx="5086440" cy="43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476360" y="5443200"/>
            <a:ext cx="6127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consciente, que sabe         que es pen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1480" y="907920"/>
            <a:ext cx="58532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973160" y="5445000"/>
            <a:ext cx="5407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de sangre azul, que es hijo y nieto de pende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1154160"/>
            <a:ext cx="537372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¡ Y el más peligroso de todos…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20840" y="2565360"/>
            <a:ext cx="3251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pendejo DEMAGOGO, que cree que el pueblo es pend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32000" y="1378080"/>
            <a:ext cx="3585960" cy="4643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8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5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5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 abuela decía: “Habría que acabar con los uniformes que le dan autoridad a cualquiera. ¿Qué es un general desnudo?”.                          ¡ Y tenía razón ! ... y tenía derecho hablar de esto por que estuvo casada con un coronel que era realmente un hombre valiente, solamente le tenía miedo a los PENDE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709800" cy="41767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fade thruBlk="true"/>
    <p:sndAc>
      <p:stSnd>
        <p:snd r:embed="rId2" name="pendejo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57340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n día le pregunté ¿por qué? y me dijo:                                             “Porque son muchos… no hay forma de cubrir semejante fren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92720" y="681120"/>
            <a:ext cx="3343320" cy="23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92720" y="3251160"/>
            <a:ext cx="2697120" cy="21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4508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57340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 por temprano que te levantes, a donde vayas                                         ya está lleno de pendej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3171960"/>
            <a:ext cx="2971800" cy="227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3178080"/>
            <a:ext cx="3044880" cy="226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387440" y="549360"/>
            <a:ext cx="3400560" cy="2454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23000" y="549360"/>
            <a:ext cx="288900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877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¡¡ Y son peligrosos porque al ser mayoría eligen hasta al Presidente 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857160"/>
            <a:ext cx="7016760" cy="46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los hay de todas categorías,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ejemplo está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7560" y="5516640"/>
            <a:ext cx="6923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informático, que es un                                   pendejo co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1663560"/>
            <a:ext cx="588168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73160" y="5444640"/>
            <a:ext cx="5478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aiandra G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pendejo burócrata, que es oficialmente pende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65120" y="836640"/>
            <a:ext cx="641376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68000" y="5517720"/>
            <a:ext cx="4830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pendejo optimista, que cree que no es pende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2800" y="981000"/>
            <a:ext cx="5767560" cy="43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692360" y="5517720"/>
            <a:ext cx="5983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pesimista, que cree que él es el único pen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5080" y="792000"/>
            <a:ext cx="6406920" cy="450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23:26:35Z</dcterms:created>
  <dc:creator>Usuario</dc:creator>
  <dc:description/>
  <dc:language>en-US</dc:language>
  <cp:lastModifiedBy>Familia</cp:lastModifiedBy>
  <dcterms:modified xsi:type="dcterms:W3CDTF">2008-08-14T21:35:39Z</dcterms:modified>
  <cp:revision>32</cp:revision>
  <dc:subject/>
  <dc:title>Diapositiva 1</dc:title>
</cp:coreProperties>
</file>