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otoloop%5B1%5D.wav" ContentType="audio/x-wav"/>
  <Override PartName="/ppt/media/image2.jpeg" ContentType="image/jpeg"/>
  <Override PartName="/ppt/media/bornto%5B1%5D.wav" ContentType="audio/x-wav"/>
  <Override PartName="/ppt/media/image3.jpeg" ContentType="image/jpeg"/>
  <Override PartName="/ppt/media/Laugh9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F83-02B5-4D74-9F1F-F1203FBB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7E4-E734-4E8E-A5BC-11382B80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59B-BF31-46ED-B4E5-50613810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193-D66B-456C-B2A5-CAF41947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F94-FDA3-40AC-97D2-AEC7E8F7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014-1C70-493A-939E-9C5BE86B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2C9-B949-4456-916B-23144189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403-70DF-4412-8BBA-2246EDA3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73C-69F3-46A7-868C-F61BF5C9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DE9-EE0B-49C2-9EE5-E995493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3D92-0850-4E58-AAF7-715F6B7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93D-5808-4096-9580-1990520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740C-0A4A-436D-BD51-0037DF0A0E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toloop%5B1%5D.wav"/><Relationship Id="rId3" Type="http://schemas.openxmlformats.org/officeDocument/2006/relationships/audio" Target="../media/motoloop%5B1%5D.wav"/><Relationship Id="rId4" Type="http://schemas.openxmlformats.org/officeDocument/2006/relationships/audio" Target="../media/motoloop%5B1%5D.wav"/><Relationship Id="rId5" Type="http://schemas.openxmlformats.org/officeDocument/2006/relationships/audio" Target="../media/motoloop%5B1%5D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rnto%5B1%5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ugh9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ugh9.wav"/><Relationship Id="rId3" Type="http://schemas.openxmlformats.org/officeDocument/2006/relationships/audio" Target="../media/Laugh9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Harley - Davids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Verdana"/>
              </a:rPr>
              <a:t>A Harley-Davidson lançou para 2006 dois novos modelos de motocicletas, um masculino e outro feminin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toloo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toloop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toloop%5B1%5D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228600"/>
            <a:ext cx="335268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Verdana"/>
              </a:rPr>
              <a:t>Modelo Mascu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rnto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5181480"/>
            <a:ext cx="3429000" cy="520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Verdana"/>
              </a:rPr>
              <a:t>Modelo Femi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ugh9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5181480"/>
            <a:ext cx="3429000" cy="52056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Verdana"/>
              </a:rPr>
              <a:t>Modelo Femin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ugh9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3:58:19Z</dcterms:created>
  <dc:creator/>
  <dc:description/>
  <dc:language>en-US</dc:language>
  <cp:lastModifiedBy>Heraldo Neumann</cp:lastModifiedBy>
  <dcterms:modified xsi:type="dcterms:W3CDTF">2005-12-20T12:11:29Z</dcterms:modified>
  <cp:revision>23</cp:revision>
  <dc:subject/>
  <dc:title>Harley Davidson</dc:title>
</cp:coreProperties>
</file>