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otoloop%5B1%5D.wav" ContentType="audio/x-wav"/>
  <Override PartName="/ppt/media/image2.jpeg" ContentType="image/jpeg"/>
  <Override PartName="/ppt/media/bornto%5B1%5D.wav" ContentType="audio/x-wav"/>
  <Override PartName="/ppt/media/image3.jpeg" ContentType="image/jpeg"/>
  <Override PartName="/ppt/media/Laugh9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13C-325D-4722-84D5-C5FE72F1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A02-CE9F-44F7-BFAA-29A6C923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6DF-432B-4DFE-8043-3E6CECB1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E0E-0166-47EF-A679-43B8C542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A28-985E-4720-920D-0220AB60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794-BEBE-4FD5-8462-3F8ABD6E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DDB-0C7F-4585-ADC4-576AA72F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00B-39B1-40E0-B5BD-7FE9751A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539-5AC7-478D-974F-14A3D78E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8EB-890F-4F71-990E-1128C45E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D49-5CE4-4167-9BD2-E3A4937C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4A2-1BB5-482D-B510-F8DE7064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8B64-ABC0-4D7D-B9FC-86FE2A58FD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toloop%5B1%5D.wav"/><Relationship Id="rId3" Type="http://schemas.openxmlformats.org/officeDocument/2006/relationships/audio" Target="../media/motoloop%5B1%5D.wav"/><Relationship Id="rId4" Type="http://schemas.openxmlformats.org/officeDocument/2006/relationships/audio" Target="../media/motoloop%5B1%5D.wav"/><Relationship Id="rId5" Type="http://schemas.openxmlformats.org/officeDocument/2006/relationships/audio" Target="../media/motoloop%5B1%5D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ornto%5B1%5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ugh9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ugh9.wav"/><Relationship Id="rId3" Type="http://schemas.openxmlformats.org/officeDocument/2006/relationships/audio" Target="../media/Laugh9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Harley - Davids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22960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Verdana"/>
              </a:rPr>
              <a:t>A Harley-Davidson lançou para 2006 dois novos modelos de motocicletas, um masculino e outro feminin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toloo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toloo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toloop%5B1%5D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228600"/>
            <a:ext cx="335268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Verdana"/>
              </a:rPr>
              <a:t>Modelo Mascul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rnto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5000" y="5181480"/>
            <a:ext cx="3429000" cy="5205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Verdana"/>
              </a:rPr>
              <a:t>Modelo Femi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9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5181480"/>
            <a:ext cx="3429000" cy="5205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Verdana"/>
              </a:rPr>
              <a:t>Modelo Femi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ugh9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3:58:19Z</dcterms:created>
  <dc:creator/>
  <dc:description/>
  <dc:language>en-US</dc:language>
  <cp:lastModifiedBy>Heraldo Neumann</cp:lastModifiedBy>
  <dcterms:modified xsi:type="dcterms:W3CDTF">2005-12-20T12:11:29Z</dcterms:modified>
  <cp:revision>23</cp:revision>
  <dc:subject/>
  <dc:title>Harley Davidson</dc:title>
</cp:coreProperties>
</file>