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lifornia%20blues.wav" ContentType="audio/x-wav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A1A4-BC8C-40B3-9B63-00B138A8C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4475-5CF3-4FE4-9C41-DD902A2FB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2E6E-34C2-4C7A-9DA2-7D31A2DED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D3F7-C17B-4A29-BEA6-C02419A77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7515-A13D-46A7-A9B0-1BECC5F6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84AC-A5B0-4C6B-A402-B3C0A2CE6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BAF8-8740-445E-80AD-5DED0B9E7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0F08-6752-495E-B72E-53B35BA35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038B-B0A5-4A5D-A152-9D643A43E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3F76-CBD8-4402-B0E2-7164C1BB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9550-1D69-4193-AA7E-891C99C0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1D73-7492-49A8-A361-299064FE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8E66D-B3B9-4F56-ACB4-6D2C607C52C2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lifornia%20blues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476280"/>
            <a:ext cx="8207280" cy="5977440"/>
          </a:xfrm>
          <a:prstGeom prst="rect">
            <a:avLst/>
          </a:prstGeom>
          <a:solidFill>
            <a:srgbClr val="542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4360" y="1413000"/>
            <a:ext cx="784836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13000"/>
                <a:gd name="adj2" fmla="val -1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¿Somos nosotros racistas? 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563868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nformación de la hemeroteca ingl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out"/>
    <p:sndAc>
      <p:stSnd>
        <p:snd r:embed="rId1" name="California%20blu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68360" y="476280"/>
            <a:ext cx="8207280" cy="5977440"/>
          </a:xfrm>
          <a:prstGeom prst="rect">
            <a:avLst/>
          </a:prstGeom>
          <a:solidFill>
            <a:srgbClr val="542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356000" y="620640"/>
            <a:ext cx="4145040" cy="56167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55640" y="981000"/>
            <a:ext cx="3168720" cy="491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REPA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ARA 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VERDADER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HOLOCAUST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68360" y="404640"/>
            <a:ext cx="8207280" cy="6115320"/>
          </a:xfrm>
          <a:prstGeom prst="rect">
            <a:avLst/>
          </a:prstGeom>
          <a:solidFill>
            <a:srgbClr val="542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7561440" cy="50086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68360" y="580536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¿Nos dejarían manifestarnos en su país de esta for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68360" y="476280"/>
            <a:ext cx="8207280" cy="5977440"/>
          </a:xfrm>
          <a:prstGeom prst="rect">
            <a:avLst/>
          </a:prstGeom>
          <a:solidFill>
            <a:srgbClr val="542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1295280"/>
            <a:ext cx="725796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9900"/>
                </a:solidFill>
                <a:latin typeface="Arial"/>
              </a:rPr>
              <a:t>¡¡¡ Y que alguien pueda pensa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9900"/>
                </a:solidFill>
                <a:latin typeface="Arial"/>
              </a:rPr>
              <a:t>que tenemos algo en contr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9900"/>
                </a:solidFill>
                <a:latin typeface="Arial"/>
              </a:rPr>
              <a:t>de ésta gente tan pacífica !!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zoom dir="ou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457200"/>
            <a:ext cx="8207280" cy="5977440"/>
          </a:xfrm>
          <a:prstGeom prst="rect">
            <a:avLst/>
          </a:prstGeom>
          <a:solidFill>
            <a:srgbClr val="542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620640"/>
            <a:ext cx="6626520" cy="435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9900"/>
                </a:solidFill>
                <a:latin typeface="Arial"/>
              </a:rPr>
              <a:t>Manda est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9900"/>
                </a:solidFill>
                <a:latin typeface="Arial"/>
              </a:rPr>
              <a:t>a todo el mund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9900"/>
                </a:solidFill>
                <a:latin typeface="Arial"/>
              </a:rPr>
              <a:t>incluso a los musulman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9900"/>
                </a:solidFill>
                <a:latin typeface="Arial"/>
              </a:rPr>
              <a:t>para ver que dicen de ést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zoom dir="ou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3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68360" y="476280"/>
            <a:ext cx="8207280" cy="5977440"/>
          </a:xfrm>
          <a:prstGeom prst="rect">
            <a:avLst/>
          </a:prstGeom>
          <a:solidFill>
            <a:srgbClr val="542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1125360"/>
            <a:ext cx="8136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Las imágenes que verás a continuació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fueron tomadas recientemente en Lond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urante la manifestación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“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LA RELIGIÓN DE LA PAZ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elebrada por la comunidad musulmana.</a:t>
            </a:r>
            <a:r>
              <a:rPr b="1" lang="es-ES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589720"/>
            <a:ext cx="813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No se publicaron en prensa ni TV para no ofender a nadi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825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9640" y="404640"/>
            <a:ext cx="8207640" cy="5977440"/>
          </a:xfrm>
          <a:prstGeom prst="rect">
            <a:avLst/>
          </a:prstGeom>
          <a:solidFill>
            <a:srgbClr val="542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7848360" cy="4824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9640" y="5516640"/>
            <a:ext cx="813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Matad a aquellos que insultan al Islam. Europa pagarás.         Tu demolición está en marcha. Tu exterminación en camin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zoom dir="ou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68360" y="476280"/>
            <a:ext cx="8207280" cy="5977440"/>
          </a:xfrm>
          <a:prstGeom prst="rect">
            <a:avLst/>
          </a:prstGeom>
          <a:solidFill>
            <a:srgbClr val="542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3992400" cy="5616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508720" y="1125360"/>
            <a:ext cx="2592360" cy="448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DECAPIT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A LOS 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INSULT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AL ISLAM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476280"/>
            <a:ext cx="8207280" cy="5977440"/>
          </a:xfrm>
          <a:prstGeom prst="rect">
            <a:avLst/>
          </a:prstGeom>
          <a:solidFill>
            <a:srgbClr val="542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7775280" cy="4896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68360" y="551664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uropa es el cáncer y la respuesta es el Islam.     Exterminar a los que van en contra del Isla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68360" y="404640"/>
            <a:ext cx="8207280" cy="5977440"/>
          </a:xfrm>
          <a:prstGeom prst="rect">
            <a:avLst/>
          </a:prstGeom>
          <a:solidFill>
            <a:srgbClr val="542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3905280" cy="5473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292720" y="1268280"/>
            <a:ext cx="2879640" cy="4358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99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L ISL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DOMINAR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L MU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ou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68360" y="476280"/>
            <a:ext cx="8207280" cy="5977440"/>
          </a:xfrm>
          <a:prstGeom prst="rect">
            <a:avLst/>
          </a:prstGeom>
          <a:solidFill>
            <a:srgbClr val="542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7775280" cy="5041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57200" y="586728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l infierno con la libert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ou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68360" y="476280"/>
            <a:ext cx="8207280" cy="5977440"/>
          </a:xfrm>
          <a:prstGeom prst="rect">
            <a:avLst/>
          </a:prstGeom>
          <a:solidFill>
            <a:srgbClr val="542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7704000" cy="51134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403280" y="5877000"/>
            <a:ext cx="63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uropa, aprende del 11 de septiembr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ou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68360" y="476280"/>
            <a:ext cx="8207280" cy="5977440"/>
          </a:xfrm>
          <a:prstGeom prst="rect">
            <a:avLst/>
          </a:prstGeom>
          <a:solidFill>
            <a:srgbClr val="542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7775280" cy="5113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826920" y="5877000"/>
            <a:ext cx="756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uropa pagarás. Tu 11 de septiembre esta de camin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07:28:30Z</dcterms:created>
  <dc:creator>Lukshini</dc:creator>
  <dc:description/>
  <dc:language>en-US</dc:language>
  <cp:lastModifiedBy>nina</cp:lastModifiedBy>
  <dcterms:modified xsi:type="dcterms:W3CDTF">2009-09-30T21:26:00Z</dcterms:modified>
  <cp:revision>27</cp:revision>
  <dc:subject/>
  <dc:title>   </dc:title>
</cp:coreProperties>
</file>