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lifornia%20blues.wav" ContentType="audio/x-wav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0670-285C-4EEE-A576-81210E937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975C-AFC9-4DED-AFAC-5948F69C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EA6D-8053-4189-8228-023BF0B61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AEAF-135F-4406-9BBB-A67ECF277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B990-3DF3-4BF6-8A25-229997DC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06C6-6416-45DA-BD86-106D8F45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BFE8-5847-4EC1-B028-89DCC1A7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CA43-8A7D-4AA4-AFC4-6EC480369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142E-624B-40BF-8890-3B879EAF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86E0-2142-4ED3-9DFD-F7FBC8DA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64D0-5F37-4680-9959-E55C0B94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C95C-E5EF-418D-B7CE-0AEB41DC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197F-6AB5-4E2B-9210-9057BAF5A477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lifornia%20blues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476280"/>
            <a:ext cx="8207280" cy="5977440"/>
          </a:xfrm>
          <a:prstGeom prst="rect">
            <a:avLst/>
          </a:prstGeom>
          <a:solidFill>
            <a:srgbClr val="542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4360" y="1413000"/>
            <a:ext cx="784836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3000"/>
                <a:gd name="adj2" fmla="val -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¿Somos nosotros racistas? 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563868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formación de la hemeroteca ingl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  <p:sndAc>
      <p:stSnd>
        <p:snd r:embed="rId1" name="California%20blu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68360" y="476280"/>
            <a:ext cx="8207280" cy="5977440"/>
          </a:xfrm>
          <a:prstGeom prst="rect">
            <a:avLst/>
          </a:prstGeom>
          <a:solidFill>
            <a:srgbClr val="542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356000" y="620640"/>
            <a:ext cx="4145040" cy="5616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55640" y="981000"/>
            <a:ext cx="3168720" cy="491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EPA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VERDADER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OLOCAUST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404640"/>
            <a:ext cx="8207280" cy="6115320"/>
          </a:xfrm>
          <a:prstGeom prst="rect">
            <a:avLst/>
          </a:prstGeom>
          <a:solidFill>
            <a:srgbClr val="542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561440" cy="50086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68360" y="5805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¿Nos dejarían manifestarnos en su país de esta for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68360" y="476280"/>
            <a:ext cx="8207280" cy="5977440"/>
          </a:xfrm>
          <a:prstGeom prst="rect">
            <a:avLst/>
          </a:prstGeom>
          <a:solidFill>
            <a:srgbClr val="542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1295280"/>
            <a:ext cx="725796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"/>
              </a:rPr>
              <a:t>¡¡¡ Y que alguien pueda pensa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"/>
              </a:rPr>
              <a:t>que tenemos algo en contr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"/>
              </a:rPr>
              <a:t>de ésta gente tan pacífica !!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457200"/>
            <a:ext cx="8207280" cy="5977440"/>
          </a:xfrm>
          <a:prstGeom prst="rect">
            <a:avLst/>
          </a:prstGeom>
          <a:solidFill>
            <a:srgbClr val="542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620640"/>
            <a:ext cx="6626520" cy="435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"/>
              </a:rPr>
              <a:t>Manda es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"/>
              </a:rPr>
              <a:t>a todo el mun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"/>
              </a:rPr>
              <a:t>incluso a los musulman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"/>
              </a:rPr>
              <a:t>para ver que dicen de ést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ou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3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8360" y="476280"/>
            <a:ext cx="8207280" cy="5977440"/>
          </a:xfrm>
          <a:prstGeom prst="rect">
            <a:avLst/>
          </a:prstGeom>
          <a:solidFill>
            <a:srgbClr val="542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1125360"/>
            <a:ext cx="8136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as imágenes que verás a continuació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fueron tomadas recientemente en Lond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urante la manifestación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LA RELIGIÓN DE LA PAZ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elebrada por la comunidad musulmana.</a:t>
            </a:r>
            <a:r>
              <a:rPr b="1" lang="es-E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589720"/>
            <a:ext cx="813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No se publicaron en prensa ni TV para no ofender a nadi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825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9640" y="404640"/>
            <a:ext cx="8207640" cy="5977440"/>
          </a:xfrm>
          <a:prstGeom prst="rect">
            <a:avLst/>
          </a:prstGeom>
          <a:solidFill>
            <a:srgbClr val="542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848360" cy="4824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9640" y="5516640"/>
            <a:ext cx="81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Matad a aquellos que insultan al Islam. Europa pagarás.         Tu demolición está en marcha. Tu exterminación en camin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68360" y="476280"/>
            <a:ext cx="8207280" cy="5977440"/>
          </a:xfrm>
          <a:prstGeom prst="rect">
            <a:avLst/>
          </a:prstGeom>
          <a:solidFill>
            <a:srgbClr val="542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3992400" cy="5616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508720" y="1125360"/>
            <a:ext cx="2592360" cy="448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DECAPIT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 LOS 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INSULT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L ISLAM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476280"/>
            <a:ext cx="8207280" cy="5977440"/>
          </a:xfrm>
          <a:prstGeom prst="rect">
            <a:avLst/>
          </a:prstGeom>
          <a:solidFill>
            <a:srgbClr val="542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775280" cy="4896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68360" y="551664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uropa es el cáncer y la respuesta es el Islam.     Exterminar a los que van en contra del Isl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68360" y="404640"/>
            <a:ext cx="8207280" cy="5977440"/>
          </a:xfrm>
          <a:prstGeom prst="rect">
            <a:avLst/>
          </a:prstGeom>
          <a:solidFill>
            <a:srgbClr val="542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3905280" cy="5473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292720" y="1268280"/>
            <a:ext cx="2879640" cy="4358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L ISL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DOMINA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L MU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68360" y="476280"/>
            <a:ext cx="8207280" cy="5977440"/>
          </a:xfrm>
          <a:prstGeom prst="rect">
            <a:avLst/>
          </a:prstGeom>
          <a:solidFill>
            <a:srgbClr val="542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775280" cy="5041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7200" y="586728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l infierno con la libert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68360" y="476280"/>
            <a:ext cx="8207280" cy="5977440"/>
          </a:xfrm>
          <a:prstGeom prst="rect">
            <a:avLst/>
          </a:prstGeom>
          <a:solidFill>
            <a:srgbClr val="542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704000" cy="5113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403280" y="587700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uropa, aprende del 11 de septiembr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476280"/>
            <a:ext cx="8207280" cy="5977440"/>
          </a:xfrm>
          <a:prstGeom prst="rect">
            <a:avLst/>
          </a:prstGeom>
          <a:solidFill>
            <a:srgbClr val="542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775280" cy="5113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26920" y="5877000"/>
            <a:ext cx="756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uropa pagarás. Tu 11 de septiembre esta de cami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07:28:30Z</dcterms:created>
  <dc:creator>Lukshini</dc:creator>
  <dc:description/>
  <dc:language>en-US</dc:language>
  <cp:lastModifiedBy>nina</cp:lastModifiedBy>
  <dcterms:modified xsi:type="dcterms:W3CDTF">2009-09-30T21:26:00Z</dcterms:modified>
  <cp:revision>27</cp:revision>
  <dc:subject/>
  <dc:title>   </dc:title>
</cp:coreProperties>
</file>