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diapositiva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D88-60DD-4317-AC40-FB79078F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F32-B56E-4C31-94D9-77704068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C707-3662-405E-BF3E-6FA6CFC8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4F85-7D0F-4223-B67B-B71CF08E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5C5-CD6A-47A9-9CA3-D1606DA3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621-3F35-4B9A-AADA-E2D5CC6E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423-28BD-41E3-9575-080345AA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3EE-767F-4212-9B0E-612E9BE1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F3D8-BC80-40DE-9A2E-A64DA7C6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BEF-65BE-408D-9C93-B6ED3A1B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4CD4-B491-40C0-B39C-6923D7F9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44BE-6E4F-4373-A3BA-34F76B3C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0FE5-4A53-4801-A22D-34A41F896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audio" Target="../media/diapositiva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luminares.com.ar/" TargetMode="External"/><Relationship Id="rId3" Type="http://schemas.openxmlformats.org/officeDocument/2006/relationships/hyperlink" Target="http://www.avanzapormas.com/palabras%20mail/formulario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avanzapormas.com/palabras%20mail/formulario.html" TargetMode="External"/><Relationship Id="rId3" Type="http://schemas.openxmlformats.org/officeDocument/2006/relationships/hyperlink" Target="http://luminares.com.ar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ffffff"/>
                </a:solidFill>
                <a:latin typeface="Verdana"/>
              </a:rPr>
              <a:t>¿Conoces las 4 Clases de Perd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4365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Verdana"/>
              </a:rPr>
              <a:t>El perdón es la base de toda sanidad en la mente, conciencia y corazón. </a:t>
            </a:r>
            <a:br>
              <a:rPr sz="1800"/>
            </a:br>
            <a:br>
              <a:rPr sz="1800"/>
            </a:br>
            <a:r>
              <a:rPr b="1" lang="es-VE" sz="1800" spc="-1" strike="noStrike">
                <a:solidFill>
                  <a:srgbClr val="ffffff"/>
                </a:solidFill>
                <a:latin typeface="Verdana"/>
              </a:rPr>
              <a:t>El perdón es la clave de la liberación espiritual. </a:t>
            </a:r>
            <a:br>
              <a:rPr sz="1800"/>
            </a:br>
            <a:br>
              <a:rPr sz="1800"/>
            </a:br>
            <a:r>
              <a:rPr b="1" lang="es-VE" sz="1800" spc="-1" strike="noStrike">
                <a:solidFill>
                  <a:srgbClr val="ffffff"/>
                </a:solidFill>
                <a:latin typeface="Verdana"/>
              </a:rPr>
              <a:t>El perdón es una barrera que debemos cruzar para ser totalmente libres en nuestro i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852280"/>
            <a:ext cx="5832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00"/>
                </a:solidFill>
                <a:latin typeface="Arial"/>
              </a:rPr>
              <a:t>3. Perdonar a 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02920" y="3860640"/>
            <a:ext cx="62643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Verdana"/>
              </a:rPr>
              <a:t>Si, así como lo lees, perdonar a Di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Verdana"/>
              </a:rPr>
              <a:t>Esta es muchas veces una actitud inconsci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Verdana"/>
              </a:rPr>
              <a:t>¿Acaso Dios se equivoca? No, en absol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VE" sz="1800" spc="-1" strike="noStrike">
                <a:solidFill>
                  <a:srgbClr val="000000"/>
                </a:solidFill>
                <a:latin typeface="Verdana"/>
              </a:rPr>
              <a:t>Pero nosotros percibimos por nuestro orgullo e ignorancia que Dios nos ha fallado en algunas ocas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55280" y="4365720"/>
            <a:ext cx="8101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VE" sz="2000" spc="-1" strike="noStrike">
                <a:solidFill>
                  <a:srgbClr val="ffff00"/>
                </a:solidFill>
                <a:latin typeface="Arial"/>
              </a:rPr>
              <a:t>Es que nuestra mente y percepción espiritual son demasiado estrechas como para comprender la magnitud de algunas cos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39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00"/>
                </a:solidFill>
                <a:latin typeface="Verdana"/>
              </a:rPr>
              <a:t>Pensamos que ciertas tragedias e injusticias son una falla de Dios. Pero no es as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5164200"/>
            <a:ext cx="41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Verdana"/>
              </a:rPr>
              <a:t>No seamos necios y no echemos culpas a Dios. Cambia tu actitud si estas enojado con Dios. Porque él quiere lo mejor y jamás quiso nada malo para ti.</a:t>
            </a:r>
            <a:r>
              <a:rPr b="1" lang="es-VE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4632480"/>
            <a:ext cx="3635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Quizás sent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Que Dios se olvido de ti, o que llegó tar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Pero en realidad el estuvo contigo dándote fuerzas en tu día ma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3640" y="0"/>
            <a:ext cx="33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00"/>
                </a:solidFill>
                <a:latin typeface="Arial"/>
              </a:rPr>
              <a:t>Esta claro que en el mundo el desastre lo cometen los seres humanos.</a:t>
            </a: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ffffff"/>
                </a:solidFill>
                <a:latin typeface="Arial"/>
              </a:rPr>
              <a:t>4. El Perdón De 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Además de fallarnos entre nosotros mismos, también fallamos muchas veces a D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El es el creador de todo y juez del univer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Y Dios, a pesar de ser juez no se complace en juzgar, sino en perdon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777564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Verdana"/>
              </a:rPr>
              <a:t>Dios es amor, no tiene amor… ES AMOR. Por eso su naturaleza es perdonar las fallas de sus hijos. No importa lo que hayas hecho, Dios te perdo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357336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ffff00"/>
                </a:solidFill>
                <a:latin typeface="Verdana"/>
              </a:rPr>
              <a:t>Dios te perdo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65440" y="501336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ffff00"/>
                </a:solidFill>
                <a:latin typeface="Verdana"/>
              </a:rPr>
              <a:t>Dios te perdo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00"/>
                </a:solidFill>
                <a:latin typeface="Arial"/>
              </a:rPr>
              <a:t>Donde hay verdadero arrepentimiento, hay un perdón de Dios asegur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00"/>
                </a:solidFill>
                <a:latin typeface="Arial"/>
              </a:rPr>
              <a:t>Algunos preguntan: ¿Dónde esta Dios que no lo ve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00"/>
                </a:solidFill>
                <a:latin typeface="Arial"/>
              </a:rPr>
              <a:t>Pero Dios ya se hizo visible en la persona de Jesús, su Hijo. Quién vino a perdon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00"/>
                </a:solidFill>
                <a:latin typeface="Arial"/>
              </a:rPr>
              <a:t>La misión de la venida de Cristo a la tierra fue e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VE" sz="2400" spc="-1" strike="noStrike">
                <a:solidFill>
                  <a:srgbClr val="ffff00"/>
                </a:solidFill>
                <a:latin typeface="Arial"/>
              </a:rPr>
              <a:t>Perd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00"/>
                </a:solidFill>
                <a:latin typeface="Arial"/>
              </a:rPr>
              <a:t>El dijo antes de Mor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es-VE" sz="2400" spc="-1" strike="noStrike">
                <a:solidFill>
                  <a:srgbClr val="ffff00"/>
                </a:solidFill>
                <a:latin typeface="Arial"/>
              </a:rPr>
              <a:t>Padre, </a:t>
            </a:r>
            <a:r>
              <a:rPr b="1" lang="es-VE" sz="2400" spc="-1" strike="noStrike" u="sng">
                <a:solidFill>
                  <a:srgbClr val="ffff00"/>
                </a:solidFill>
                <a:uFillTx/>
                <a:latin typeface="Arial"/>
              </a:rPr>
              <a:t>perdónalos</a:t>
            </a:r>
            <a:r>
              <a:rPr b="0" lang="es-VE" sz="2400" spc="-1" strike="noStrike">
                <a:solidFill>
                  <a:srgbClr val="ffff00"/>
                </a:solidFill>
                <a:latin typeface="Arial"/>
              </a:rPr>
              <a:t>, porque no saben lo que hacen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00"/>
                </a:solidFill>
                <a:latin typeface="Arial"/>
              </a:rPr>
              <a:t>Es una dicha muy grande saber que Dios nos perdona cuando se lo pedim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0"/>
            <a:ext cx="55800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00"/>
                </a:solidFill>
                <a:latin typeface="Verdana"/>
              </a:rPr>
              <a:t>Dios respondió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00"/>
                </a:solidFill>
                <a:latin typeface="Verdana"/>
              </a:rPr>
              <a:t>perdón ante las falla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00"/>
                </a:solidFill>
                <a:latin typeface="Verdana"/>
              </a:rPr>
              <a:t>La humanidad. Envío a 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00"/>
                </a:solidFill>
                <a:latin typeface="Verdana"/>
              </a:rPr>
              <a:t>Hijo para que se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00"/>
                </a:solidFill>
                <a:latin typeface="Verdana"/>
              </a:rPr>
              <a:t>perdonados y aceptados.</a:t>
            </a:r>
            <a:r>
              <a:rPr b="1" lang="es-VE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64000" y="4653000"/>
            <a:ext cx="350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00"/>
                </a:solidFill>
                <a:latin typeface="Verdana"/>
              </a:rPr>
              <a:t>Dios nos quiso amar y envío la solución para nuestros pe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Luminares.com.ar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VE" sz="3600" spc="-1" strike="noStrike">
                <a:solidFill>
                  <a:srgbClr val="ffff00"/>
                </a:solidFill>
                <a:latin typeface="Arial"/>
              </a:rPr>
              <a:t>La solución es Jesús, el Hijo de Dios, quién murió en la agonizante cruz para derramar su sangre inoc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VE" sz="3600" spc="-1" strike="noStrike">
                <a:solidFill>
                  <a:srgbClr val="ffff00"/>
                </a:solidFill>
                <a:latin typeface="Arial"/>
              </a:rPr>
              <a:t>Y la  sangre pura e inocente de Cristo es la que nos brinda la limpieza de todos nuestros pecados cuando creemos en É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Luminares.com.ar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1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Recibe hoy el perdón de Dios. Repite esta oración en voz alta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3708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1" lang="es-VE" sz="2000" spc="-1" strike="noStrike">
                <a:solidFill>
                  <a:srgbClr val="ffff00"/>
                </a:solidFill>
                <a:latin typeface="Verdana"/>
              </a:rPr>
              <a:t>Dios mío, te pido perdón por todos mis pecado y acepto el sacrificio de Jesús en la cruz y creo en él como mi único salvador. Declaro con mis labios que Jesús es mi Señor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19640" y="1700280"/>
            <a:ext cx="3743280" cy="30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VE" sz="2400" spc="-1" strike="noStrike">
                <a:solidFill>
                  <a:srgbClr val="ffffff"/>
                </a:solidFill>
                <a:latin typeface="Verdana"/>
              </a:rPr>
              <a:t>Padre mío te pido que me ayudes, me fortalezcas, me des salud y prosper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Verdana"/>
              </a:rPr>
              <a:t>Bendice a mi familia por completo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22360" y="5373720"/>
            <a:ext cx="68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Gracias por perdonarme y aceptarme a pesar de mis falla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Luminares.com.ar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00000" y="549000"/>
            <a:ext cx="7345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Verdana"/>
              </a:rPr>
              <a:t>Sin perdón hay dolor, hay rencor, hay resentimiento y amarg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Verdana"/>
              </a:rPr>
              <a:t>Comi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VE" sz="3200" spc="-1" strike="noStrike">
                <a:solidFill>
                  <a:srgbClr val="ffffff"/>
                </a:solidFill>
                <a:latin typeface="Verdana"/>
              </a:rPr>
              <a:t>h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VE" sz="3200" spc="-1" strike="noStrike">
                <a:solidFill>
                  <a:srgbClr val="ffffff"/>
                </a:solidFill>
                <a:latin typeface="Verdana"/>
              </a:rPr>
              <a:t>tu sanidad comple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5013360"/>
            <a:ext cx="5040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Verdana"/>
              </a:rPr>
              <a:t>Veamos a continuación las 4 clases de perdón que existen.</a:t>
            </a:r>
            <a:r>
              <a:rPr b="0" lang="es-VE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072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Verdana"/>
              </a:rPr>
              <a:t>Con la fe puesta en 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Verdana"/>
              </a:rPr>
              <a:t>y experimentando su perd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VE" sz="3200" spc="-1" strike="noStrike">
                <a:solidFill>
                  <a:srgbClr val="ffff00"/>
                </a:solidFill>
                <a:latin typeface="Verdana"/>
              </a:rPr>
              <a:t>tendrás una nuevo y emocionante d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472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Dios te bendi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ffff00"/>
                </a:solidFill>
                <a:latin typeface="Arial"/>
              </a:rPr>
              <a:t>Un nuevo tiempo comienz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Luminares.com.ar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4360" y="3645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620640"/>
            <a:ext cx="741672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uminares.com.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Rescatando 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valor de lo esenci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vanzaPorMa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Recibe pala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 Aliento en tu E-Mai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Luminares.com.ar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ffffff"/>
                </a:solidFill>
                <a:latin typeface="Arial"/>
              </a:rPr>
              <a:t>1. Perdonarse a uno mism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360" y="306864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00"/>
                </a:solidFill>
                <a:latin typeface="Arial"/>
              </a:rPr>
              <a:t>Hay situaciones que producen una desilusión de nosotros mism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00"/>
                </a:solidFill>
                <a:latin typeface="Arial"/>
              </a:rPr>
              <a:t>Hay actitudes y hechos cometidos por nosotros que nos humillan, nos denigran y avergüenz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00"/>
                </a:solidFill>
                <a:latin typeface="Arial"/>
              </a:rPr>
              <a:t>Esta clase de fallas requieren de un auto-perd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47640" y="549000"/>
            <a:ext cx="583416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00"/>
                </a:solidFill>
                <a:latin typeface="Arial"/>
              </a:rPr>
              <a:t>Se libre hoy de tus propias fallas. ¡Perdónate! Nadie es perfecto, la misma esencia defectuosa propensa a fallar existe en todos los seres human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3859560"/>
            <a:ext cx="8066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Verdana"/>
              </a:rPr>
              <a:t>Perdonarte a ti mismo es aceptar con humildad tu condición real de ser huma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Verdana"/>
              </a:rPr>
              <a:t>Reconoce que no eres perfecto y comienza a mejorar.</a:t>
            </a:r>
            <a:r>
              <a:rPr b="0" lang="es-VE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3492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00"/>
                </a:solidFill>
                <a:latin typeface="Arial"/>
              </a:rPr>
              <a:t>Perdonarte a ti mismo es un acto de humildad. Perdonarte a ti mismo te hará depositar la confianza en Dios para recibir la fortaleza y no volver a fal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3859560"/>
            <a:ext cx="633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Se libre hoy perdonándote de todo lo malo que hayas hech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Somos perfectibles y estamos en un camino de mejoramiento contin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ffff00"/>
                </a:solidFill>
                <a:latin typeface="Arial"/>
              </a:rPr>
              <a:t>2. Perdonar a otros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570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00"/>
                </a:solidFill>
                <a:latin typeface="Arial"/>
              </a:rPr>
              <a:t>Las heridas duelen y a veces mucho. Pero alguien dijo: “La mejor venganza es el perdón” porque la Falta de Perdón te Auto-Esclavi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00"/>
                </a:solidFill>
                <a:latin typeface="Arial"/>
              </a:rPr>
              <a:t>Te lastimas a ti mismo cuando no perdonas, mientras el ofensor no se percata de tus sentimien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00"/>
                </a:solidFill>
                <a:latin typeface="Arial"/>
              </a:rPr>
              <a:t>Tu Falta de perdón hacia otros te mantiene preso y atado a esa persona. ¡Se Libre perdonan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2923920"/>
            <a:ext cx="7128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¿Te fallaron?</a:t>
            </a:r>
            <a:br>
              <a:rPr sz="3200"/>
            </a:br>
            <a:br>
              <a:rPr sz="3200"/>
            </a:b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Bienvenido al planeta tierra.</a:t>
            </a:r>
            <a:r>
              <a:rPr b="0" lang="es-VE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s-VE" sz="3200" spc="-1" strike="noStrike">
                <a:solidFill>
                  <a:srgbClr val="ff6600"/>
                </a:solidFill>
                <a:latin typeface="Arial"/>
              </a:rPr>
              <a:t>Este es un mundo con injusticias, con seres humanos que tienen libre albedrío.</a:t>
            </a:r>
            <a:br>
              <a:rPr sz="3200"/>
            </a:br>
            <a:r>
              <a:rPr b="1" lang="es-VE" sz="32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200"/>
            </a:br>
            <a:r>
              <a:rPr b="1" lang="es-VE" sz="3200" spc="-1" strike="noStrike">
                <a:solidFill>
                  <a:srgbClr val="ff6600"/>
                </a:solidFill>
                <a:latin typeface="Arial"/>
              </a:rPr>
              <a:t>Pero serán libres y felices quienes cruzan la barrera del perdón. </a:t>
            </a:r>
            <a:br>
              <a:rPr sz="3200"/>
            </a:br>
            <a:br>
              <a:rPr sz="3200"/>
            </a:br>
            <a:r>
              <a:rPr b="1" lang="es-VE" sz="3200" spc="-1" strike="noStrike">
                <a:solidFill>
                  <a:srgbClr val="ff6600"/>
                </a:solidFill>
                <a:latin typeface="Arial"/>
              </a:rPr>
              <a:t>Quienes saben perdonar y olvidar, poseen una virtud supr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76360" y="2997000"/>
            <a:ext cx="6337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Verdana"/>
              </a:rPr>
              <a:t>Cualquier mediocre puede ser violento, matar, abusarse o lastimar, pero no cualquiera posee el supremo valor de perdon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Verdana"/>
              </a:rPr>
              <a:t>Esto solo es un rasgo de los seres sabios e intelig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60280"/>
            <a:ext cx="356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6600"/>
                </a:solidFill>
                <a:latin typeface="Arial"/>
              </a:rPr>
              <a:t>Solo los valientes perdonan. Solo los sabios saben perdonar al prójimo. Solo quién tiene verdadero am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360" y="1413000"/>
            <a:ext cx="270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6600"/>
                </a:solidFill>
                <a:latin typeface="Arial"/>
              </a:rPr>
              <a:t>Tú eliges entre permanecer preso o hallar la libert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124000" y="3933720"/>
            <a:ext cx="5184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00"/>
                </a:solidFill>
                <a:latin typeface="Verdana"/>
              </a:rPr>
              <a:t>Confiesa el perdón con tus labios, ¡¡Hazlo Y serás libre por siempre!!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6028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Verdana"/>
              </a:rPr>
              <a:t>Perdona hoy lo que te hicieron, tú no tienes la culp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658332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Diapositiva exclusiva de 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vanzaPorMas.com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uminares.com.ar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or Esteban Cor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3:23:21Z</dcterms:created>
  <dc:creator>Erica</dc:creator>
  <dc:description/>
  <dc:language>en-US</dc:language>
  <cp:lastModifiedBy>Erica</cp:lastModifiedBy>
  <dcterms:modified xsi:type="dcterms:W3CDTF">2010-04-29T19:30:54Z</dcterms:modified>
  <cp:revision>47</cp:revision>
  <dc:subject/>
  <dc:title>¿Conoces las 4 Clases de Perdón?</dc:title>
</cp:coreProperties>
</file>