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2ED-A0CE-4AB5-858F-690E08BA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B1E-EB72-4B32-A9B0-70CBA754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251-302B-416F-82EE-73598950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76E-5506-4C82-8093-79E36A59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2BD-FA11-4C6B-B9FF-D63835A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486-FE7B-4602-9EAC-5B5DC624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F0-300E-4E1A-B99E-048C1E63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AE5-FD84-4ADC-9274-6265EC21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DD5-B5CF-4124-9A04-6B4EFD74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252-F1B2-45E5-89D5-A5958F8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006-2AEE-4420-AA94-CD0CC8C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3FA-C337-4961-A975-E239DED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D5E-CF99-4DB3-94AC-0E622ADC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99"/>
                </a:solidFill>
                <a:latin typeface="Palatino Linotype"/>
              </a:rPr>
              <a:t>AUTOESTIMA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ff6699"/>
                </a:solidFill>
                <a:latin typeface="Palatino Linotype"/>
              </a:rPr>
              <a:t>FEMEN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ujer de embajador, es embajadora;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ido de embajador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240" y="228600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41760" y="3352680"/>
            <a:ext cx="52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-Mujer de presidente es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primera dama; marido 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president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 decidimos hacer trabajos de hombres,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mos pioner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24280" y="3657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 un hombre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acer trabajos femenin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s maric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 POR ÚLTI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79720" y="2895480"/>
            <a:ext cx="322884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3640" y="160020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Hacemos tooooodo lo que el hombre h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Y CON TACONES ALTOS…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99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nvíalo a todas las perfectas mujeres que conoz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544500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Y a los hombres que creas puedan ser capaces de reconocer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6716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566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E TENGAS UN DÍA ESTUP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6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Palatino Linotype"/>
              </a:rPr>
              <a:t>A medida que envejecemos, las mujeres ganamos peso. Esto ocurre porque acumulamos mucha información en nuestra cab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Pero claro, llega un punto en que tanta información no cabe en nuestra cabecita. Así que esta información acumulada empieza a distribuirse por todo el cuerpo. Y ahora lo entiendo tod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No me sobran kilo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98116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19720" y="238608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No estoy gord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03160" y="36813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So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90068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MU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PARA TODAS LAS MUJERES ESTUPENDAS QUE ANDAN POR AHÍ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 SEÑOR!!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OMOS PERFECT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3600" y="2362320"/>
            <a:ext cx="334152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242892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-No  nos quedamos cal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-Tenemos un día internacional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tr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-Podemos usar tanto color ro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mo az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empre sabemos que nuestro hijo es nue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261000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-Tenemos prioridad en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ufrag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-No pagamos la cu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omos los primeros rehenes en ser liber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328920" cy="29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4120" y="2330280"/>
            <a:ext cx="44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-Si somos traicionad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omos vícti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-Si traicionamos, el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son los cornu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Podemos dormir con una amiga sin ser llamadas homosex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629160" cy="435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6200" y="3625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-Podemos prestar at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varias cosas a la v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39:30Z</dcterms:created>
  <dc:creator>Pruebas</dc:creator>
  <dc:description/>
  <dc:language>en-US</dc:language>
  <cp:lastModifiedBy>mcastillo</cp:lastModifiedBy>
  <dcterms:modified xsi:type="dcterms:W3CDTF">2007-02-23T13:37:42Z</dcterms:modified>
  <cp:revision>5</cp:revision>
  <dc:subject/>
  <dc:title>AUTOESTIMA FEMENINA</dc:title>
</cp:coreProperties>
</file>