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09C3-A1B0-4FC0-8007-264416E52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98C1-14A0-460B-B259-D3F9186B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B594-A6AE-4D4F-9137-87BC0F1E6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37B8-1B4C-443B-B9ED-C6F69AD14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0F69-58AC-400F-A1A9-B586BD65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AAC0-248F-46AB-BEF8-C9FC0158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EDAF-BE4F-45A6-8620-339CD3F1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B5B6-50A1-42A4-B538-8EF1B4C4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EEE2-D7F4-47FB-A129-273A6CC7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9C17-3A2E-4F03-AF0A-0E8C0156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FD64-7540-496F-87BF-AE242574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220B-137B-4C05-B4FD-9A5156DC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F7EF-D9D9-4E6A-970D-B9D4F179D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99"/>
                </a:solidFill>
                <a:latin typeface="Palatino Linotype"/>
              </a:rPr>
              <a:t>AUTOESTIMA</a:t>
            </a:r>
            <a:br>
              <a:rPr sz="6600"/>
            </a:br>
            <a:br>
              <a:rPr sz="6600"/>
            </a:br>
            <a:r>
              <a:rPr b="1" lang="en-US" sz="6600" spc="-1" strike="noStrike">
                <a:solidFill>
                  <a:srgbClr val="ff6699"/>
                </a:solidFill>
                <a:latin typeface="Palatino Linotype"/>
              </a:rPr>
              <a:t>FEMENIN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ujer de embajador, es embajadora; 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arido de embajadora, quién 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1240" y="2286000"/>
            <a:ext cx="3440160" cy="4343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641760" y="3352680"/>
            <a:ext cx="523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Times New Roman"/>
              </a:rPr>
              <a:t>-Mujer de presidente es l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Times New Roman"/>
              </a:rPr>
              <a:t>primera dama; marido de 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Times New Roman"/>
              </a:rPr>
              <a:t>presidenta, quién 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 decidimos hacer trabajos de hombres,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omos pionera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2666880"/>
            <a:ext cx="4648320" cy="4191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724280" y="3657600"/>
            <a:ext cx="44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i un hombre dec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hacer trabajos femenino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es maric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Y POR ÚLTIM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979720" y="2895480"/>
            <a:ext cx="3228840" cy="3962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93640" y="1600200"/>
            <a:ext cx="778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00"/>
                </a:solidFill>
                <a:latin typeface="Times New Roman"/>
              </a:rPr>
              <a:t>Hacemos tooooodo lo que el hombre hac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00"/>
                </a:solidFill>
                <a:latin typeface="Times New Roman"/>
              </a:rPr>
              <a:t>Y CON TACONES ALTOS…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3999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Envíalo a todas las perfectas mujeres que conoz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16000" y="5445000"/>
            <a:ext cx="72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Y a los hombres que creas puedan ser capaces de reconocerlo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556000" y="1773360"/>
            <a:ext cx="367164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24000" y="5661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QUE TENGAS UN DÍA ESTUPEN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92360" y="1268280"/>
            <a:ext cx="561636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Palatino Linotype"/>
              </a:rPr>
              <a:t>A medida que envejecemos, las mujeres ganamos peso. Esto ocurre porque acumulamos mucha información en nuestra cabez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95480" y="2666880"/>
            <a:ext cx="325764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Pero claro, llega un punto en que tanta información no cabe en nuestra cabecita. Así que esta información acumulada empieza a distribuirse por todo el cuerpo. Y ahora lo entiendo todo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76520" y="2209680"/>
            <a:ext cx="5943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Times New Roman"/>
              </a:rPr>
              <a:t>No me sobran kilos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2981160" cy="3809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419720" y="2386080"/>
            <a:ext cx="41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Times New Roman"/>
              </a:rPr>
              <a:t>No estoy gorda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03160" y="3681360"/>
            <a:ext cx="26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Soy culta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19720" y="4900680"/>
            <a:ext cx="322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MUY culta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Times New Roman"/>
              </a:rPr>
              <a:t>PARA TODAS LAS MUJERES ESTUPENDAS QUE ANDAN POR AHÍ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SI SEÑOR!!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SOMOS PERFECTA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3600" y="2362320"/>
            <a:ext cx="3341520" cy="3962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62520" y="2428920"/>
            <a:ext cx="5181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orq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-No  nos quedamos calv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-Tenemos un día internacional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otro na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-Podemos usar tanto color ros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como az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empre sabemos que nuestro hijo es nuest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4572000" cy="4038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343400" y="2610000"/>
            <a:ext cx="4648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-Tenemos prioridad en 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naufrag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-No pagamos la cuen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omos los primeros rehenes en ser liberad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3520" y="3048120"/>
            <a:ext cx="3328920" cy="2931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254120" y="2330280"/>
            <a:ext cx="443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Times New Roman"/>
              </a:rPr>
              <a:t>-Si somos traicionada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800080"/>
                </a:solidFill>
                <a:latin typeface="Times New Roman"/>
              </a:rPr>
              <a:t>somos víctim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-Si traicionamos, el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son los cornud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imes New Roman"/>
              </a:rPr>
              <a:t>Podemos dormir con una amiga sin ser llamadas homosexua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3629160" cy="4352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886200" y="362592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-Podemos prestar aten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a varias cosas a la vez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3T12:39:30Z</dcterms:created>
  <dc:creator>Pruebas</dc:creator>
  <dc:description/>
  <dc:language>en-US</dc:language>
  <cp:lastModifiedBy>mcastillo</cp:lastModifiedBy>
  <dcterms:modified xsi:type="dcterms:W3CDTF">2007-02-23T13:37:42Z</dcterms:modified>
  <cp:revision>5</cp:revision>
  <dc:subject/>
  <dc:title>AUTOESTIMA FEMENINA</dc:title>
</cp:coreProperties>
</file>