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eRosyEnioMoriconeGabrielsOboe.wav" ContentType="audio/x-wav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C4E-9189-430C-BB50-86BDC7E9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732-C1FE-47B4-965C-95A54B90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99B-1B6E-4A2B-9614-D5DD9B11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56E-3C3E-4309-983B-01223761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C0E6-14D7-4100-A4DD-5ECDFD76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541E-2067-4EB2-9946-3678C643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4FE0-6A8F-4048-BFA5-2627AFFC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7D15-5779-4DC8-9E0E-8D97C198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F173-D5D6-4783-BEC1-86D0AFAA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3AF9-FF7E-4DEF-9CB1-3D08E9F3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86C3-4617-45EA-9EEF-9730C40B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8D3-D800-4903-8F9B-C997189E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E5F9-3642-4479-BC35-C45421A8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5FDD-7CA1-49F7-B5DC-4553DF1D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CC4C-030A-4F17-86AA-6FFA9CD1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1F78-7D4D-4883-952E-78F5AFD7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FC37-46CD-4DA9-AECA-93699A38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400-0F38-46AA-B39B-68FF1AB5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725-0BA7-4277-8459-C17321C3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B25-8137-4F4E-9C64-E8CCF80B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002-A207-417F-9B1E-86E79A7D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349-226B-40E2-83AD-8908FB7B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E2C-745F-4923-B8B7-CCA3E86C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EB9-63D4-4240-B717-BA216D15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A4FF-A07A-4CDE-9CB9-19A51EE7BDAB}" type="slidenum"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1D7D-AFAB-437F-A874-3C15855353B2}" type="slidenum"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eRosyEnioMoriconeGabrielsOboe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13440" y="2133720"/>
            <a:ext cx="637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Verdana"/>
              </a:rPr>
              <a:t>El texto es de un comercial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Verdana"/>
              </a:rPr>
              <a:t>creado por Washington Olivetto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8f8f8"/>
                </a:solidFill>
                <a:latin typeface="Verdana"/>
              </a:rPr>
              <a:t>que fue exhibido en los cine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Verdana"/>
              </a:rPr>
              <a:t>recientemente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Verdana"/>
              </a:rPr>
              <a:t>En el cine, la pantalla queda toda blanca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Verdana"/>
              </a:rPr>
              <a:t>y  la narración dice lo siguiente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deRosyEnioMoriconeGabrielsObo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i tiene efectos especi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Este comercial no tiene gente famos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i modelos publicitar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Porque este comercial es para vender un produ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que usted adora consum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y que, tal vez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usted ya haya comp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sólo que no lo están entregan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Es un producto que no tiene marc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o tiene slog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Este comercial no tiene mujer en biquin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o tiene envoltori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i hace promoción tipo “lleve 3, pague 2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Este comercial es todo blanc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y de esta man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9718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puede ser entendido aquí y en el mundo ent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9718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Y además sería muy bueno si este come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se pudiera pasar en el mundo ent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9718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Porque el producto que este comercial quiere vender 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300" spc="-1" strike="noStrike">
                <a:solidFill>
                  <a:srgbClr val="000000"/>
                </a:solidFill>
                <a:latin typeface="Verdana"/>
                <a:ea typeface="Arial"/>
              </a:rPr>
              <a:t>       </a:t>
            </a:r>
            <a:r>
              <a:rPr b="1" lang="en-US" sz="8300" spc="-1" strike="noStrike">
                <a:solidFill>
                  <a:srgbClr val="000000"/>
                </a:solidFill>
                <a:latin typeface="Verdana"/>
                <a:ea typeface="Arial"/>
              </a:rPr>
              <a:t>PAZ!</a:t>
            </a:r>
            <a:endParaRPr b="0" lang="en-US" sz="8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Y mientras que las personas que precisan comprar la PAZ no la compre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o tiene cachorro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haga así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Tome un poco de la PAZ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que usted todavía tiene en cas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y úsela en el tránsit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úsela en la fila del banc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úsela en el ascenso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úsela en el fútbo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¡La  PAZ es un producto interesant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Porque cuanto más usted la us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más PAZ usted obtie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Y si todo el mundo la 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o tiene niño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tal vez llegue el d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en que nadie má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precise hacer un come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81120" y="56520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Verdana"/>
                <a:ea typeface="Arial"/>
              </a:rPr>
              <a:t>para vender PAZ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o tiene beb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Este comercial no tiene parej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o tiene bes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9718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o tiene familia tomando el café de la mañana.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Este comercial no tiene música exitos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</cp:lastModifiedBy>
  <dcterms:modified xsi:type="dcterms:W3CDTF">2004-06-26T00:43:12Z</dcterms:modified>
  <cp:revision>29</cp:revision>
  <dc:subject/>
  <dc:title>O texto é de um comercial criado por Washington Olivetto e que foi Veiculado nos cinemas recentemente. No filme , a tela fica toda branca enquanto a narração diz o seguinte:</dc:title>
</cp:coreProperties>
</file>