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eRosyEnioMoriconeGabrielsOboe.wav" ContentType="audio/x-wav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A25-7936-4BB6-B1DB-801276EB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3FD-56E9-4521-A950-6136E6D2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290-FCA9-46DE-87FA-459D2DCD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008-BA47-4DA1-8873-3C4B9537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D59-2A4E-4731-8D6A-DCABF461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3472-C1A5-472A-BF19-4B71358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0865-6385-4793-9FC7-988F6D0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ABBD-27FB-48E2-9BF6-1239F3C3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731-F5ED-449E-AAE4-1D3CADDE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BF85-F0F6-4B13-BD82-BF32EB38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0D9-2C62-4023-A432-0DF51A0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03-D9DE-4F6F-923E-8B8AD13F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64C-639B-4BAB-8EA6-34A36E3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48B-9153-41AC-B114-9EF6E0A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68D9-43DA-4166-A509-BE0A0CC5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7D4D-5DEA-4B98-AD75-4E566FF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7483-2E0D-4DBE-B33F-4F99F8A7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4E3-8AF8-4548-9FF4-0606638C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214-BD96-4B48-914D-919DBC7D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D02-47D0-42E0-B811-D30F8221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967-5049-428F-905D-77DF4BD4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FD0-D077-4BB5-B779-1D37014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91C-EAB4-40CD-87D8-1F7F65CE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AF9-7E8D-449E-AC13-70594CF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640-1FF4-4B72-B860-76E1666FFC0B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F87-4072-4DE0-87DC-E33825064326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eRosyEnioMoriconeGabrielsOboe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13440" y="2133720"/>
            <a:ext cx="637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El texto es de un comercia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creado por Washington Olivetto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que fue exhibido en los cin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recientement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En el cine, la pantalla queda toda blanca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</a:rPr>
              <a:t>y  la narración dice lo siguiente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deRosyEnioMoriconeGabrielsObo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tiene efectos especi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gente famo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modelos public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este comercial es para vender un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que usted adora consum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que, tal vez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usted ya haya comp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sólo que no lo están entregan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 un producto que no tiene marc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slo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mujer en biquin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envoltori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i hace promoción tipo “lleve 3, pague 2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es todo blanc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de esta man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uede ser entendido aquí y en el mundo ent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971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además sería muy bueno si este come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se pudiera pasar en el mundo ent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el producto que este comercial quiere vender 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000000"/>
                </a:solidFill>
                <a:latin typeface="Verdana"/>
                <a:ea typeface="Arial"/>
              </a:rPr>
              <a:t>       </a:t>
            </a:r>
            <a:r>
              <a:rPr b="1" lang="en-US" sz="8300" spc="-1" strike="noStrike">
                <a:solidFill>
                  <a:srgbClr val="000000"/>
                </a:solidFill>
                <a:latin typeface="Verdana"/>
                <a:ea typeface="Arial"/>
              </a:rPr>
              <a:t>PAZ!</a:t>
            </a:r>
            <a:endParaRPr b="0" lang="en-US" sz="8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mientras que las personas que precisan comprar la PAZ no la compr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cachorr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haga as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Tome un poco de la PAZ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que usted todavía tiene en ca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úsela en el tránsit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la fila del banc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el ascenso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úsela en el fútb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¡La  PAZ es un producto interesant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orque cuanto más usted la u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más PAZ usted obtie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Y si todo el mundo la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niñ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tal vez llegue el d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n que nadie m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precise hacer un come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81120" y="5652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8f8f8"/>
                </a:solidFill>
                <a:latin typeface="Verdana"/>
                <a:ea typeface="Arial"/>
              </a:rPr>
              <a:t>para vender PAZ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beb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pare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bes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9718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no tiene familia tomando el café de la mañana.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Arial"/>
              </a:rPr>
              <a:t>Este comercial no tiene música exitos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04-06-26T00:43:12Z</dcterms:modified>
  <cp:revision>29</cp:revision>
  <dc:subject/>
  <dc:title>O texto é de um comercial criado por Washington Olivetto e que foi Veiculado nos cinemas recentemente. No filme , a tela fica toda branca enquanto a narração diz o seguinte:</dc:title>
</cp:coreProperties>
</file>