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Albinoni%20Largo%20Concerto%20n.8%20Track%20No12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302-4D2D-40B5-807E-89EA3A7E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C75-4272-4542-99C3-B36107D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375-B941-4252-B1A5-F39F755A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C6F-2AE9-42E5-A571-DDEAAF86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883-D89C-480E-8E16-8A4F2BFC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72A-6113-4BF6-BAD8-523C3539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65C-2426-4181-982B-A5EF544E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965-17BE-4EF7-A21C-D92F794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054-53EA-4EEB-A642-A8B9B93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E81-D0BE-400D-B2D9-A7F4A6B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8CE-821D-4AE2-9A82-AF2E3438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522-08C2-4CEE-B0C3-9D546725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F819-9E94-4BED-80E4-0EB69C9FF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binoni%20Largo%20Concerto%20n.8%20Track%20No1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SA%20Eucaristía%20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809880"/>
            <a:ext cx="7283520" cy="2838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La Palabra de Dios invita al conocimiento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y a la amistad con Él, a la intimidad del banqu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En definitiva, invita a “entrar en el Reino”, es decir,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creer sólo en “Abbá”, comportarse como hijo, 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pensar en “nosotros” más que en “y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La invitación es al Evangelio, a vivir en el Reino,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no en las tinieblas, no en el juicio, no en el temor,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no en el Sinaí, sino en el Monte de las Bienaventuran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cc"/>
                </a:solidFill>
                <a:latin typeface="Comic Sans MS"/>
              </a:rPr>
              <a:t>José Enrique Galar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ateo 22, 1-14. 28Tiempo Ordinario –A-. </a:t>
            </a:r>
            <a:br>
              <a:rPr sz="1400"/>
            </a:b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Comentarios y presentación: 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úsica: Albinoni. Concierto nº8. Lar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lbinoni%20Largo%20Concerto%20n.8%20Track%20No1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esús%20primer%20pl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cc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esús tomó de nuevo la palabra y les dijo esta parábol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019400"/>
            <a:ext cx="8991720" cy="283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Jesús continúa denunciando a los dirigentes religiosos. Con la parábola de l</a:t>
            </a:r>
            <a:r>
              <a:rPr b="0" lang="es-ES_tradnl" sz="1800" spc="-1" strike="noStrike">
                <a:solidFill>
                  <a:srgbClr val="ffff99"/>
                </a:solidFill>
                <a:latin typeface="Comic Sans MS"/>
              </a:rPr>
              <a:t>os invitados que no quieren acudir al banquete del Rey y son sustituidos por otros que en principio no habían sido invitados,</a:t>
            </a: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 insiste en la misma idea de los domingos anteriores. Una nueva comunidad sustituye a la que no produce frutos, a la que rechaza la invitación. 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Jesús habla de lo que llamaba “El Reino”, de la relación con Dios y con l@s demás, que no es una serie de contenidos teóricos sino una invitación a cambiar de valores y actitudes, un modo nuevo de viv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Jesús es parábola y narra parábolas” (E.Schillebeeck), y lo hace de manera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magist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esa_flores_bod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-Con el reino de los cielos sucede lo que con aquel rey que celebraba la boda de su hijo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nvió a sus criados para llamar a los invitados a la boda, pero no quisieron venir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De nuevo envió otros criados encargándoles que dijeran a los invitados: «Mi banquete está preparado, he matado becerros y cebones, y todo está a punto; venid a la boda»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o ellos no hicieron caso, y se fueron unos a su campo y otros a su negocio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os demás, echando mano a los criados, los maltrataron y los mataron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l rey entonces se enojó y envió sus tropas para que acabasen con aquellos asesinos e incendiasen su ciu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19400"/>
            <a:ext cx="9144000" cy="2837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presenta el Reino como un banquete, como una bod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ímbolos de amistad, comunión, amor y felicida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ando los intereses de Dios no son nuestros intereses, Dios interesa po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por poco, por cualquier excusa, se le deja de 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 Reino se va por invitación, como a una boda, como a una fiest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en convoca al Banquete no manda, invit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más profundo de Dios se alcanza y acepta por invitació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cosas más profundas y esenciales no se hacen por obligación ni por deb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o por libre decisión, por libre respuesta a una invitación, a una sugerenci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una mirada, a un susurr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minos%20se%20encuentr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Después dijo a sus criados: «El banquete de boda está preparado, pero los invitados no eran dignos.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9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Id, pues, a los cruces de los caminos y convidad a la boda a todos los que encontréis».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10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os criados salieron a los caminos y reunieron a todos los que encontraron, malos y buenos; y la sala se llenó de invi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745080"/>
            <a:ext cx="9144000" cy="3111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s excusas y rechazos no detienen el plan de Di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Señor no suspende el banquete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invitación se extiende a “todos los que encontréis”. Es universal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por nuestros méritos sino por amor gratuito e incondicional del Pad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erriba todo privilegio y toda barr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“buenos y malos”, los “pobres y lisiados”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(Lc 14,21),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forman la nueva comunidad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Presento el cristianismo como lo más positivo y gozoso?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Como una fiesta digna de celebra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Lo he convertido en una serie de verdades a creer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 de normas a cumplir o de estructuras a respetar?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Mi vida transmite la acogida, la alegría, la fiesta, la ternura, el amor de Dios?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nos-mundo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 entrar el rey para ver a los comensales, observó que uno de ellos no llevaba traje de boda.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 dijo: «Amigo, ¿cómo has entrado aquí sin traje de boda?» Él se quedó c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19400"/>
            <a:ext cx="9144000" cy="25628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Lógicamente, no se trata de un costoso traje de ceremonia ni de etiqueta,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sino de la actit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Jesús quiere que los invitados e invitadas vistamos de fiesta: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que haya coherencia entre lo que decimos creer y nuestra vida.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Cambiar de vestido-conversión, requiere cambiar de mentalidad,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sentir la alegría y la confianza de saberse hijos e hijas del Padre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y llevar el estilo de vida, en medio de las alegrías y tristezas, salud o enfermedad, gozos o dificultades, que Jesús nos enseña con su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¿Qué actitudes me faltan para completar el traje adecuado para el Banque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320040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447920"/>
            <a:ext cx="3200400" cy="2361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AMINO%20DE%20LUZ%20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0"/>
            <a:ext cx="8305920" cy="1313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ntonces el rey dijo a los servidores: «Atadlo de pies y manos y echadlo fuera a las tinieblas; allí llorará y le rechinarán los dientes»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orque son muchos los llamados, pero pocos los escog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94080"/>
            <a:ext cx="9144000" cy="25628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uestro Dios es un Dios de vida, y no puede permitir que sus criatur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ngan como destino final la muerte ni la infelici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una constante en el Evangelio que las personas que se creen privilegiada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posesión de la verdad, mejores que las demás, se autoexcluye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 cierran la puerta de la Fi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basta con ser llamad@s –bautizad@s-, hay que querer ser elegid@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aciendo vida el mensaje de Jesús con alegría, sin ningún temor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que, aunque es exigente, como la libertad, la amistad, el amor..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llamada que conduce a la Fiesta, a la Plenitud y a 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UPO%20ALEGRÍ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35400">
            <a:off x="452160" y="225360"/>
            <a:ext cx="25527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 os olvidé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vid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914400"/>
            <a:ext cx="5638680" cy="42087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ando vengáis, no os olvidéis la vid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antenida caliente entre los braz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seáis espectadores. A retaz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la desparraméis por la ave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edla tal cual es, vida viv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oblegada de viento y de zarpaz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rañada; tiesa también con laz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paz, de amor, de júbilo pren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nid sin maquillar. Portad la dud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desencanto, el grito de prot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stios de todo aquello que hoy se lle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ero llegue vuestra alma bien desnu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n hambre de banquete, ansia de fies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par en par abierta a la vida nue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orge Blaj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6:34:56Z</dcterms:created>
  <dc:creator> Asun Gutiérrez</dc:creator>
  <dc:description/>
  <dc:language>en-US</dc:language>
  <cp:lastModifiedBy> </cp:lastModifiedBy>
  <dcterms:modified xsi:type="dcterms:W3CDTF">2011-10-02T17:10:57Z</dcterms:modified>
  <cp:revision>66</cp:revision>
  <dc:subject>jeasam@gmail.com</dc:subject>
  <dc:title>28 Tiempo Ordinario -A-</dc:title>
</cp:coreProperties>
</file>