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Albinoni%20Largo%20Concerto%20n.8%20Track%20No12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9C0-060A-4631-B645-E1EFA2A0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C40-D295-4673-96AC-D4B02801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820-94C0-47B8-813B-B9ABE78A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58D-A7B5-4926-8CBC-9AE85718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C0E-DE3F-44B6-8786-63BA4240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197-AC9E-41C1-96C3-6779DFC2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BFE-0F1D-43B6-91DC-B40C2B4C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DD7-1115-49BF-A707-5238E9BB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2A4-EE28-4F80-AA4B-29C48451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718-883D-4645-B3C2-BEA73D0C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2D4-5219-42CA-92BD-2C4212CF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EBF-AAC1-406A-B610-572729CD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76B4-93ED-4051-AEEA-A77BCA41F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binoni%20Largo%20Concerto%20n.8%20Track%20No12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SA%20Eucaristía%20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3809880"/>
            <a:ext cx="7283520" cy="2838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Comic Sans MS"/>
              </a:rPr>
              <a:t>La Palabra de Dios invita al conocimiento</a:t>
            </a:r>
            <a:br>
              <a:rPr sz="2000"/>
            </a:br>
            <a:r>
              <a:rPr b="0" lang="es-ES" sz="2000" spc="-1" strike="noStrike">
                <a:solidFill>
                  <a:srgbClr val="0033cc"/>
                </a:solidFill>
                <a:latin typeface="Comic Sans MS"/>
              </a:rPr>
              <a:t>y a la amistad con Él, a la intimidad del banque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Comic Sans MS"/>
              </a:rPr>
              <a:t>En definitiva, invita a “entrar en el Reino”, es decir,</a:t>
            </a:r>
            <a:br>
              <a:rPr sz="2000"/>
            </a:br>
            <a:r>
              <a:rPr b="0" lang="es-ES" sz="2000" spc="-1" strike="noStrike">
                <a:solidFill>
                  <a:srgbClr val="0033cc"/>
                </a:solidFill>
                <a:latin typeface="Comic Sans MS"/>
              </a:rPr>
              <a:t>creer sólo en “Abbá”, comportarse como hijo, </a:t>
            </a:r>
            <a:br>
              <a:rPr sz="2000"/>
            </a:br>
            <a:r>
              <a:rPr b="0" lang="es-ES" sz="2000" spc="-1" strike="noStrike">
                <a:solidFill>
                  <a:srgbClr val="0033cc"/>
                </a:solidFill>
                <a:latin typeface="Comic Sans MS"/>
              </a:rPr>
              <a:t>pensar en “nosotros” más que en “yo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Comic Sans MS"/>
              </a:rPr>
              <a:t>La invitación es al Evangelio, a vivir en el Reino,</a:t>
            </a:r>
            <a:br>
              <a:rPr sz="2000"/>
            </a:br>
            <a:r>
              <a:rPr b="0" lang="es-ES" sz="2000" spc="-1" strike="noStrike">
                <a:solidFill>
                  <a:srgbClr val="0033cc"/>
                </a:solidFill>
                <a:latin typeface="Comic Sans MS"/>
              </a:rPr>
              <a:t>no en las tinieblas, no en el juicio, no en el temor,</a:t>
            </a:r>
            <a:br>
              <a:rPr sz="2000"/>
            </a:br>
            <a:r>
              <a:rPr b="0" lang="es-ES" sz="2000" spc="-1" strike="noStrike">
                <a:solidFill>
                  <a:srgbClr val="0033cc"/>
                </a:solidFill>
                <a:latin typeface="Comic Sans MS"/>
              </a:rPr>
              <a:t>no en el Sinaí, sino en el Monte de las Bienaventuran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cc"/>
                </a:solidFill>
                <a:latin typeface="Comic Sans MS"/>
              </a:rPr>
              <a:t>José Enrique Galarr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09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Mateo 22, 1-14. 28Tiempo Ordinario –A-. </a:t>
            </a:r>
            <a:br>
              <a:rPr sz="1400"/>
            </a:b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Comentarios y presentación: Asun Gutiérre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omic Sans MS"/>
              </a:rPr>
              <a:t>Música: Albinoni. Concierto nº8. Lar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Albinoni%20Largo%20Concerto%20n.8%20Track%20No1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Jesús%20primer%20plan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cc"/>
                </a:solidFill>
                <a:latin typeface="Georgia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Georgia"/>
              </a:rPr>
              <a:t>Jesús tomó de nuevo la palabra y les dijo esta parábol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019400"/>
            <a:ext cx="8991720" cy="28371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Jesús continúa denunciando a los dirigentes religiosos. Con la parábola de l</a:t>
            </a:r>
            <a:r>
              <a:rPr b="0" lang="es-ES_tradnl" sz="1800" spc="-1" strike="noStrike">
                <a:solidFill>
                  <a:srgbClr val="ffff99"/>
                </a:solidFill>
                <a:latin typeface="Comic Sans MS"/>
              </a:rPr>
              <a:t>os invitados que no quieren acudir al banquete del Rey y son sustituidos por otros que en principio no habían sido invitados,</a:t>
            </a: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 insiste en la misma idea de los domingos anteriores. Una nueva comunidad sustituye a la que no produce frutos, a la que rechaza la invitación. </a:t>
            </a:r>
            <a:br>
              <a:rPr sz="1800"/>
            </a:b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Jesús habla de lo que llamaba “El Reino”, de la relación con Dios y con l@s demás, que no es una serie de contenidos teóricos sino una invitación a cambiar de valores y actitudes, un modo nuevo de viv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Jesús es parábola y narra parábolas” (E.Schillebeeck), y lo hace de manera</a:t>
            </a:r>
            <a:br>
              <a:rPr sz="1800"/>
            </a:br>
            <a:r>
              <a:rPr b="0" lang="es-ES" sz="1800" spc="-1" strike="noStrike">
                <a:solidFill>
                  <a:srgbClr val="ffff99"/>
                </a:solidFill>
                <a:latin typeface="Comic Sans MS"/>
              </a:rPr>
              <a:t>magist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esa_flores_boda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-Con el reino de los cielos sucede lo que con aquel rey que celebraba la boda de su hijo.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eorgi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Envió a sus criados para llamar a los invitados a la boda, pero no quisieron venir.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eorgi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De nuevo envió otros criados encargándoles que dijeran a los invitados: «Mi banquete está preparado, he matado becerros y cebones, y todo está a punto; venid a la boda».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eorgia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ero ellos no hicieron caso, y se fueron unos a su campo y otros a su negocio.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eorgia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Los demás, echando mano a los criados, los maltrataron y los mataron.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eorgia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El rey entonces se enojó y envió sus tropas para que acabasen con aquellos asesinos e incendiasen su ciu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019400"/>
            <a:ext cx="9144000" cy="28371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esús presenta el Reino como un banquete, como una boda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ímbolos de amistad, comunión, amor y felicidad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uando los intereses de Dios no son nuestros intereses, Dios interesa poc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por poco, por cualquier excusa, se le deja de l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 Reino se va por invitación, como a una boda, como a una fiesta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ien convoca al Banquete no manda, invita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 más profundo de Dios se alcanza y acepta por invitació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 cosas más profundas y esenciales no se hacen por obligación ni por deber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o por libre decisión, por libre respuesta a una invitación, a una sugerencia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 una mirada, a un susurr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aminos%20se%20encuentra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1618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8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Después dijo a sus criados: «El banquete de boda está preparado, pero los invitados no eran dignos. </a:t>
            </a: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9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Id, pues, a los cruces de los caminos y convidad a la boda a todos los que encontréis».</a:t>
            </a:r>
            <a:r>
              <a:rPr b="0" lang="en-US" sz="2000" spc="-1" strike="noStrike" baseline="30000">
                <a:solidFill>
                  <a:srgbClr val="336600"/>
                </a:solidFill>
                <a:latin typeface="Georgia"/>
              </a:rPr>
              <a:t>10</a:t>
            </a:r>
            <a:r>
              <a:rPr b="0" lang="en-US" sz="2000" spc="-1" strike="noStrike">
                <a:solidFill>
                  <a:srgbClr val="336600"/>
                </a:solidFill>
                <a:latin typeface="Georgia"/>
              </a:rPr>
              <a:t>Los criados salieron a los caminos y reunieron a todos los que encontraron, malos y buenos; y la sala se llenó de invi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745080"/>
            <a:ext cx="9144000" cy="31114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s excusas y rechazos no detienen el plan de Dio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Señor no suspende el banquete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a invitación se extiende a “todos los que encontréis”. Es universal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 por nuestros méritos sino por amor gratuito e incondicional del Pad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esús derriba todo privilegio y toda barr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Los “buenos y malos”, los “pobres y lisiados” 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(Lc 14,21),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forman la nueva comunidad.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¿Presento el cristianismo como lo más positivo y gozoso?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¿Como una fiesta digna de celebra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¿Lo he convertido en una serie de verdades a creer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 de normas a cumplir o de estructuras a respetar?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¿Mi vida transmite la acogida, la alegría, la fiesta, la ternura, el amor de Dios?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anos-mundo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l entrar el rey para ver a los comensales, observó que uno de ellos no llevaba traje de boda.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 dijo: «Amigo, ¿cómo has entrado aquí sin traje de boda?» Él se quedó cal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019400"/>
            <a:ext cx="9144000" cy="25628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Lógicamente, no se trata de un costoso traje de ceremonia ni de etiqueta, </a:t>
            </a:r>
            <a:br>
              <a:rPr sz="1800"/>
            </a:b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sino de la actit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Comic Sans MS"/>
              </a:rPr>
              <a:t>Jesús quiere que los invitados e invitadas vistamos de fiesta: </a:t>
            </a:r>
            <a:br>
              <a:rPr sz="1800"/>
            </a:br>
            <a:r>
              <a:rPr b="0" lang="es-ES_tradnl" sz="1800" spc="-1" strike="noStrike">
                <a:solidFill>
                  <a:srgbClr val="663300"/>
                </a:solidFill>
                <a:latin typeface="Comic Sans MS"/>
              </a:rPr>
              <a:t>que haya coherencia entre lo que decimos creer y nuestra vida. </a:t>
            </a:r>
            <a:br>
              <a:rPr sz="1800"/>
            </a:br>
            <a:r>
              <a:rPr b="0" lang="es-ES_tradnl" sz="1800" spc="-1" strike="noStrike">
                <a:solidFill>
                  <a:srgbClr val="663300"/>
                </a:solidFill>
                <a:latin typeface="Comic Sans MS"/>
              </a:rPr>
              <a:t>Cambiar de vestido-conversión, requiere cambiar de mentalidad, </a:t>
            </a:r>
            <a:br>
              <a:rPr sz="1800"/>
            </a:br>
            <a:r>
              <a:rPr b="0" lang="es-ES_tradnl" sz="1800" spc="-1" strike="noStrike">
                <a:solidFill>
                  <a:srgbClr val="663300"/>
                </a:solidFill>
                <a:latin typeface="Comic Sans MS"/>
              </a:rPr>
              <a:t>sentir la alegría y la confianza de saberse hijos e hijas del Padre </a:t>
            </a:r>
            <a:br>
              <a:rPr sz="1800"/>
            </a:br>
            <a:r>
              <a:rPr b="0" lang="es-ES_tradnl" sz="1800" spc="-1" strike="noStrike">
                <a:solidFill>
                  <a:srgbClr val="663300"/>
                </a:solidFill>
                <a:latin typeface="Comic Sans MS"/>
              </a:rPr>
              <a:t>y llevar el estilo de vida, en medio de las alegrías y tristezas, salud o enfermedad, gozos o dificultades, que Jesús nos enseña con su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3300"/>
                </a:solidFill>
                <a:latin typeface="Comic Sans MS"/>
              </a:rPr>
              <a:t>¿Qué actitudes me faltan para completar el traje adecuado para el Banque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3200400" cy="228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1447920"/>
            <a:ext cx="3200400" cy="2361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AMINO%20DE%20LUZ%20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0"/>
            <a:ext cx="8305920" cy="131364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13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Entonces el rey dijo a los servidores: «Atadlo de pies y manos y echadlo fuera a las tinieblas; allí llorará y le rechinarán los dientes».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eorgia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Porque son muchos los llamados, pero pocos los escog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294080"/>
            <a:ext cx="9144000" cy="25628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uestro Dios es un Dios de vida, y no puede permitir que sus criatura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engan como destino final la muerte ni la infelicidad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 una constante en el Evangelio que las personas que se creen privilegiadas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posesión de la verdad, mejores que las demás, se autoexcluyen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 cierran la puerta de la Fie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 basta con ser llamad@s –bautizad@s-, hay que querer ser elegid@s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haciendo vida el mensaje de Jesús con alegría, sin ningún temor,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rque, aunque es exigente, como la libertad, la amistad, el amor..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 llamada que conduce a la Fiesta, a la Plenitud y a la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GRUPO%20ALEGRÍ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 rot="35400">
            <a:off x="452160" y="225360"/>
            <a:ext cx="255276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 os olvidéi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a vid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914400"/>
            <a:ext cx="5638680" cy="420876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uando vengáis, no os olvidéis la vida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antenida caliente entre los brazo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 seáis espectadores. A retaz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no la desparraméis por la aven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edla tal cual es, vida vivi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oblegada de viento y de zarpaz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rañada; tiesa también con lazo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paz, de amor, de júbilo prend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Venid sin maquillar. Portad la duda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l desencanto, el grito de prote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Vestios de todo aquello que hoy se lle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ero llegue vuestra alma bien desnud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on hambre de banquete, ansia de fiest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par en par abierta a la vida nue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Jorge Blaj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6:34:56Z</dcterms:created>
  <dc:creator> Asun Gutiérrez</dc:creator>
  <dc:description/>
  <dc:language>en-US</dc:language>
  <cp:lastModifiedBy> </cp:lastModifiedBy>
  <dcterms:modified xsi:type="dcterms:W3CDTF">2011-10-02T17:10:57Z</dcterms:modified>
  <cp:revision>66</cp:revision>
  <dc:subject>jeasam@gmail.com</dc:subject>
  <dc:title>28 Tiempo Ordinario -A-</dc:title>
</cp:coreProperties>
</file>