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Black%20-%20Wonderful%20Life.wav" ContentType="audio/x-wav"/>
  <Override PartName="/ppt/media/image14.jpeg" ContentType="image/jpe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3B5E-C9D0-4E8D-BFD0-92F3170505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8DBE-443E-4802-AEA2-C7DC45C7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7550-BC7D-4F77-9040-5CA54893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7705-AB33-4F51-A3D0-24F68B5E6F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41CA5-DDC6-48C1-A174-5C6C7770E5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09B11-E4AF-4128-945E-1FE735F9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0FCFA-D1C8-4C10-95B1-9B0DB99B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51430-A85E-4651-9BC8-CDA52A4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0F767-9919-406F-94FD-6245620B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D055C-039E-40EE-AE33-7B612C2C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A41ED-BA68-4976-8578-D4C8250E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47B5-AD60-490B-9EC4-C7F41817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E8597-F080-4220-96D2-C60B08A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92566-6C6A-451E-AADF-160DF680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517F3-E3E9-42FC-9099-967CBD15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24686-ED33-4210-B5DB-03EDE524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8E72A-4FAC-41F0-BEF3-AFB0FDB755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76B6-80B7-45EB-A475-BFA64AA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9C8F-6074-40F8-A1D1-F25D918F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544A-38F9-42C6-9691-04B14562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0DB9-0D07-45DE-A816-16553C56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F1E2-7E04-48A8-964F-F72C7445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F31F-9BEB-4563-B500-1F180ACB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96FC-2A3E-46F2-BFAC-569C9513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926F85-F843-42C7-B35F-5BB56E819FA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C631BB-82C2-4479-9489-24E942001EDF}" type="slidenum">
              <a:rPr b="0" lang="es-ES_tradnl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Black%20-%20Wonderful%20Lif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30600" y="3608280"/>
            <a:ext cx="6181560" cy="11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 thruBlk="true"/>
    <p:sndAc>
      <p:stSnd>
        <p:snd r:embed="rId3" name="Black%20-%20Wonderful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 fill="hold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 fill="hold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 fill="hold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00280" y="5157720"/>
            <a:ext cx="492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transmitiré alivio, cuando vea dolor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7000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0" y="4581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regalaré motivos de alegría donde solo haya tristeza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0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85880" y="465300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Invitaré a caminar al que decidió quedarse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6000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0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0" y="44370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levantaré los brazos, a los que se han rendido.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0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141720"/>
            <a:ext cx="66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32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Porque en medio de la desolación, siempre habrá un niño que nos mirará, esperanzado, esperando algo de nosotros, y aún en medio de una tormenta, por algún lado saldrá el sol y en medio del desierto crecerá una plan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46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0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00280" y="4076640"/>
            <a:ext cx="52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32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iempre habrá un pájaro que nos cante, un niño que nos sonría y una mariposa que nos brinde su bellez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6000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0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3708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32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Pero...si algún día ves que ya no sigo, no sonrío o callo, solo acércate y dame un beso, un abrazo o regálame una sonrisa, con eso será suficiente, seguramente me habrá pasado que la vida me abofeteó y me sorprendió por un segund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3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0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3429000"/>
            <a:ext cx="5214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olo un gesto tuyo hará que vuelva a mi camin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Nunca lo olvides.......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3000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dur="indefinite" fill="hold">
                      <p:stCondLst>
                        <p:cond delay="0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5640" y="2565360"/>
            <a:ext cx="51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8000"/>
                </a:solidFill>
                <a:latin typeface="Aardvark Cafe"/>
              </a:rPr>
              <a:t>Y recuerda: la felicidad está al alcance de tu mano solo has de alargar tus dedito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8000"/>
                </a:solidFill>
                <a:latin typeface="Aardvark Cafe"/>
              </a:rPr>
              <a:t>“</a:t>
            </a:r>
            <a:r>
              <a:rPr b="0" i="1" lang="es-ES_tradnl" sz="4000" spc="-1" strike="noStrike">
                <a:solidFill>
                  <a:srgbClr val="008000"/>
                </a:solidFill>
                <a:latin typeface="Aardvark Cafe"/>
              </a:rPr>
              <a:t>Linda Clown”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266040" y="71424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ardvark Cafe"/>
              </a:rPr>
              <a:t>Fotografía artística: </a:t>
            </a:r>
            <a:r>
              <a:rPr b="1" lang="es-ES_tradnl" sz="2800" spc="-1" strike="noStrike">
                <a:solidFill>
                  <a:srgbClr val="00ff00"/>
                </a:solidFill>
                <a:latin typeface="Aardvark Cafe"/>
              </a:rPr>
              <a:t>LEONIDA FREN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46000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0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8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7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96" fill="hold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98" fill="hold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46" fill="hold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00160" y="4508640"/>
            <a:ext cx="5786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reyendo ,aún cuando la gente pierda la esperanz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0" y="4149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dando amor, aunque otros siembren odi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7120" y="4005360"/>
            <a:ext cx="500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onstruyendo, aún cuando otros destruyan.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0" y="407664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hablando de Paz, aún en medio de una guerr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3000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0" y="4149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Voy a seguir iluminando, aún en medio de la oscuridad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0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0" y="429264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seguiré sembrando, aunque otros pisen la cosech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0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00720" y="4653000"/>
            <a:ext cx="46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seguiré gritando, aún cuando otros callen.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7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85960" y="4653000"/>
            <a:ext cx="46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dibujaré sonrisas, en rostros con lágrimas</a:t>
            </a:r>
            <a:r>
              <a:rPr b="1" i="1" lang="es-ES_tradnl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8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ABEL</dc:creator>
  <dc:description/>
  <dc:language>en-US</dc:language>
  <cp:lastModifiedBy>JOSE MARIA</cp:lastModifiedBy>
  <cp:revision>0</cp:revision>
  <dc:subject/>
  <dc:title>Diapositiva 1</dc:title>
</cp:coreProperties>
</file>