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Black%20-%20Wonderful%20Life.wav" ContentType="audio/x-wav"/>
  <Override PartName="/ppt/media/image14.jpeg" ContentType="image/jpeg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4A3E-E136-45F4-A625-9DACD217AF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D9F9-6F8E-4544-8AA5-B74480CE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02E6-A7B0-4EEE-BFAD-4CE929F5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13E5-1759-4600-94CA-D75EB90830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9971C-6EDD-476B-89EF-2E97D7386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C7B4B-B62B-48DD-B172-F8E9DB6A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AB6F1-94B7-47D4-9E28-D08DCFC5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34496-A889-4F90-AED9-92B44D4B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FCFCE-141A-4754-9379-53426A7C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21782-9F39-4D7C-8C07-5E5B3A22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CBF72-7F4E-4620-AF07-93752342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A2A4-28C6-47DB-9C39-B4A9927D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42B94-2D06-4FFE-99E8-8962E61E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B79D1-9697-4D77-9A93-B5C46987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51555-16DA-4961-B507-C9CB4A63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7AF10-67D4-4CA5-978D-F861BBDC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767E2-020E-405F-81A3-01DFD75226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B998-A30A-496D-8659-1C97544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576B-0E71-4676-8CE2-6C1D306A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A232-DD6C-44B4-B333-DB577749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FA3F-32A4-4300-88BB-71D46BA0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E76E-E34B-4808-B062-BA99D415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3FA2-E311-4368-8732-BC3B387A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847A-BA5A-4F7C-823A-FA3BCE8F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45FECF-D28C-448D-B74B-22BDA695E60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C62816-91BD-44A6-930C-3F40F36CF598}" type="slidenum">
              <a:rPr b="0" lang="es-ES_tradnl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Black%20-%20Wonderful%20Lif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30600" y="3608280"/>
            <a:ext cx="6181560" cy="11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 thruBlk="true"/>
    <p:sndAc>
      <p:stSnd>
        <p:snd r:embed="rId3" name="Black%20-%20Wonderful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 fill="hold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 fill="hold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 fill="hold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00280" y="5157720"/>
            <a:ext cx="492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transmitiré alivio, cuando vea dolor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7000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0" y="4581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regalaré motivos de alegría donde solo haya tristeza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0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85880" y="465300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Invitaré a caminar al que decidió quedarse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6000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0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0" y="44370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levantaré los brazos, a los que se han rendido.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0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141720"/>
            <a:ext cx="664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32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Porque en medio de la desolación, siempre habrá un niño que nos mirará, esperanzado, esperando algo de nosotros, y aún en medio de una tormenta, por algún lado saldrá el sol y en medio del desierto crecerá una plan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46000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0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00280" y="4076640"/>
            <a:ext cx="52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32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Siempre habrá un pájaro que nos cante, un niño que nos sonría y una mariposa que nos brinde su bellez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6000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0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3708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32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Pero...si algún día ves que ya no sigo, no sonrío o callo, solo acércate y dame un beso, un abrazo o regálame una sonrisa, con eso será suficiente, seguramente me habrá pasado que la vida me abofeteó y me sorprendió por un segund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3000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fill="hold">
                      <p:stCondLst>
                        <p:cond delay="0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3429000"/>
            <a:ext cx="5214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Solo un gesto tuyo hará que vuelva a mi camin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Nunca lo olvides.......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3000"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0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5640" y="2565360"/>
            <a:ext cx="51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8000"/>
                </a:solidFill>
                <a:latin typeface="Aardvark Cafe"/>
              </a:rPr>
              <a:t>Y recuerda: la felicidad está al alcance de tu mano solo has de alargar tus dedito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8000"/>
                </a:solidFill>
                <a:latin typeface="Aardvark Cafe"/>
              </a:rPr>
              <a:t>“</a:t>
            </a:r>
            <a:r>
              <a:rPr b="0" i="1" lang="es-ES_tradnl" sz="4000" spc="-1" strike="noStrike">
                <a:solidFill>
                  <a:srgbClr val="008000"/>
                </a:solidFill>
                <a:latin typeface="Aardvark Cafe"/>
              </a:rPr>
              <a:t>Linda Clown”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266040" y="71424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ardvark Cafe"/>
              </a:rPr>
              <a:t>Fotografía artística: </a:t>
            </a:r>
            <a:r>
              <a:rPr b="1" lang="es-ES_tradnl" sz="2800" spc="-1" strike="noStrike">
                <a:solidFill>
                  <a:srgbClr val="00ff00"/>
                </a:solidFill>
                <a:latin typeface="Aardvark Cafe"/>
              </a:rPr>
              <a:t>LEONIDA FREN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46000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0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8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7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96" fill="hold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98" fill="hold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46" fill="hold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00160" y="4508640"/>
            <a:ext cx="5786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creyendo ,aún cuando la gente pierda la esperanz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0" y="4149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dando amor, aunque otros siembren odi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0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7120" y="4005360"/>
            <a:ext cx="500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construyendo, aún cuando otros destruyan.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0" y="407664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hablando de Paz, aún en medio de una guerra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3000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0" y="4149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Voy a seguir iluminando, aún en medio de la oscuridad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0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0" y="429264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seguiré sembrando, aunque otros pisen la cosecha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0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00720" y="4653000"/>
            <a:ext cx="46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seguiré gritando, aún cuando otros callen.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700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85960" y="4653000"/>
            <a:ext cx="46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dibujaré sonrisas, en rostros con lágrimas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8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0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ABEL</dc:creator>
  <dc:description/>
  <dc:language>en-US</dc:language>
  <cp:lastModifiedBy>JOSE MARIA</cp:lastModifiedBy>
  <cp:revision>0</cp:revision>
  <dc:subject/>
  <dc:title>Diapositiva 1</dc:title>
</cp:coreProperties>
</file>