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19E0D-3FAB-4CD3-852C-8C8197447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16FEE-5D3F-4F7D-98AD-D55636630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53483-F74C-41D5-8271-D1714AA22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9F950-75EA-4941-BFB2-10EA35FFE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2979E-DDAC-4001-BCC3-CD44F707F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AAAEB-E193-4A94-A432-5801F4930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6537B-6D44-4292-8912-772EE019F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2489B-7189-4855-8874-07C96B340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4A340-BEF4-4FC3-BBEF-CB5B99C27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E6248-AF94-42C0-936D-106ECFA10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BCE03-DA16-4F98-ADF9-7000D0E72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CA349-3C75-40FC-A816-66CB0F5FB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2D60-E866-45C3-83CC-B496F2730333}"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b9cde5"/>
                </a:solidFill>
                <a:latin typeface="Comic Sans MS"/>
              </a:rPr>
              <a:t>Escultura en honor a Nelson Mandela </a:t>
            </a:r>
            <a:endParaRPr b="0" lang="en-US" sz="5400" spc="-1" strike="noStrike">
              <a:solidFill>
                <a:srgbClr val="000000"/>
              </a:solidFill>
              <a:latin typeface="Calibri"/>
            </a:endParaRPr>
          </a:p>
        </p:txBody>
      </p:sp>
      <p:sp>
        <p:nvSpPr>
          <p:cNvPr id="42" name="1 Rectángulo"/>
          <p:cNvSpPr/>
          <p:nvPr/>
        </p:nvSpPr>
        <p:spPr>
          <a:xfrm>
            <a:off x="2124000" y="4222800"/>
            <a:ext cx="4950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b9cde5"/>
                </a:solidFill>
                <a:latin typeface="Comic Sans MS"/>
              </a:rPr>
              <a:t>El increíble monumento a Nelson Mandela, que es una perfecta ilusión ópti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1 Rectángulo"/>
          <p:cNvSpPr/>
          <p:nvPr/>
        </p:nvSpPr>
        <p:spPr>
          <a:xfrm>
            <a:off x="539640" y="981000"/>
            <a:ext cx="7993080" cy="520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9cde5"/>
                </a:solidFill>
                <a:latin typeface="Comic Sans MS"/>
              </a:rPr>
              <a:t>ES SENCILLAMENTE LO MÁS BELLO QUE COMO ESCULTURA SE HA HECHO PARA HOMENAJEAR A UN HOMBRE COMO MANDELA, QUIEN LE ENSEÑÓ AL MUNDO ENTERO LO QUE ES EL PERDÓN Y LA GRANDEZA DE ESPÍRITU</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9cde5"/>
                </a:solidFill>
                <a:latin typeface="Comic Sans MS"/>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9cde5"/>
                </a:solidFill>
                <a:latin typeface="Comic Sans MS"/>
              </a:rPr>
              <a:t>El 5 de agosto de 1962 Nelson Mandela fue arrestado por el régimen segregacionista sudafricano y, tras el Proceso de Rivonia, se le condenó a cadena perpetua. Tras pasar 27 años encarcelado y convertirse en un símbolo universal en favor de la paz y de la lucha contra el apartheid, la comunidad internacional consiguió su puesta en libertad el 11 de febrero de 1990.</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9cde5"/>
                </a:solidFill>
                <a:latin typeface="Comic Sans MS"/>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9cde5"/>
                </a:solidFill>
                <a:latin typeface="Comic Sans MS"/>
              </a:rPr>
              <a:t>Consiste en 50 placas de acero con 10 metros de altura cada una, cortadas con láser e insertadas en el paisaje, representando el 50º aniversario de la captura y puesta en prisión de Nelson Mandela, el 6 de agosto de 1962.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b9cde5"/>
                </a:solidFill>
                <a:latin typeface="Comic Sans MS"/>
              </a:rPr>
              <a:t>La escultura está en el terreno donde quedaba la prisión, sobre el área donde estuvo su celda por 27 largos años. En un punto específico de observasión, la perspectiva de las columnas sorprende al verse la imagen de Nelson Mandela. El escultor fue Marco Cianfanelli, quien nació en Johannesburgo en 1970 y se graduó con la distinción en Bellas Artes, en la Universidad de Witwatersrand en 199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b9cde5"/>
                </a:solidFill>
                <a:latin typeface="Comic Sans MS"/>
              </a:rPr>
              <a:t>“</a:t>
            </a:r>
            <a:r>
              <a:rPr b="1" lang="es-ES" sz="1400" spc="-1" strike="noStrike">
                <a:solidFill>
                  <a:srgbClr val="b9cde5"/>
                </a:solidFill>
                <a:latin typeface="Comic Sans MS"/>
              </a:rPr>
              <a:t>Esto representa el impulso logrado en la lucha a través de lo simbólico de la captura de Mandela. Las 50 columnas representan los 50 años transcurridos desde su captura, pero también sugieren la idea de muchos haciendo el todo, de solidaridad. Apunta a una ironía, que el acto político del encarcelamiento de Mandela cimentó su estatus como ícono de la lucha, lo que ayudó a fermentar la oleada de resistencia, solidaridad y levantamiento, para lograr el cambio político y la democracia.” - </a:t>
            </a:r>
            <a:r>
              <a:rPr b="1" i="1" lang="es-ES" sz="1400" spc="-1" strike="noStrike">
                <a:solidFill>
                  <a:srgbClr val="b9cde5"/>
                </a:solidFill>
                <a:latin typeface="Comic Sans MS"/>
              </a:rPr>
              <a:t>Marco Cianfanelli</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43">
                                            <p:txEl>
                                              <p:pRg st="2" end="2"/>
                                            </p:txEl>
                                          </p:spTgt>
                                        </p:tgtEl>
                                        <p:attrNameLst>
                                          <p:attrName>style.visibility</p:attrName>
                                        </p:attrNameLst>
                                      </p:cBhvr>
                                      <p:to>
                                        <p:strVal val="visible"/>
                                      </p:to>
                                    </p:set>
                                    <p:animEffect filter="dissolve" transition="in">
                                      <p:cBhvr additive="repl">
                                        <p:cTn id="14" dur="500"/>
                                        <p:tgtEl>
                                          <p:spTgt spid="43">
                                            <p:txEl>
                                              <p:pRg st="2" end="2"/>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43">
                                            <p:txEl>
                                              <p:pRg st="4" end="4"/>
                                            </p:txEl>
                                          </p:spTgt>
                                        </p:tgtEl>
                                        <p:attrNameLst>
                                          <p:attrName>style.visibility</p:attrName>
                                        </p:attrNameLst>
                                      </p:cBhvr>
                                      <p:to>
                                        <p:strVal val="visible"/>
                                      </p:to>
                                    </p:set>
                                    <p:animEffect filter="dissolve" transition="in">
                                      <p:cBhvr additive="repl">
                                        <p:cTn id="19" dur="500"/>
                                        <p:tgtEl>
                                          <p:spTgt spid="43">
                                            <p:txEl>
                                              <p:pRg st="4" end="4"/>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3">
                                            <p:txEl>
                                              <p:pRg st="5" end="5"/>
                                            </p:txEl>
                                          </p:spTgt>
                                        </p:tgtEl>
                                        <p:attrNameLst>
                                          <p:attrName>style.visibility</p:attrName>
                                        </p:attrNameLst>
                                      </p:cBhvr>
                                      <p:to>
                                        <p:strVal val="visible"/>
                                      </p:to>
                                    </p:set>
                                    <p:animEffect filter="dissolve" transition="in">
                                      <p:cBhvr additive="repl">
                                        <p:cTn id="24" dur="500"/>
                                        <p:tgtEl>
                                          <p:spTgt spid="43">
                                            <p:txEl>
                                              <p:pRg st="5" end="5"/>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3">
                                            <p:txEl>
                                              <p:pRg st="6" end="6"/>
                                            </p:txEl>
                                          </p:spTgt>
                                        </p:tgtEl>
                                        <p:attrNameLst>
                                          <p:attrName>style.visibility</p:attrName>
                                        </p:attrNameLst>
                                      </p:cBhvr>
                                      <p:to>
                                        <p:strVal val="visible"/>
                                      </p:to>
                                    </p:set>
                                    <p:animEffect filter="dissolve" transition="in">
                                      <p:cBhvr additive="repl">
                                        <p:cTn id="29" dur="500"/>
                                        <p:tgtEl>
                                          <p:spTgt spid="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1 Imagen"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1 Imagen"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1 Imagen" descr=""/>
          <p:cNvPicPr/>
          <p:nvPr/>
        </p:nvPicPr>
        <p:blipFill>
          <a:blip r:embed="rId1"/>
          <a:stretch/>
        </p:blipFill>
        <p:spPr>
          <a:xfrm>
            <a:off x="0" y="371520"/>
            <a:ext cx="9144000" cy="608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1 Imagen" descr=""/>
          <p:cNvPicPr/>
          <p:nvPr/>
        </p:nvPicPr>
        <p:blipFill>
          <a:blip r:embed="rId1"/>
          <a:stretch/>
        </p:blipFill>
        <p:spPr>
          <a:xfrm>
            <a:off x="0" y="404640"/>
            <a:ext cx="9144000" cy="607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1 Imagen" descr=""/>
          <p:cNvPicPr/>
          <p:nvPr/>
        </p:nvPicPr>
        <p:blipFill>
          <a:blip r:embed="rId1"/>
          <a:stretch/>
        </p:blipFill>
        <p:spPr>
          <a:xfrm>
            <a:off x="-1584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9T01:56:45Z</dcterms:created>
  <dc:creator>Luffi</dc:creator>
  <dc:description/>
  <dc:language>en-US</dc:language>
  <cp:lastModifiedBy>Luffi</cp:lastModifiedBy>
  <dcterms:modified xsi:type="dcterms:W3CDTF">2013-02-17T13:23:41Z</dcterms:modified>
  <cp:revision>5</cp:revision>
  <dc:subject/>
  <dc:title>Presentación de PowerPoint</dc:title>
</cp:coreProperties>
</file>