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840-F50E-4026-8A75-B3A72AFF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993-6CEE-4A54-85F0-6FCF3FD3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334-9979-4A2F-A13A-96A11BED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1DC-AFD5-49DE-8778-16FABB93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D23-32B8-4542-BEB6-BB365114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CDF-5A20-4DB7-8714-AEE31DEA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3E9-1B0A-4878-83F8-5CDB955B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CC8-B5F6-4A7E-B48D-5569830F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DDD-5721-4678-8C16-72D63BF0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8C9-E0FA-4E28-86A6-5302D76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DFB-1AE1-498D-A7AE-9EF08785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45E-E9BB-46C8-A8C7-0D384B1B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35BA-3067-4AC0-887E-647A3EDC6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nzani-Co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ston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ston Mart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ston Martin DB2/4 Mk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ston Martin DB4 GT Zag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ston Martin D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ustin Healey 3000 Mk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ustin Healey Silver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u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5840" y="771480"/>
            <a:ext cx="8572320" cy="5315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uto Union Ty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lfa Romeo 1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alsa Peugeot 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ent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gatti T13 Bres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ga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ga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ga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Buick Indyr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Citroën 11 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6381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Chevrolet Corvette Grand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6237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lfa Romeo Tipo 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Delahaye 135 Le 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Dreyer-Miller 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D'Yr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572320" cy="529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Jaguar XK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lvis 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lvis Brooklands 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merican La France Typ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milcar C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milcar C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3817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Times New Roman"/>
              </a:rPr>
              <a:t>Amilcar C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2:34:26Z</dcterms:created>
  <dc:creator>christian.bechir</dc:creator>
  <dc:description/>
  <dc:language>en-US</dc:language>
  <cp:lastModifiedBy>christian.bechir</cp:lastModifiedBy>
  <dcterms:modified xsi:type="dcterms:W3CDTF">2009-08-28T13:42:34Z</dcterms:modified>
  <cp:revision>4</cp:revision>
  <dc:subject/>
  <dc:title>Diapositive 1</dc:title>
</cp:coreProperties>
</file>