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F89-D818-4F03-8062-1ABDC8A2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735-BF23-4402-BC0B-1931A1A9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44F-C853-498A-B6C2-6C501182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5E7-F8A3-43F1-A657-42041999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3CE-CC38-4F81-8D8C-78C47CF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3A4-D17D-44A3-A515-675F9E97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D3F-D76D-4968-8B09-0388CA0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630-32DE-4063-8841-C1CBC98F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FE3-91EE-4301-9DE1-3B40075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7D5-ECC6-4A06-A0B9-23CA405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A38-DAC5-45B9-9FAC-D6BE94F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66B-2745-48C2-B0D8-069DE9C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A68-1128-4482-9775-BA9C2148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nzani-Co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2/4 Mk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4 GT Za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 Healey 3000 M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 Healey Silver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to Union Ty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fa Romeo 1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alsa Peugeot 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en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 T13 Bres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ick Indy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Citroën 11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6381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Chevrolet Corvette Grand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fa Romeo Tipo 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elahaye 135 Le 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reyer-Miller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'Yr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Jaguar XK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vis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vis Brooklands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erican La France Typ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34:26Z</dcterms:created>
  <dc:creator>christian.bechir</dc:creator>
  <dc:description/>
  <dc:language>en-US</dc:language>
  <cp:lastModifiedBy>christian.bechir</cp:lastModifiedBy>
  <dcterms:modified xsi:type="dcterms:W3CDTF">2009-08-28T13:42:34Z</dcterms:modified>
  <cp:revision>4</cp:revision>
  <dc:subject/>
  <dc:title>Diapositive 1</dc:title>
</cp:coreProperties>
</file>