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43A-DB89-405F-AFCE-C0FD617F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3D1-EC67-4804-B521-68DA5C6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CE5-0A10-4C1C-9DFC-0A9CFC40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83C-EC52-42C2-8A1A-B6A55759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76F-7FFA-45FD-A05F-31F3D50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AE3-439C-4886-BB34-E0D48FBE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E01-3151-4031-9039-E973C86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5AC-CA49-47F3-81E5-44AA3C0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6CA-5EC7-4EF2-86B9-C3705EE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406-2599-4D90-8285-950F1B5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343-A38D-43E9-8B65-5C99C3EC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113-E9FA-4503-AAD6-0442C23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C4F6-E2CD-4834-AAAD-C0FF7291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5640" y="549000"/>
            <a:ext cx="5184720" cy="5544000"/>
            <a:chOff x="755640" y="549000"/>
            <a:chExt cx="5184720" cy="5544000"/>
          </a:xfrm>
        </p:grpSpPr>
        <p:sp>
          <p:nvSpPr>
            <p:cNvPr id="42" name=""/>
            <p:cNvSpPr/>
            <p:nvPr/>
          </p:nvSpPr>
          <p:spPr>
            <a:xfrm flipV="1">
              <a:off x="755640" y="549000"/>
              <a:ext cx="0" cy="5543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5640" y="6093000"/>
              <a:ext cx="5184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" name=""/>
          <p:cNvGraphicFramePr/>
          <p:nvPr/>
        </p:nvGraphicFramePr>
        <p:xfrm>
          <a:off x="2666880" y="1625760"/>
          <a:ext cx="3810240" cy="36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25760"/>
                    <a:ext cx="3810240" cy="36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55640" y="549000"/>
            <a:ext cx="5184720" cy="5544000"/>
            <a:chOff x="755640" y="549000"/>
            <a:chExt cx="5184720" cy="5544000"/>
          </a:xfrm>
        </p:grpSpPr>
        <p:sp>
          <p:nvSpPr>
            <p:cNvPr id="103" name=""/>
            <p:cNvSpPr/>
            <p:nvPr/>
          </p:nvSpPr>
          <p:spPr>
            <a:xfrm flipV="1">
              <a:off x="755640" y="549000"/>
              <a:ext cx="0" cy="5543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55640" y="6093000"/>
              <a:ext cx="5184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43160" y="1771560"/>
            <a:ext cx="2857680" cy="331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55166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KEEP WAL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l alcohol y las mujeres son el peor enemigo del hombre, pero el hombre que huye de sus enemigos es 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cobard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429000"/>
            <a:ext cx="432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-10008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008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ener celos por una mujer fea es como ponerle alarma a 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Fiat 600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429000"/>
            <a:ext cx="18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i un día miras al cielo y no ves estrellas, vete a casa porque ya 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amanecido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429000"/>
            <a:ext cx="360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 nada sirve tener plata y vestir ropas caras o de marca, si lo mejor de la vida se disfru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esnudo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3429000"/>
            <a:ext cx="4248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-10008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008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32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No dejes que nada te desanime, pues hasta una patada en el cul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e empuja h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adelant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3429000"/>
            <a:ext cx="4392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2880" y="1268280"/>
            <a:ext cx="8240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postura sexual más practicada es  la del perrito: él se arrodilla e implora; ella se da vuelta y se hace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muerta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429000"/>
            <a:ext cx="4392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s mejores amistades son como las nalgas: van siempre juntas, y no hay una mierda que 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separ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429000"/>
            <a:ext cx="4680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Antiguamente la homosexualidad en Argentina estaba prohibida; luego fue tolerada, y hoy es algo normal…  mejor emigro antes de que s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obligatoria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3429000"/>
            <a:ext cx="33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3:38Z</dcterms:created>
  <dc:creator>admin</dc:creator>
  <dc:description/>
  <dc:language>en-US</dc:language>
  <cp:lastModifiedBy>ROB</cp:lastModifiedBy>
  <dcterms:modified xsi:type="dcterms:W3CDTF">2010-08-20T02:59:06Z</dcterms:modified>
  <cp:revision>6</cp:revision>
  <dc:subject/>
  <dc:title>Diapositiva 1</dc:title>
</cp:coreProperties>
</file>