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ADA3-8B87-402F-958E-CC32760E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EAF-2C83-4886-B63E-9D90F78D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483-ADD1-4514-B1B7-73CB9ABA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A35-F8A3-4B38-9038-757FCAB5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0543-2E69-4D94-9B18-4450E89F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3298-21C5-4D05-AADD-DD7C6788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1B7A-3947-4B8D-B533-3E6DCBB4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EF8A-7D1D-418F-B8AA-2E86D7AD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C2E9-EABD-4ED5-91F6-7776DBD5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24D8-EF7A-455D-8CA3-D09C004B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26BE-4838-4795-8546-384D270A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188-97DF-432F-A4F3-A44C82CA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A4B6-F628-4765-BCA7-815900A4E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55640" y="549000"/>
            <a:ext cx="5184720" cy="5544000"/>
            <a:chOff x="755640" y="549000"/>
            <a:chExt cx="5184720" cy="5544000"/>
          </a:xfrm>
        </p:grpSpPr>
        <p:sp>
          <p:nvSpPr>
            <p:cNvPr id="42" name=""/>
            <p:cNvSpPr/>
            <p:nvPr/>
          </p:nvSpPr>
          <p:spPr>
            <a:xfrm flipV="1">
              <a:off x="755640" y="549000"/>
              <a:ext cx="0" cy="5543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755640" y="6093000"/>
              <a:ext cx="5184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" name=""/>
          <p:cNvGraphicFramePr/>
          <p:nvPr/>
        </p:nvGraphicFramePr>
        <p:xfrm>
          <a:off x="2666880" y="1625760"/>
          <a:ext cx="3810240" cy="36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25760"/>
                    <a:ext cx="3810240" cy="36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755640" y="549000"/>
            <a:ext cx="5184720" cy="5544000"/>
            <a:chOff x="755640" y="549000"/>
            <a:chExt cx="5184720" cy="5544000"/>
          </a:xfrm>
        </p:grpSpPr>
        <p:sp>
          <p:nvSpPr>
            <p:cNvPr id="103" name=""/>
            <p:cNvSpPr/>
            <p:nvPr/>
          </p:nvSpPr>
          <p:spPr>
            <a:xfrm flipV="1">
              <a:off x="755640" y="549000"/>
              <a:ext cx="0" cy="5543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55640" y="6093000"/>
              <a:ext cx="5184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143160" y="1771560"/>
            <a:ext cx="2857680" cy="3314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71640" y="551664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KEEP WAL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-65160"/>
          <a:ext cx="9144000" cy="69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65160"/>
                    <a:ext cx="9144000" cy="69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 flipH="1">
            <a:off x="755640" y="6093000"/>
            <a:ext cx="5184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55640" y="549000"/>
            <a:ext cx="0" cy="5543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32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El alcohol y las mujeres son el peor enemigo del hombre, pero el hombre que huye de sus enemigos es 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050920" y="285228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cobarde.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3429000"/>
            <a:ext cx="432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-100080"/>
          <a:ext cx="9144000" cy="69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00080"/>
                    <a:ext cx="9144000" cy="69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 flipH="1">
            <a:off x="755640" y="6093000"/>
            <a:ext cx="5184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55640" y="549000"/>
            <a:ext cx="0" cy="5543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32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Tener celos por una mujer fea es como ponerle alarma a u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050920" y="285228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Fiat 600.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3429000"/>
            <a:ext cx="1871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-65160"/>
          <a:ext cx="9144000" cy="69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65160"/>
                    <a:ext cx="9144000" cy="69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 flipH="1">
            <a:off x="755640" y="6093000"/>
            <a:ext cx="5184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55640" y="549000"/>
            <a:ext cx="0" cy="5543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32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Si un día miras al cielo y no ves estrellas, vete a casa porque ya 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050920" y="285228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amanecido.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3429000"/>
            <a:ext cx="360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-65160"/>
          <a:ext cx="9144000" cy="69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65160"/>
                    <a:ext cx="9144000" cy="69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 flipH="1">
            <a:off x="755640" y="6093000"/>
            <a:ext cx="5184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55640" y="549000"/>
            <a:ext cx="0" cy="5543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32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De nada sirve tener plata y vestir ropas caras o de marca, si lo mejor de la vida se disfru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2050920" y="285228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desnudo.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3429000"/>
            <a:ext cx="4248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-100080"/>
          <a:ext cx="9144000" cy="69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00080"/>
                    <a:ext cx="9144000" cy="69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 flipH="1">
            <a:off x="755640" y="6093000"/>
            <a:ext cx="5184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55640" y="549000"/>
            <a:ext cx="0" cy="5543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324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No dejes que nada te desanime, pues hasta una patada en el culo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te empuja ha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050920" y="285228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adelante.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3429000"/>
            <a:ext cx="4392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0" y="-65160"/>
          <a:ext cx="9144000" cy="69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65160"/>
                    <a:ext cx="9144000" cy="69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 flipH="1">
            <a:off x="755640" y="6093000"/>
            <a:ext cx="5184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5640" y="549000"/>
            <a:ext cx="0" cy="5543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2880" y="1268280"/>
            <a:ext cx="8240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La postura sexual más practicada es  la del perrito: él se arrodilla e implora; ella se da vuelta y se hace 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050920" y="285228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muerta.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3429000"/>
            <a:ext cx="4392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-65160"/>
          <a:ext cx="9144000" cy="69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65160"/>
                    <a:ext cx="9144000" cy="69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 flipH="1">
            <a:off x="755640" y="6093000"/>
            <a:ext cx="5184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755640" y="549000"/>
            <a:ext cx="0" cy="5543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32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Las mejores amistades son como las nalgas: van siempre juntas, y no hay una mierda que 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050920" y="285228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separe.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3429000"/>
            <a:ext cx="4680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-65160"/>
          <a:ext cx="9144000" cy="69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65160"/>
                    <a:ext cx="9144000" cy="69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 flipH="1">
            <a:off x="755640" y="6093000"/>
            <a:ext cx="5184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55640" y="549000"/>
            <a:ext cx="0" cy="5543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32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3800" spc="-1" strike="noStrike">
                <a:solidFill>
                  <a:srgbClr val="ffffff"/>
                </a:solidFill>
                <a:latin typeface="Times New Roman"/>
              </a:rPr>
              <a:t>Antiguamente la homosexualidad en Argentina estaba prohibida; luego fue tolerada, y hoy es algo normal…  mejor emigro antes de que se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0920" y="285228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obligatoria.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3429000"/>
            <a:ext cx="3384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7:03:38Z</dcterms:created>
  <dc:creator>admin</dc:creator>
  <dc:description/>
  <dc:language>en-US</dc:language>
  <cp:lastModifiedBy>ROB</cp:lastModifiedBy>
  <dcterms:modified xsi:type="dcterms:W3CDTF">2010-08-20T02:59:06Z</dcterms:modified>
  <cp:revision>6</cp:revision>
  <dc:subject/>
  <dc:title>Diapositiva 1</dc:title>
</cp:coreProperties>
</file>