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13.jpeg" ContentType="image/jpeg"/>
  <Override PartName="/ppt/media/IBELIE~11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CB2C-47BF-4900-8555-C7595CCEB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432C-0398-46D4-B5FA-558A5A36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AD63-62EA-47EE-9B5F-6286CFEF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2295-0692-4608-A6B1-B3A4636B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E625-20C5-437A-AFF2-9D4D0015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2E05-6405-4B3F-BEDB-3AAF65AB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BF63-7698-4860-ADE8-DC1242C0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AE0E-C896-451B-9835-6F988627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8CB7-0445-4AA4-BB3E-78639506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635C-6114-4FA8-B29E-23A81566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45AB-2CDA-4E16-B3AC-3B8D5B79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5F2B-711E-4D3D-906C-16DC8E46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A360-A49D-43DA-A604-B7731F2B59FF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audio" Target="../media/IBELIE~11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76360" y="458136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59280" y="2852640"/>
            <a:ext cx="468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LA OFENSA</a:t>
            </a:r>
            <a:r>
              <a:rPr b="1" lang="en-US" sz="36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93080" y="112536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r"/>
    <p:sndAc>
      <p:stSnd>
        <p:snd r:embed="rId3" name="IBELIE~1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448000" y="5084640"/>
            <a:ext cx="66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Amigo, prosiguió el profesor, la vida nos da la oportunidad de amargarnos o de ser fel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47628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Tu rabia pasará, pero no trates de dejarla conmigo porque no me inte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551664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Yo no puedo controlar lo que hay en tu corazón, pero de mi depende lo que yo cargo en el mío.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443376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orque es tan grande la libertad que nos da la vida que hasta tenemos la opción de amargarnos o de ser fel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8040" y="333360"/>
            <a:ext cx="880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ada día, en todo momento, tu puedes escoger qué emociones o sentimientos quieres poner dentro de t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781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y lo que elijas lo tendrás hasta que decidas cambiarl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25992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ice Proverbios 15:1  La respuesta amable calma el enojo,   pero la agresiva echa leña al fueg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5636880"/>
            <a:ext cx="85341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uántas veces hemos aceptado la 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ofensa ajen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  hemos respondido en su 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ismo idio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333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No olvides que eres tu quién decide aceptar o no la crítica destructiva, la ofensa y la burl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26028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antén siempre el control de tus emociones, no guardes amargura en tu corazón contra otro y responde siempre con gracia, que de tu fuente salga siempre agua dul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66200" y="2924280"/>
            <a:ext cx="35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omo lo hizo Cri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35280" y="4581360"/>
            <a:ext cx="51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¡¡¡Que tengas un muy buen día amig@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148360" y="28526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333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l era un profesor 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comprometid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y estricto, conocido también por 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su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alumnos como un hombre 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justo y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comprensiv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26028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Al terminar la clase de fin de año, mientras el maestro organizaba unos documentos encima de su escritori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16000" y="333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se le acercó uno de sus alumnos y en forma desafiante le dij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63520" y="5057640"/>
            <a:ext cx="888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fesor, lo que me alegra de haber terminado la clase es que no tendré que escuchar más sus tonterías y podré descansar de ver su cara aburrida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4581360"/>
            <a:ext cx="86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L alumno estaba erguido, con semblante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safiante,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 en espera de otra respuesta airada de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 profesor.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 Pero ante su asombro, el hombre le respondió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96720" y="-387360"/>
            <a:ext cx="10153440" cy="8137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30200" y="494172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¿Cuándo alguien te ofrece algo que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quieres,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 lo recibes? Por su puesto que no,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spondió el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 alumno algo sorprendid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4000" y="333360"/>
            <a:ext cx="88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Bueno, prosiguió el profesor, cuando alguien intenta ofenderme o decirme algo desagradable, está ofreciéndome al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33336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n tu caso es una emoción de rabia y rencor que puedo decidir no aceptar. Si yo me siento ofendido o me pongo furioso estaré aceptando tu regalo, y yo prefiero regalarme mi serenidad.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20:37:18Z</dcterms:created>
  <dc:creator>cem</dc:creator>
  <dc:description/>
  <dc:language>en-US</dc:language>
  <cp:lastModifiedBy>PC</cp:lastModifiedBy>
  <dcterms:modified xsi:type="dcterms:W3CDTF">2007-07-17T03:51:46Z</dcterms:modified>
  <cp:revision>11</cp:revision>
  <dc:subject/>
  <dc:title>PowerPoint Sunusu</dc:title>
</cp:coreProperties>
</file>