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3.jpeg" ContentType="image/jpeg"/>
  <Override PartName="/ppt/media/IBELIE~1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1BC-A0AF-4056-9B6D-69DC3F0C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095-79A0-47E8-B09C-164299A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D5E-DFA6-459E-896D-7FC1E24B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7D0-1CD6-4797-9C1E-8873BC12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2D6-3948-4ABB-98FF-258B244F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5E0-1C39-4D56-802C-076F1A5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6BD-9693-46BF-842C-00D919B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7CB-8916-4D12-81EE-B4A3889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784-A353-44DB-91F0-E2388EF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C0B-2477-4863-9A2B-C3472D8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CC9-9BBD-4BC0-A66F-FDB128D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73A-C238-4F9C-B3D9-87B3E7A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085-55F1-465D-BDB5-66420F258002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IBELIE~1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4581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9280" y="2852640"/>
            <a:ext cx="46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LA OFENSA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"/>
    <p:sndAc>
      <p:stSnd>
        <p:snd r:embed="rId3" name="IBELIE~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48000" y="50846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migo, prosiguió el profesor, la vida nos da la oportunidad de amargarnos o de ser fel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u rabia pasará, pero no trates de dejarla conmigo porque no me inte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Yo no puedo controlar lo que hay en tu corazón, pero de mi depende lo que yo cargo en el mío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4337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rque es tan grande la libertad que nos da la vida que hasta tenemos la opción de amargarnos o de ser fel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040" y="333360"/>
            <a:ext cx="88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ada día, en todo momento, tu puedes escoger qué emociones o sentimientos quieres poner dentro de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y lo que elijas lo tendrás hasta que decidas cambia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59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ce Proverbios 15:1  La respuesta amable calma el enojo,   pero la agresiva echa leña al fue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563688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ántas veces hemos aceptado la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fensa ajen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  hemos respondido en su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ismo idi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333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olvides que eres tu quién decide aceptar o no la crítica destructiva, la ofensa y la bur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260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tén siempre el control de tus emociones, no guardes amargura en tu corazón contra otro y responde siempre con gracia, que de tu fuente salga siempre agua dul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66200" y="292428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o lo hizo Cri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5280" y="458136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¡¡¡Que tengas un muy buen día amig@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33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 era un profesor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omprometi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y estricto, conocido también por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u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alumnos como un hombre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justo y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omprensiv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26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 terminar la clase de fin de año, mientras el maestro organizaba unos documentos encima de su escritori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 le acercó uno de sus alumnos y en forma desafiante le dij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3520" y="5057640"/>
            <a:ext cx="888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fesor, lo que me alegra de haber terminado la clase es que no tendré que escuchar más sus tonterías y podré descansar de ver su cara aburrid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581360"/>
            <a:ext cx="86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alumno estaba erguido, con semblant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afiante,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en espera de otra respuesta airada d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 profesor.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Pero ante su asombro, el hombre le respondi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-387360"/>
            <a:ext cx="10153440" cy="813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0200" y="49417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¿Cuándo alguien te ofrece algo qu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quieres,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lo recibes? Por su puesto que no,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pondió el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alumno algo sorprendi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ueno, prosiguió el profesor, cuando alguien intenta ofenderme o decirme algo desagradable, está ofreciéndome al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tu caso es una emoción de rabia y rencor que puedo decidir no aceptar. Si yo me siento ofendido o me pongo furioso estaré aceptando tu regalo, y yo prefiero regalarme mi serenidad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0:37:18Z</dcterms:created>
  <dc:creator>cem</dc:creator>
  <dc:description/>
  <dc:language>en-US</dc:language>
  <cp:lastModifiedBy>PC</cp:lastModifiedBy>
  <dcterms:modified xsi:type="dcterms:W3CDTF">2007-07-17T03:51:46Z</dcterms:modified>
  <cp:revision>11</cp:revision>
  <dc:subject/>
  <dc:title>PowerPoint Sunusu</dc:title>
</cp:coreProperties>
</file>