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8A3-B1BF-498F-8839-FBA37A6B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0E4-18E0-40C0-938F-DC775ECF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683-A1D0-48AB-91C9-ABE59002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AE0-295D-4A8B-92A5-085A0B7A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9CF-E7C3-4DBE-92AB-944B9CBE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C63-1A39-48E0-BEB0-6FE5C0FE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DCC-6317-405F-8D29-AAEC12A6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C98-07C5-4FEF-8AD2-CCEF3A06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E8E-C3F6-4ABF-B4EB-7BA54CFE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427-EDBC-4AB9-BABF-B7A4B8B1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968-B306-4202-A9FD-EDBBD2FE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979-1672-4CA5-A7C6-6114CA6C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CE89-16E7-422C-9ECD-27743CC62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45280" y="3005280"/>
            <a:ext cx="569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6000" spc="-1" strike="noStrike">
                <a:solidFill>
                  <a:srgbClr val="ffffff"/>
                </a:solidFill>
                <a:latin typeface="Georgia"/>
              </a:rPr>
              <a:t>Fotos inédi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87680" y="117360"/>
            <a:ext cx="5892480" cy="612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36560" y="630252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Hollywood hace bastante tiemp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67640" cy="5861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7160" y="623736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Construcción de Disney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632720" cy="578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90440" y="630252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Evolución de la Coca-Co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417080" cy="597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76360" y="630252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Lennon dando un autógrafo a Chapman, su asesi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846920" cy="599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13880" y="6375240"/>
            <a:ext cx="41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Primera computadora d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561440" cy="5961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64200" y="6375240"/>
            <a:ext cx="42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El cadáver del Presidente Kennedy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66680"/>
            <a:ext cx="4125600" cy="6575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85720" y="3247920"/>
            <a:ext cx="37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Boletín escolar, poco brilla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de Albert Einste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249800" y="476280"/>
            <a:ext cx="4570200" cy="6092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7160" y="551016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Marilyn Monroe en la Playb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417080" cy="5989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8320" y="6375240"/>
            <a:ext cx="70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Lula y Fernando Henrique Cardozo, panfleteando juntos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343640" cy="5854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100320" y="630864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El accidente de Lady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632720" cy="614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308040" y="638172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Primer Mc Donald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904000" cy="590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77880" y="6302520"/>
            <a:ext cx="78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Momento en que Bush se entera de atentado a las Torres Gem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5587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65840" y="6237360"/>
            <a:ext cx="46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Google en 1999 , una micro empresa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09080" cy="5543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86080" y="6302520"/>
            <a:ext cx="45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Georgia"/>
              </a:rPr>
              <a:t>Saddam Hussein con la soga al cu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4000" cy="6083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3160" y="6375240"/>
            <a:ext cx="66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El Corcovado en Río, antes de la construcción del Cri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747720"/>
            <a:ext cx="8388360" cy="534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79440" y="630252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Hitler y el </a:t>
            </a:r>
            <a:r>
              <a:rPr b="1" i="1" lang="es-ES" sz="1800" spc="-1" strike="noStrike">
                <a:solidFill>
                  <a:srgbClr val="ffffff"/>
                </a:solidFill>
                <a:latin typeface="Georgia"/>
              </a:rPr>
              <a:t>Arzobispo Cesare Orsen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858960"/>
            <a:ext cx="7956360" cy="4802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69160" y="60865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Los Beatles en el comienzo de su carrera, sin Rin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96360" cy="5442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32200" y="6230880"/>
            <a:ext cx="52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Familia Bin Laden. Osama es el del círc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775280" cy="602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26680" y="637524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El verdadero Tit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1640" y="333360"/>
            <a:ext cx="8388360" cy="583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66200" y="630252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Georgia"/>
              </a:rPr>
              <a:t>Primera fotografía de la historia, tomada en 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2:56:52Z</dcterms:created>
  <dc:creator>XXX</dc:creator>
  <dc:description/>
  <dc:language>en-US</dc:language>
  <cp:lastModifiedBy>XXX</cp:lastModifiedBy>
  <dcterms:modified xsi:type="dcterms:W3CDTF">2011-08-10T23:59:44Z</dcterms:modified>
  <cp:revision>2</cp:revision>
  <dc:subject/>
  <dc:title>Diapositiva 1</dc:title>
</cp:coreProperties>
</file>