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908-9556-40CB-ABC3-36DBEEF7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7DC-D0DE-4FA3-9300-57BD7450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1FC-6CAD-4AE7-BE22-4388E368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337-4AF2-43F6-9DDE-2D4250F1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936-A7CF-4CBB-996D-70C11964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AAA-B5BA-4ECA-9775-98C8C50C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5D6-5540-4EF6-9B5D-05818354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980-0FD4-493B-ACBF-FA7ACA7F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2CC-EDD6-44C7-A5CB-B5130812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A1B-E4B8-4678-9846-8FF4B7D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87B-F9B0-4675-9AA7-5637150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8D0-0EC4-45FD-ADDD-BFDA80C1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BE8C-D49C-406A-A9AC-D3DC01E59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45280" y="3005280"/>
            <a:ext cx="569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6000" spc="-1" strike="noStrike">
                <a:solidFill>
                  <a:srgbClr val="ffffff"/>
                </a:solidFill>
                <a:latin typeface="Georgia"/>
              </a:rPr>
              <a:t>Fotos inédi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87680" y="117360"/>
            <a:ext cx="5892480" cy="612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36560" y="630252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Hollywood hace bastante tiemp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67640" cy="5861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7160" y="623736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Construcción de Disney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578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90440" y="630252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Evolución de la Coca-C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597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76360" y="63025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Lennon dando un autógrafo a Chapman, su asesi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6920" cy="599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13880" y="6375240"/>
            <a:ext cx="41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Primera computadora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561440" cy="596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64200" y="637524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El cadáver del Presidente Kenned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4125600" cy="657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85720" y="324792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Boletín escolar, poco brill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de Albert Eins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249800" y="476280"/>
            <a:ext cx="4570200" cy="6092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7160" y="551016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Marilyn Monroe en la Play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5989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8320" y="6375240"/>
            <a:ext cx="70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Lula y Fernando Henrique Cardozo, panfleteando juntos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343640" cy="5854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00320" y="630864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El accidente de Lady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32720" cy="61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08040" y="638172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Primer Mc Donald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904000" cy="590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7880" y="6302520"/>
            <a:ext cx="78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Momento en que Bush se entera de atentado a las Torres Gem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58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65840" y="623736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Google en 1999 , una micro empres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54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86080" y="630252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Georgia"/>
              </a:rPr>
              <a:t>Saddam Hussein con la soga a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4000" cy="6083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3160" y="6375240"/>
            <a:ext cx="66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El Corcovado en Río, antes de la construcción del Cr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747720"/>
            <a:ext cx="8388360" cy="534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79440" y="630252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Hitler y el </a:t>
            </a:r>
            <a:r>
              <a:rPr b="1" i="1" lang="es-ES" sz="1800" spc="-1" strike="noStrike">
                <a:solidFill>
                  <a:srgbClr val="ffffff"/>
                </a:solidFill>
                <a:latin typeface="Georgia"/>
              </a:rPr>
              <a:t>Arzobispo Cesare Orsen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58960"/>
            <a:ext cx="7956360" cy="480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69160" y="60865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Los Beatles en el comienzo de su carrera, sin Rin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96360" cy="544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32200" y="623088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Familia Bin Laden. Osama es el del círc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775280" cy="602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26680" y="637524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El verdadero Tit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1640" y="333360"/>
            <a:ext cx="8388360" cy="583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66200" y="630252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Primera fotografía de la historia, tomada en 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2:56:52Z</dcterms:created>
  <dc:creator>XXX</dc:creator>
  <dc:description/>
  <dc:language>en-US</dc:language>
  <cp:lastModifiedBy>XXX</cp:lastModifiedBy>
  <dcterms:modified xsi:type="dcterms:W3CDTF">2011-08-10T23:59:44Z</dcterms:modified>
  <cp:revision>2</cp:revision>
  <dc:subject/>
  <dc:title>Diapositiva 1</dc:title>
</cp:coreProperties>
</file>