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36.jpeg" ContentType="image/jpeg"/>
  <Override PartName="/ppt/media/image2.jpeg" ContentType="image/jpeg"/>
  <Override PartName="/ppt/media/image23.jpeg" ContentType="image/jpeg"/>
  <Override PartName="/ppt/media/image24.jpeg" ContentType="image/jpeg"/>
  <Override PartName="/ppt/media/image35.jpeg" ContentType="image/jpeg"/>
  <Override PartName="/ppt/media/image1.jpeg" ContentType="image/jpeg"/>
  <Override PartName="/ppt/media/image22.jpeg" ContentType="image/jpeg"/>
  <Override PartName="/ppt/media/image40.jpeg" ContentType="image/jpeg"/>
  <Override PartName="/ppt/media/image13.jpeg" ContentType="image/jpeg"/>
  <Override PartName="/ppt/media/Banda-sonora-%20West-across-the-ocean%20sea.wav" ContentType="audio/x-wav"/>
  <Override PartName="/ppt/media/image1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59.jpeg" ContentType="image/jpeg"/>
  <Override PartName="/ppt/media/image18.jpeg" ContentType="image/jpeg"/>
  <Override PartName="/ppt/media/image17.jpeg" ContentType="image/jpeg"/>
  <Override PartName="/ppt/media/image14.jpeg" ContentType="image/jpeg"/>
  <Override PartName="/ppt/media/image41.jpeg" ContentType="image/jpe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6.jpeg" ContentType="image/jpeg"/>
  <Override PartName="/ppt/media/image51.jpeg" ContentType="image/jpe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F1034-C11D-469F-80C9-6B8A1C654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B5D9D-A4EB-4083-BB9C-C6B6390DC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A4599-D16A-4E1A-872D-C54DEAF47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2642D-7DAB-45AC-A0F5-563B8C366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D07B8-3407-4B63-8B8F-C2AA6B532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1614E-0B4A-40E0-90F7-387E3484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4D51F-FBAF-41D4-8275-D079A5BEB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317DA-98DD-4472-93E1-5720157AE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E8DC9-EB7E-4E7A-8C0D-04E0BAC0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7643-1518-4C60-8C4C-DCA929C8A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F5974-8992-4240-A5A6-C378676DE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76DF-DB0B-4164-A9A0-AB150EEAA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7CBD-AE9C-4EB7-AC9E-5EE69CA00B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anda-sonora-%20West-across-the-ocean%20se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carbajal.com.uy/horneros-urbanos/" TargetMode="External"/><Relationship Id="rId2" Type="http://schemas.openxmlformats.org/officeDocument/2006/relationships/hyperlink" Target="http://carbajal.com.uy/horneros-urbanos/" TargetMode="External"/><Relationship Id="rId3" Type="http://schemas.openxmlformats.org/officeDocument/2006/relationships/hyperlink" Target="http://carbajal.com.uy/horneros-urbanos/" TargetMode="External"/><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1116000" y="-54000"/>
            <a:ext cx="6912000" cy="6912000"/>
          </a:xfrm>
          <a:prstGeom prst="rect">
            <a:avLst/>
          </a:prstGeom>
          <a:ln w="0">
            <a:noFill/>
          </a:ln>
        </p:spPr>
      </p:pic>
      <p:sp>
        <p:nvSpPr>
          <p:cNvPr id="44" name=""/>
          <p:cNvSpPr/>
          <p:nvPr/>
        </p:nvSpPr>
        <p:spPr>
          <a:xfrm>
            <a:off x="5867280" y="260280"/>
            <a:ext cx="327672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orneros Urban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rquitectos no diplomados</a:t>
            </a:r>
            <a:r>
              <a:rPr b="0" lang="pt-BR"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stamos acostumbrados a ver nidos de Hornero por doquier; la singularidad de éste es que lo construyeron en una ventana del ‘piso de abajo’, en el edificio en que vivo. Tener el nido “ahí” hizo que las fotos se fueran acumulando hasta terminar con casi 600 capturas, de ahí surge este registro.</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81080" y="-136440"/>
            <a:ext cx="9506160" cy="713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2124000" y="-1459080"/>
            <a:ext cx="11090160" cy="8317080"/>
          </a:xfrm>
          <a:prstGeom prst="rect">
            <a:avLst/>
          </a:prstGeom>
          <a:ln w="0">
            <a:noFill/>
          </a:ln>
        </p:spPr>
      </p:pic>
      <p:sp>
        <p:nvSpPr>
          <p:cNvPr id="48" name=""/>
          <p:cNvSpPr/>
          <p:nvPr/>
        </p:nvSpPr>
        <p:spPr>
          <a:xfrm>
            <a:off x="-488880" y="5032440"/>
            <a:ext cx="8445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 name=""/>
          <p:cNvSpPr/>
          <p:nvPr/>
        </p:nvSpPr>
        <p:spPr>
          <a:xfrm flipV="1" rot="10800000">
            <a:off x="1187280" y="5156640"/>
            <a:ext cx="759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odo comenzó con la intención de tener registrada esa curiosidad que tuve la fortuna de presenciar a diario. La fui compartiendo con mi familia y algunos amigos y siempre, por toda respuesta, me encontré con caras de asombro.</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395280" y="297000"/>
            <a:ext cx="8748720" cy="6561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325080" cy="6994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325080" cy="6994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325080" cy="699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325080" cy="6994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325080" cy="699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136440"/>
            <a:ext cx="9325080" cy="6994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8640"/>
            <a:ext cx="10223640" cy="7667640"/>
          </a:xfrm>
          <a:prstGeom prst="rect">
            <a:avLst/>
          </a:prstGeom>
          <a:ln w="0">
            <a:noFill/>
          </a:ln>
        </p:spPr>
      </p:pic>
      <p:sp>
        <p:nvSpPr>
          <p:cNvPr id="51" name=""/>
          <p:cNvSpPr/>
          <p:nvPr/>
        </p:nvSpPr>
        <p:spPr>
          <a:xfrm>
            <a:off x="0" y="6858000"/>
            <a:ext cx="24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000000000000</a:t>
            </a:r>
            <a:endParaRPr b="0" lang="en-US" sz="1800" spc="-1" strike="noStrike">
              <a:solidFill>
                <a:srgbClr val="000000"/>
              </a:solidFill>
              <a:latin typeface="Arial"/>
            </a:endParaRPr>
          </a:p>
        </p:txBody>
      </p:sp>
      <p:sp>
        <p:nvSpPr>
          <p:cNvPr id="52" name=""/>
          <p:cNvSpPr/>
          <p:nvPr/>
        </p:nvSpPr>
        <p:spPr>
          <a:xfrm>
            <a:off x="1332000" y="5667480"/>
            <a:ext cx="66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erminado el nido, creí que estaría bueno poner las fotos en línea para compartirlas con ustedes, principalmente con quienes de ustedes tengan gurises en el entorno; así que aquí están, espero que les gus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325080" cy="699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0" y="-1440"/>
            <a:ext cx="9144000" cy="6859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325080" cy="699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p:cNvPicPr/>
          <p:nvPr/>
        </p:nvPicPr>
        <p:blipFill>
          <a:blip r:embed="rId1"/>
          <a:stretch/>
        </p:blipFill>
        <p:spPr>
          <a:xfrm>
            <a:off x="0" y="0"/>
            <a:ext cx="9144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0" y="0"/>
            <a:ext cx="914400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1143000" y="857160"/>
            <a:ext cx="6858000" cy="5143680"/>
          </a:xfrm>
          <a:prstGeom prst="rect">
            <a:avLst/>
          </a:prstGeom>
          <a:ln w="0">
            <a:noFill/>
          </a:ln>
        </p:spPr>
      </p:pic>
      <p:pic>
        <p:nvPicPr>
          <p:cNvPr id="213" name="" descr=""/>
          <p:cNvPicPr/>
          <p:nvPr/>
        </p:nvPicPr>
        <p:blipFill>
          <a:blip r:embed="rId2"/>
          <a:stretch/>
        </p:blipFill>
        <p:spPr>
          <a:xfrm>
            <a:off x="0" y="0"/>
            <a:ext cx="91440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0" y="0"/>
            <a:ext cx="9325080" cy="6994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 descr=""/>
          <p:cNvPicPr/>
          <p:nvPr/>
        </p:nvPicPr>
        <p:blipFill>
          <a:blip r:embed="rId1"/>
          <a:stretch/>
        </p:blipFill>
        <p:spPr>
          <a:xfrm>
            <a:off x="0" y="0"/>
            <a:ext cx="9325080" cy="6994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 descr=""/>
          <p:cNvPicPr/>
          <p:nvPr/>
        </p:nvPicPr>
        <p:blipFill>
          <a:blip r:embed="rId1"/>
          <a:stretch/>
        </p:blipFill>
        <p:spPr>
          <a:xfrm>
            <a:off x="1143000" y="857160"/>
            <a:ext cx="6858000" cy="5143680"/>
          </a:xfrm>
          <a:prstGeom prst="rect">
            <a:avLst/>
          </a:prstGeom>
          <a:ln w="0">
            <a:noFill/>
          </a:ln>
        </p:spPr>
      </p:pic>
      <p:pic>
        <p:nvPicPr>
          <p:cNvPr id="223" name="" descr=""/>
          <p:cNvPicPr/>
          <p:nvPr/>
        </p:nvPicPr>
        <p:blipFill>
          <a:blip r:embed="rId2"/>
          <a:stretch/>
        </p:blipFill>
        <p:spPr>
          <a:xfrm>
            <a:off x="0" y="0"/>
            <a:ext cx="9144000" cy="68580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920" y="0"/>
            <a:ext cx="8642160" cy="6858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Visto lo anterior, sólo cabe hacer alguna acotación: Primera y fundamental, no soy fotógrafo (tan sólo “saco” alguna foto). Segunda, lo construyeron entre fines de septiembre y el 30 de noviembre. Tercera, trabajan de 8 a 10 horas diarias. Cuarta, los domingos no trabajan! Ninguno de los dos, durante los domingos que hubo en esos dos meses y poco, concurrió a marcar tarjeta… si alguien sabe por qué, agradezco que me desasnen.  Y quinta, es fascinante verlos moverse, es increíble el trabajo que hacen… sin manos! Cómo labur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fin… la noticia es que a partir de diciembre, algunos días, me despertarán estos bichitos : )</a:t>
            </a:r>
            <a:endParaRPr b="0" lang="en-US" sz="28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aniel Carbajal Solsona      </a:t>
            </a:r>
            <a:r>
              <a:rPr b="0" lang="es-AR" sz="1400" spc="-1" strike="noStrike" u="sng">
                <a:solidFill>
                  <a:srgbClr val="009999"/>
                </a:solidFill>
                <a:uFillTx/>
                <a:latin typeface="Arial"/>
                <a:hlinkClick r:id="rId1"/>
              </a:rPr>
              <a:t>http://</a:t>
            </a:r>
            <a:r>
              <a:rPr b="0" lang="es-AR" sz="1400" spc="-1" strike="noStrike" u="sng">
                <a:solidFill>
                  <a:srgbClr val="009999"/>
                </a:solidFill>
                <a:uFillTx/>
                <a:latin typeface="Arial"/>
                <a:hlinkClick r:id="rId2"/>
              </a:rPr>
              <a:t>carbajal.com.uy</a:t>
            </a:r>
            <a:r>
              <a:rPr b="0" lang="es-AR" sz="1400" spc="-1" strike="noStrike" u="sng">
                <a:solidFill>
                  <a:srgbClr val="009999"/>
                </a:solidFill>
                <a:uFillTx/>
                <a:latin typeface="Arial"/>
                <a:hlinkClick r:id="rId3"/>
              </a:rPr>
              <a:t>/horneros-urbanos/</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34920" y="1988640"/>
            <a:ext cx="504036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777777"/>
                </a:solidFill>
                <a:latin typeface="Times New Roman"/>
              </a:rPr>
              <a:t>FIN</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225">
                                            <p:txEl>
                                              <p:pRg st="0" end="0"/>
                                            </p:txEl>
                                          </p:spTgt>
                                        </p:tgtEl>
                                        <p:attrNameLst>
                                          <p:attrName>style.visibility</p:attrName>
                                        </p:attrNameLst>
                                      </p:cBhvr>
                                      <p:to>
                                        <p:strVal val="visible"/>
                                      </p:to>
                                    </p:set>
                                    <p:anim calcmode="lin" valueType="num">
                                      <p:cBhvr additive="base">
                                        <p:cTn id="7"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0:51:36Z</dcterms:created>
  <dc:creator/>
  <dc:description/>
  <dc:language>en-US</dc:language>
  <cp:lastModifiedBy>Louie M </cp:lastModifiedBy>
  <dcterms:modified xsi:type="dcterms:W3CDTF">2011-01-11T05:57:19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44000000000001024120</vt:lpwstr>
  </property>
</Properties>
</file>