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Galvany%20-%20Titanic.wav" ContentType="audio/x-wav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6666-08C6-4F8E-9393-FD5444BF0436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8674-4DFC-4FBC-B674-BA4B1C0D8744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E6F-CD36-44AD-ADEB-C28D89C3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DC3-476E-4AA4-A89C-19EA7310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37A-9A50-4845-B4C4-C4E591D2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8E1-BBB9-4CBF-9405-8BD3A792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4946-0744-4896-9499-8D9CCE60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5753-A5E4-43EC-9C94-096939B2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7298-58AE-404D-B80E-ED5AB127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2069-0084-4135-9978-DB0E97AB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E45F-84A0-4BCF-8854-BC357C80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C89A-6809-4B14-A551-464723F1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BA22-84BC-45BA-A3FC-1EDA3AFB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6AD-4ED6-4125-8495-E2356F3B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3EDA-E746-40E4-A3D9-5F6CDCD0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0556-AAB1-4392-929A-FE04AA74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57AC-0523-4988-9C62-E842DEF6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9F3D-844D-4A59-AB38-C64ECC15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3211-DCBE-44A0-9805-28687069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E7A12-B7CF-4690-9069-179E82BF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9BAAD-FF28-424E-8713-89D6716E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3F4B4-6C49-455F-BC45-3CDB53B5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BE2B-9927-449E-A525-4905ACE0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09C7A-CAEC-4012-87E7-7223960B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2F98-C616-4F56-8E47-870B0CF5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E23A-B6C9-464F-8EEA-9CEF9E7B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B921C-3C08-4947-B2A8-26C07BC8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A2118-9127-4074-933E-A1AA0DE4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2D6B-F5C2-4863-8299-BDD6E082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40BB9-B01F-4E7E-A281-F16DD57B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6A2A-B5F4-405E-BC87-7BCC3A01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1440C-34E1-4229-9192-A4DD73C2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90CE5-61C0-40CD-A8C7-03AAEE6A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CCFF7-DE8F-4092-919A-8AA40293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019D6-DCFA-4B93-80C3-5D4166F4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17F-7B4E-463F-B8E0-DDCABFE8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49E64-CA69-45E1-BC66-5A8BFBF3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EDBB7-0F29-4C86-889C-4BC0F350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35EB2-52E5-45A9-A977-59C95713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35EB9-A588-4D25-AA72-08A2DB92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F054-F9F6-4271-BF5D-F671B35B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B698-A890-4C50-9E4D-3596D623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C941F-C609-4E34-88B3-A42F89C5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BE942-D6A1-402F-988D-55C738F8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EA030-2B0A-416F-9FE6-B5D60886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E00A5-4BBB-4947-912E-8E05D865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57C-2685-4434-8148-32036A75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09553-92ED-4642-9F62-91F1FBC2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93587-D7FA-4435-8B49-CB29E6DB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CD754-B3E1-4AF6-AED2-6DF55D34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4BBE9-7B4A-43AA-AB4F-6F96C38F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35C36-2A18-419A-B825-4BB5C07A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6488D-CBBE-4316-B567-63EE4A95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42650-B620-47B2-B35E-C30FF479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2D935-3DA8-461D-80D0-4BBA0C65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96882-45A4-470E-AD5F-EE5B53C1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5E3A8-D422-44B2-85DC-5E947CDC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418-46AE-4B78-A21F-AF321B70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BF15F-97A3-439C-B7D8-F5CA5B84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2970D-63C7-484E-9E2B-A9A49666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D29E0-76EF-4B2A-9888-552A5DBB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D31F4-23A2-4942-9F36-1E6323EC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5AA6A-28CD-45B0-884A-E055A24A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B1982-D45F-426F-A910-A9904806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1C24F-1F87-4F03-9D0E-B5AD97E4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AA2A8-D7BA-41B8-B458-3BAB3597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D8F5E-3E75-4959-98D8-DF4D2104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1C4F5-DC3E-4052-B2DD-08EA84D0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17F-F09C-498F-88F1-1A3CF6C4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BD06D-6FEA-4BB4-BF1C-F62A15CC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A0CB1-C342-4A54-B664-1387591E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C4AB8-6AE7-43FE-B3CF-EC4A2116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3189D-CFA3-40DF-887C-3258FFED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75984-3FE1-45BA-9670-3CF25BA6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35669-8503-461C-B698-D25C64A8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CA725-16C6-434B-84C0-7BCE6B9D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12133-FD73-4B29-881F-5F6BACFD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FC2F5-67A1-45C7-A470-AEF56924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043E9-0A1E-4734-93A5-3A57653C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134-C194-4AC7-99E4-C5964589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54BB3-64D1-428C-97CE-928F5726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BD7B2-0EA9-4289-8632-10B86FAE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A15DC-5E93-45E3-991A-4694B8D6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61D0D-CDD0-4E9E-A895-10A49026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60FDF-3297-4EA1-84FC-0FAA0A5B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1D066-9A6D-4099-A3BD-03A83209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64773-7CFD-4769-984B-BDD8DF6C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18E83-712B-4B82-AD04-CECC3CDF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01C19-03EB-4483-8C6D-B4E6F1BD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15FB1-8433-4780-A641-7CA06409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C36-7312-4B96-9B17-0C687E2D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167DA-617E-47C5-BFE8-400837D0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9A11B-10BA-4A06-A211-1A810700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D5BE0-959F-4AF3-8DD5-DFC2430A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87A20-804B-4B9C-B513-A51F25D4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7A83F-EAB6-4359-86F2-C6E81992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E45AE-220E-4C39-ACA3-D4ADE9A4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F4774-5DF1-43CA-9313-9FA566EE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mailto:galvanybvtvida@gmail.com" TargetMode="External"/><Relationship Id="rId4" Type="http://schemas.openxmlformats.org/officeDocument/2006/relationships/hyperlink" Target="mailto:galvanybvtvida@yahoo.es" TargetMode="External"/><Relationship Id="rId5" Type="http://schemas.openxmlformats.org/officeDocument/2006/relationships/hyperlink" Target="mailto:galvanybvtvida@hotmail.com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mailto:galvanybvtvida@gmail.com" TargetMode="External"/><Relationship Id="rId4" Type="http://schemas.openxmlformats.org/officeDocument/2006/relationships/hyperlink" Target="mailto:galvanybvtvida@yahoo.es" TargetMode="External"/><Relationship Id="rId5" Type="http://schemas.openxmlformats.org/officeDocument/2006/relationships/hyperlink" Target="mailto:galvanybvtvida@hotmail.com" TargetMode="External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mailto:galvanybvtvida@gmail.com" TargetMode="External"/><Relationship Id="rId4" Type="http://schemas.openxmlformats.org/officeDocument/2006/relationships/hyperlink" Target="mailto:galvanybvtvida@yahoo.es" TargetMode="External"/><Relationship Id="rId5" Type="http://schemas.openxmlformats.org/officeDocument/2006/relationships/hyperlink" Target="mailto:galvanybvtvida@hotmail.com" TargetMode="External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hyperlink" Target="mailto:galvanybvtvida@gmail.com" TargetMode="External"/><Relationship Id="rId4" Type="http://schemas.openxmlformats.org/officeDocument/2006/relationships/hyperlink" Target="mailto:galvanybvtvida@yahoo.es" TargetMode="External"/><Relationship Id="rId5" Type="http://schemas.openxmlformats.org/officeDocument/2006/relationships/hyperlink" Target="mailto:galvanybvtvida@hotmail.com" TargetMode="External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mailto:galvanybvtvida@gmail.com" TargetMode="External"/><Relationship Id="rId4" Type="http://schemas.openxmlformats.org/officeDocument/2006/relationships/hyperlink" Target="mailto:galvanybvtvida@yahoo.es" TargetMode="External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F2B2-D35A-442A-A887-16A56BD5D67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Text Box 7"/>
          <p:cNvSpPr/>
          <p:nvPr/>
        </p:nvSpPr>
        <p:spPr>
          <a:xfrm>
            <a:off x="1187280" y="6192720"/>
            <a:ext cx="2305080" cy="6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Tahoma"/>
              </a:rPr>
              <a:t>Galvany Bladimir Valdivia Tirad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17bbfd"/>
                </a:solidFill>
                <a:uFillTx/>
                <a:latin typeface="Tahoma"/>
                <a:hlinkClick r:id="rId3"/>
              </a:rPr>
              <a:t>galvanybvtvida@gmail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17bbfd"/>
                </a:solidFill>
                <a:uFillTx/>
                <a:latin typeface="Tahoma"/>
                <a:hlinkClick r:id="rId4"/>
              </a:rPr>
              <a:t>galvanybvtvida@yahoo.es</a:t>
            </a: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17bbfd"/>
                </a:solidFill>
                <a:uFillTx/>
                <a:latin typeface="Tahoma"/>
                <a:hlinkClick r:id="rId5"/>
              </a:rPr>
              <a:t>galvanybvtvida@hotmail.com</a:t>
            </a: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187280" y="6192720"/>
            <a:ext cx="2305080" cy="6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Tahoma"/>
              </a:rPr>
              <a:t>Galvany Bladimir Valdivia Tirad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17bbfd"/>
                </a:solidFill>
                <a:uFillTx/>
                <a:latin typeface="Tahoma"/>
                <a:hlinkClick r:id="rId3"/>
              </a:rPr>
              <a:t>galvanybvtvida@gmail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17bbfd"/>
                </a:solidFill>
                <a:uFillTx/>
                <a:latin typeface="Tahoma"/>
                <a:hlinkClick r:id="rId4"/>
              </a:rPr>
              <a:t>galvanybvtvida@yahoo.es</a:t>
            </a: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17bbfd"/>
                </a:solidFill>
                <a:uFillTx/>
                <a:latin typeface="Tahoma"/>
                <a:hlinkClick r:id="rId5"/>
              </a:rPr>
              <a:t>galvanybvtvida@hotmail.com</a:t>
            </a: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11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995D-A229-41B2-97EC-2AE451D7E5B7}" type="slidenum">
              <a:rPr b="0" lang="es-E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187280" y="6192720"/>
            <a:ext cx="2305080" cy="6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Tahoma"/>
              </a:rPr>
              <a:t>Galvany Bladimir Valdivia Tirad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17bbfd"/>
                </a:solidFill>
                <a:uFillTx/>
                <a:latin typeface="Tahoma"/>
                <a:hlinkClick r:id="rId3"/>
              </a:rPr>
              <a:t>galvanybvtvida@gmail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17bbfd"/>
                </a:solidFill>
                <a:uFillTx/>
                <a:latin typeface="Tahoma"/>
                <a:hlinkClick r:id="rId4"/>
              </a:rPr>
              <a:t>galvanybvtvida@yahoo.es</a:t>
            </a: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17bbfd"/>
                </a:solidFill>
                <a:uFillTx/>
                <a:latin typeface="Tahoma"/>
                <a:hlinkClick r:id="rId5"/>
              </a:rPr>
              <a:t>galvanybvtvida@hotmail.com</a:t>
            </a: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0CFB-9E74-4F67-8B4D-23DBC9EF661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187280" y="6192720"/>
            <a:ext cx="2305080" cy="6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Tahoma"/>
              </a:rPr>
              <a:t>Galvany Bladimir Valdivia Tirad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17bbfd"/>
                </a:solidFill>
                <a:uFillTx/>
                <a:latin typeface="Tahoma"/>
                <a:hlinkClick r:id="rId3"/>
              </a:rPr>
              <a:t>galvanybvtvida@gmail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17bbfd"/>
                </a:solidFill>
                <a:uFillTx/>
                <a:latin typeface="Tahoma"/>
                <a:hlinkClick r:id="rId4"/>
              </a:rPr>
              <a:t>galvanybvtvida@yahoo.es</a:t>
            </a: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17bbfd"/>
                </a:solidFill>
                <a:uFillTx/>
                <a:latin typeface="Tahoma"/>
                <a:hlinkClick r:id="rId5"/>
              </a:rPr>
              <a:t>galvanybvtvida@hotmail.com</a:t>
            </a: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11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14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15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16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813B-2C34-468D-BA07-B139ACD40CB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187280" y="6192720"/>
            <a:ext cx="2305080" cy="6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Tahoma"/>
              </a:rPr>
              <a:t>Galvany Bladimir Valdivia Tirad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17bbfd"/>
                </a:solidFill>
                <a:uFillTx/>
                <a:latin typeface="Tahoma"/>
                <a:hlinkClick r:id="rId3"/>
              </a:rPr>
              <a:t>galvanybvtvida@gmail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17bbfd"/>
                </a:solidFill>
                <a:uFillTx/>
                <a:latin typeface="Tahoma"/>
                <a:hlinkClick r:id="rId4"/>
              </a:rPr>
              <a:t>galvanybvtvida@yahoo.es</a:t>
            </a: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galvanybvtvida@hotmail.com</a:t>
            </a: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830A-FF40-4314-A81D-4F5B04C6490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187280" y="6192720"/>
            <a:ext cx="2305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Tahoma"/>
              </a:rPr>
              <a:t>Galvany Bladimir Valdivia Tirad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galvanybvtvida@gmail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galvanybvtvida@yahoo.e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galvanybvtvida@hotmail.com</a:t>
            </a: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6D58-BC74-4B18-BCA7-393E3C8DA73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1187280" y="6192720"/>
            <a:ext cx="2305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Tahoma"/>
              </a:rPr>
              <a:t>Galvany Bladimir Valdivia Tirad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galvanybvtvida@gmail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galvanybvtvida@yahoo.e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galvanybvtvida@hotmail.com</a:t>
            </a: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1D19-EA1D-4124-B600-FB61B9AA35BB}" type="slidenum"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187280" y="6192720"/>
            <a:ext cx="2305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Tahoma"/>
              </a:rPr>
              <a:t>Galvany Bladimir Valdivia Tirad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galvanybvtvida@gmail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galvanybvtvida@yahoo.e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galvanybvtvida@hotmail.com</a:t>
            </a:r>
            <a:r>
              <a:rPr b="0" lang="es-ES" sz="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4485-31C0-4397-8FAE-86B7BAE20866}" type="slidenum"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Galvany%20-%20Titanic.wav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5 Imagen" descr="...nose..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2967120" y="0"/>
            <a:ext cx="61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Ponte los 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Auriculares</a:t>
            </a: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 y Presiona la tecla 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Enter</a:t>
            </a: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 o la 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Barra</a:t>
            </a: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Espaciadora</a:t>
            </a: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 para l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1143000" y="1785960"/>
            <a:ext cx="6624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PRECEPTO</a:t>
            </a:r>
            <a:br>
              <a:rPr sz="5400"/>
            </a:b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DE LOS DUEND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5 CuadroTexto"/>
          <p:cNvSpPr/>
          <p:nvPr/>
        </p:nvSpPr>
        <p:spPr>
          <a:xfrm>
            <a:off x="0" y="62118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1 Imagen" descr="...nose....jpg"/>
          <p:cNvPicPr/>
          <p:nvPr/>
        </p:nvPicPr>
        <p:blipFill>
          <a:blip r:embed="rId1"/>
          <a:stretch/>
        </p:blipFill>
        <p:spPr>
          <a:xfrm>
            <a:off x="0" y="2738520"/>
            <a:ext cx="6075360" cy="41194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4"/>
          <p:cNvSpPr/>
          <p:nvPr/>
        </p:nvSpPr>
        <p:spPr>
          <a:xfrm>
            <a:off x="3571920" y="928800"/>
            <a:ext cx="55720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El dinero, puede comprar el sexo, pero no el am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1 Imagen" descr="...nose....jpg"/>
          <p:cNvPicPr/>
          <p:nvPr/>
        </p:nvPicPr>
        <p:blipFill>
          <a:blip r:embed="rId1"/>
          <a:stretch/>
        </p:blipFill>
        <p:spPr>
          <a:xfrm>
            <a:off x="0" y="2897280"/>
            <a:ext cx="6075360" cy="3960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1214280" y="1500120"/>
            <a:ext cx="750096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El  precepto  de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l os Duendes trae suerte, el original salió de los países europeos del nort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7 Imagen" descr="1N.jpg"/>
          <p:cNvPicPr/>
          <p:nvPr/>
        </p:nvPicPr>
        <p:blipFill>
          <a:blip r:embed="rId1"/>
          <a:stretch/>
        </p:blipFill>
        <p:spPr>
          <a:xfrm>
            <a:off x="0" y="1800360"/>
            <a:ext cx="7219800" cy="505764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"/>
          <p:cNvSpPr/>
          <p:nvPr/>
        </p:nvSpPr>
        <p:spPr>
          <a:xfrm>
            <a:off x="142920" y="1928880"/>
            <a:ext cx="85723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Constantia"/>
              </a:rPr>
              <a:t>Este precepto  ya ha dado  8 vueltas al mundo, ahora es a ti a quien  traerá suerte.  Después  de haber recibido  esta carta  tu  tendrás  buena suert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1 Imagen" descr="1N.jpg"/>
          <p:cNvPicPr/>
          <p:nvPr/>
        </p:nvPicPr>
        <p:blipFill>
          <a:blip r:embed="rId1"/>
          <a:stretch/>
        </p:blipFill>
        <p:spPr>
          <a:xfrm>
            <a:off x="0" y="1300320"/>
            <a:ext cx="4300560" cy="55576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3714840" y="1000080"/>
            <a:ext cx="542916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Esto no es ninguna broma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La suerte vendrá a ti, por correo  o por mail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Imagen" descr="1N.jpg"/>
          <p:cNvPicPr/>
          <p:nvPr/>
        </p:nvPicPr>
        <p:blipFill>
          <a:blip r:embed="rId1"/>
          <a:stretch/>
        </p:blipFill>
        <p:spPr>
          <a:xfrm>
            <a:off x="0" y="1300320"/>
            <a:ext cx="3814920" cy="55576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4"/>
          <p:cNvSpPr/>
          <p:nvPr/>
        </p:nvSpPr>
        <p:spPr>
          <a:xfrm>
            <a:off x="-71280" y="857160"/>
            <a:ext cx="91440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Constantia"/>
              </a:rPr>
              <a:t>Envía una copia de esta carta a las personas que realmente necesitan buena suerte, no envíes dinero  porque  la  suerte no se compra, y no conserves la carta mas allá de  96hs (4 día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1 Imagen" descr="1N.jpg"/>
          <p:cNvPicPr/>
          <p:nvPr/>
        </p:nvPicPr>
        <p:blipFill>
          <a:blip r:embed="rId1"/>
          <a:stretch/>
        </p:blipFill>
        <p:spPr>
          <a:xfrm>
            <a:off x="0" y="3143160"/>
            <a:ext cx="4530600" cy="37148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4"/>
          <p:cNvSpPr/>
          <p:nvPr/>
        </p:nvSpPr>
        <p:spPr>
          <a:xfrm>
            <a:off x="2000160" y="1571760"/>
            <a:ext cx="66438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Constantia"/>
              </a:rPr>
              <a:t>Algunos ejemplos  de  personas que fueron afortunadas luego de haber recibido  este precepto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Imagen" descr="1N.jpg"/>
          <p:cNvPicPr/>
          <p:nvPr/>
        </p:nvPicPr>
        <p:blipFill>
          <a:blip r:embed="rId1"/>
          <a:stretch/>
        </p:blipFill>
        <p:spPr>
          <a:xfrm>
            <a:off x="0" y="2428920"/>
            <a:ext cx="3543480" cy="44290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4"/>
          <p:cNvSpPr/>
          <p:nvPr/>
        </p:nvSpPr>
        <p:spPr>
          <a:xfrm>
            <a:off x="2571840" y="1785960"/>
            <a:ext cx="6572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onstantia"/>
              </a:rPr>
              <a:t>Constantin: Recibió la primera carta en 1953, pidió  a  su secretaria  hacer 20 copias. Nueve horas mas  tarde  gano  99 millones  de  marcos en la lotería  de  su paí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1 Imagen" descr="1N.jpg"/>
          <p:cNvPicPr/>
          <p:nvPr/>
        </p:nvPicPr>
        <p:blipFill>
          <a:blip r:embed="rId1"/>
          <a:stretch/>
        </p:blipFill>
        <p:spPr>
          <a:xfrm>
            <a:off x="0" y="1757520"/>
            <a:ext cx="7143840" cy="51004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4"/>
          <p:cNvSpPr/>
          <p:nvPr/>
        </p:nvSpPr>
        <p:spPr>
          <a:xfrm>
            <a:off x="2143080" y="1500120"/>
            <a:ext cx="700092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Constantia"/>
              </a:rPr>
              <a:t>Carlos: empleado, recibió  esta  misma carta, y no la envía, algunos  días  mas tarde  pierde  su empleo. Días después decide  continuar  la cadena  y  se  vuelve ric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Imagen" descr="1N.jpg"/>
          <p:cNvPicPr/>
          <p:nvPr/>
        </p:nvPicPr>
        <p:blipFill>
          <a:blip r:embed="rId1"/>
          <a:stretch/>
        </p:blipFill>
        <p:spPr>
          <a:xfrm>
            <a:off x="0" y="852480"/>
            <a:ext cx="6643800" cy="60055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4"/>
          <p:cNvSpPr/>
          <p:nvPr/>
        </p:nvSpPr>
        <p:spPr>
          <a:xfrm>
            <a:off x="0" y="1357200"/>
            <a:ext cx="91440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Constantia"/>
              </a:rPr>
              <a:t>En 1967, Bruno recibió la carta, se  burla  de  ella  y la bota, unos  días  después su hijo cae enfermo. El busco  la  carta, la copia 20 veces y la envía. 9 días  mas tarde, recibe la feliz noticia: Su hijo  sano  y salv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1 Imagen" descr="1N.jpg"/>
          <p:cNvPicPr/>
          <p:nvPr/>
        </p:nvPicPr>
        <p:blipFill>
          <a:blip r:embed="rId1"/>
          <a:stretch/>
        </p:blipFill>
        <p:spPr>
          <a:xfrm>
            <a:off x="0" y="852480"/>
            <a:ext cx="4503600" cy="60055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4"/>
          <p:cNvSpPr/>
          <p:nvPr/>
        </p:nvSpPr>
        <p:spPr>
          <a:xfrm>
            <a:off x="4071960" y="1071720"/>
            <a:ext cx="507204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onstantia"/>
              </a:rPr>
              <a:t>Esta misiva de la suerte ha sido enviada por Michael Jameson, un misionero de Irla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5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1 Imagen" descr="...nose....jpg"/>
          <p:cNvPicPr/>
          <p:nvPr/>
        </p:nvPicPr>
        <p:blipFill>
          <a:blip r:embed="rId1"/>
          <a:stretch/>
        </p:blipFill>
        <p:spPr>
          <a:xfrm>
            <a:off x="1143000" y="2532240"/>
            <a:ext cx="3071880" cy="432576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4"/>
          <p:cNvSpPr/>
          <p:nvPr/>
        </p:nvSpPr>
        <p:spPr>
          <a:xfrm>
            <a:off x="1785960" y="1643040"/>
            <a:ext cx="662472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Sobre el diner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3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1 Imagen" descr="1N.jpg"/>
          <p:cNvPicPr/>
          <p:nvPr/>
        </p:nvPicPr>
        <p:blipFill>
          <a:blip r:embed="rId1"/>
          <a:stretch/>
        </p:blipFill>
        <p:spPr>
          <a:xfrm>
            <a:off x="0" y="852480"/>
            <a:ext cx="4129200" cy="600552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4"/>
          <p:cNvSpPr/>
          <p:nvPr/>
        </p:nvSpPr>
        <p:spPr>
          <a:xfrm>
            <a:off x="4071960" y="1571760"/>
            <a:ext cx="50720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onstantia"/>
              </a:rPr>
              <a:t>Al cabo de 96 horas deberá botar la cart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1 Imagen" descr="1N.jpg"/>
          <p:cNvPicPr/>
          <p:nvPr/>
        </p:nvPicPr>
        <p:blipFill>
          <a:blip r:embed="rId1"/>
          <a:stretch/>
        </p:blipFill>
        <p:spPr>
          <a:xfrm>
            <a:off x="0" y="2928960"/>
            <a:ext cx="4064040" cy="39290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4"/>
          <p:cNvSpPr/>
          <p:nvPr/>
        </p:nvSpPr>
        <p:spPr>
          <a:xfrm>
            <a:off x="2571840" y="1143000"/>
            <a:ext cx="657216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onstantia"/>
              </a:rPr>
              <a:t>La suerte  te  llegara  en  menos de  4 días  a  partir del  momento  en que  hayas  recibido esta  carta, si cumples  con  lo solicitado  en  ell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1 Imagen" descr="1N.jpg"/>
          <p:cNvPicPr/>
          <p:nvPr/>
        </p:nvPicPr>
        <p:blipFill>
          <a:blip r:embed="rId1"/>
          <a:stretch/>
        </p:blipFill>
        <p:spPr>
          <a:xfrm>
            <a:off x="0" y="1874880"/>
            <a:ext cx="6643800" cy="4983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4"/>
          <p:cNvSpPr/>
          <p:nvPr/>
        </p:nvSpPr>
        <p:spPr>
          <a:xfrm>
            <a:off x="3857760" y="1571760"/>
            <a:ext cx="52862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onstantia"/>
              </a:rPr>
              <a:t>Esto  es  verda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onstantia"/>
              </a:rPr>
              <a:t>Esta misiva  ha sido  enviada para  dar buena  suert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onstantia"/>
              </a:rPr>
              <a:t>La  suerte acaba  de  tocar  su puerta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1 Imagen" descr="1N.jpg"/>
          <p:cNvPicPr/>
          <p:nvPr/>
        </p:nvPicPr>
        <p:blipFill>
          <a:blip r:embed="rId1"/>
          <a:stretch/>
        </p:blipFill>
        <p:spPr>
          <a:xfrm>
            <a:off x="0" y="852480"/>
            <a:ext cx="4557600" cy="600552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3357720" y="1357200"/>
            <a:ext cx="578628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onstantia"/>
              </a:rPr>
              <a:t>Envié  20 copias a  sus  conocidos, amigos, familiar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onstantia"/>
              </a:rPr>
              <a:t>Unos  días  mas tarde  tendrá buenas  noticias o  una  gran sorpres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1 Imagen" descr="1N.jpg"/>
          <p:cNvPicPr/>
          <p:nvPr/>
        </p:nvPicPr>
        <p:blipFill>
          <a:blip r:embed="rId1"/>
          <a:stretch/>
        </p:blipFill>
        <p:spPr>
          <a:xfrm>
            <a:off x="0" y="1444680"/>
            <a:ext cx="6643800" cy="54133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4"/>
          <p:cNvSpPr/>
          <p:nvPr/>
        </p:nvSpPr>
        <p:spPr>
          <a:xfrm>
            <a:off x="0" y="4786200"/>
            <a:ext cx="9144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onstantia"/>
              </a:rPr>
              <a:t>Yo  te  lo  envió  ya  que  la carta  tiene  que  dar  la vuelta  al  mund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1 Imagen" descr="1N.jpg"/>
          <p:cNvPicPr/>
          <p:nvPr/>
        </p:nvPicPr>
        <p:blipFill>
          <a:blip r:embed="rId1"/>
          <a:stretch/>
        </p:blipFill>
        <p:spPr>
          <a:xfrm>
            <a:off x="0" y="852480"/>
            <a:ext cx="4459320" cy="600552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4"/>
          <p:cNvSpPr/>
          <p:nvPr/>
        </p:nvSpPr>
        <p:spPr>
          <a:xfrm>
            <a:off x="4357800" y="642960"/>
            <a:ext cx="47862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onstantia"/>
              </a:rPr>
              <a:t>Envié  simplemente  20 copias  y  espere  a  ver lo que  pasara  el  noveno  dí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1 Imagen" descr="1N.jpg"/>
          <p:cNvPicPr/>
          <p:nvPr/>
        </p:nvPicPr>
        <p:blipFill>
          <a:blip r:embed="rId1"/>
          <a:stretch/>
        </p:blipFill>
        <p:spPr>
          <a:xfrm>
            <a:off x="0" y="3071880"/>
            <a:ext cx="5065560" cy="378612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4"/>
          <p:cNvSpPr/>
          <p:nvPr/>
        </p:nvSpPr>
        <p:spPr>
          <a:xfrm>
            <a:off x="1500120" y="2357280"/>
            <a:ext cx="6715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IMPORTANTE:</a:t>
            </a:r>
            <a:br>
              <a:rPr sz="4800"/>
            </a:br>
            <a:r>
              <a:rPr b="1" lang="es-MX" sz="4800" spc="-1" strike="noStrike">
                <a:solidFill>
                  <a:srgbClr val="ffffff"/>
                </a:solidFill>
                <a:latin typeface="Constantia"/>
              </a:rPr>
              <a:t>Envié</a:t>
            </a:r>
            <a:r>
              <a:rPr b="1" lang="es-MX" sz="4400" spc="-1" strike="noStrike">
                <a:solidFill>
                  <a:srgbClr val="ffffff"/>
                </a:solidFill>
                <a:latin typeface="Constantia"/>
              </a:rPr>
              <a:t> dentro de las 24 horas, para que la suerte este de su lado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onstantia"/>
              </a:rPr>
              <a:t>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onstantia"/>
              </a:rPr>
              <a:t>BUENA SUERTE!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1 Imagen" descr="Castillo.JPG"/>
          <p:cNvPicPr/>
          <p:nvPr/>
        </p:nvPicPr>
        <p:blipFill>
          <a:blip r:embed="rId1"/>
          <a:stretch/>
        </p:blipFill>
        <p:spPr>
          <a:xfrm>
            <a:off x="6708600" y="0"/>
            <a:ext cx="2435400" cy="3571920"/>
          </a:xfrm>
          <a:prstGeom prst="rect">
            <a:avLst/>
          </a:prstGeom>
          <a:ln w="0">
            <a:noFill/>
          </a:ln>
        </p:spPr>
      </p:pic>
      <p:pic>
        <p:nvPicPr>
          <p:cNvPr id="380" name="2 Imagen" descr="Castillo.JPG"/>
          <p:cNvPicPr/>
          <p:nvPr/>
        </p:nvPicPr>
        <p:blipFill>
          <a:blip r:embed="rId2"/>
          <a:stretch/>
        </p:blipFill>
        <p:spPr>
          <a:xfrm>
            <a:off x="0" y="3794040"/>
            <a:ext cx="4214880" cy="30639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4"/>
          <p:cNvSpPr/>
          <p:nvPr/>
        </p:nvSpPr>
        <p:spPr>
          <a:xfrm>
            <a:off x="1285920" y="1500120"/>
            <a:ext cx="662472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El dinero, puede comprar una casa </a:t>
            </a:r>
            <a:br>
              <a:rPr sz="5400"/>
            </a:b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pero no un hog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5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1 Imagen" descr="...nose....jpg"/>
          <p:cNvPicPr/>
          <p:nvPr/>
        </p:nvPicPr>
        <p:blipFill>
          <a:blip r:embed="rId1"/>
          <a:stretch/>
        </p:blipFill>
        <p:spPr>
          <a:xfrm>
            <a:off x="428760" y="1019160"/>
            <a:ext cx="4644720" cy="583884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4"/>
          <p:cNvSpPr/>
          <p:nvPr/>
        </p:nvSpPr>
        <p:spPr>
          <a:xfrm>
            <a:off x="3786120" y="2000160"/>
            <a:ext cx="535788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El dinero, puede comprar un reloj</a:t>
            </a:r>
            <a:br>
              <a:rPr sz="5400"/>
            </a:b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pero no el tiemp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1 Imagen" descr="...nose....jpg"/>
          <p:cNvPicPr/>
          <p:nvPr/>
        </p:nvPicPr>
        <p:blipFill>
          <a:blip r:embed="rId1"/>
          <a:stretch/>
        </p:blipFill>
        <p:spPr>
          <a:xfrm>
            <a:off x="571680" y="1019160"/>
            <a:ext cx="4155840" cy="58388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4"/>
          <p:cNvSpPr/>
          <p:nvPr/>
        </p:nvSpPr>
        <p:spPr>
          <a:xfrm>
            <a:off x="3786120" y="1785960"/>
            <a:ext cx="535788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El dinero, puede comprar una cama</a:t>
            </a:r>
            <a:br>
              <a:rPr sz="5400"/>
            </a:b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pero no el sueñ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1 Imagen" descr="...nose....jpg"/>
          <p:cNvPicPr/>
          <p:nvPr/>
        </p:nvPicPr>
        <p:blipFill>
          <a:blip r:embed="rId1"/>
          <a:stretch/>
        </p:blipFill>
        <p:spPr>
          <a:xfrm>
            <a:off x="285840" y="1500120"/>
            <a:ext cx="3554280" cy="535788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4"/>
          <p:cNvSpPr/>
          <p:nvPr/>
        </p:nvSpPr>
        <p:spPr>
          <a:xfrm>
            <a:off x="3286080" y="2143080"/>
            <a:ext cx="55720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El dinero, puede comprar un libro</a:t>
            </a:r>
            <a:br>
              <a:rPr sz="5400"/>
            </a:b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pero no el conocimient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1 Imagen" descr="...nose....jpg"/>
          <p:cNvPicPr/>
          <p:nvPr/>
        </p:nvPicPr>
        <p:blipFill>
          <a:blip r:embed="rId1"/>
          <a:stretch/>
        </p:blipFill>
        <p:spPr>
          <a:xfrm>
            <a:off x="0" y="2071800"/>
            <a:ext cx="6075360" cy="47862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4"/>
          <p:cNvSpPr/>
          <p:nvPr/>
        </p:nvSpPr>
        <p:spPr>
          <a:xfrm>
            <a:off x="3571920" y="1357200"/>
            <a:ext cx="55720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El dinero, puede pagar un medico, pero no la salu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1 Imagen" descr="...nose....jpg"/>
          <p:cNvPicPr/>
          <p:nvPr/>
        </p:nvPicPr>
        <p:blipFill>
          <a:blip r:embed="rId1"/>
          <a:stretch/>
        </p:blipFill>
        <p:spPr>
          <a:xfrm>
            <a:off x="500040" y="2071800"/>
            <a:ext cx="3176640" cy="47862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4"/>
          <p:cNvSpPr/>
          <p:nvPr/>
        </p:nvSpPr>
        <p:spPr>
          <a:xfrm>
            <a:off x="3571920" y="1714680"/>
            <a:ext cx="55720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El dinero, puede pagar una posición; pero no el respet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1 Imagen" descr="...nose....jpg"/>
          <p:cNvPicPr/>
          <p:nvPr/>
        </p:nvPicPr>
        <p:blipFill>
          <a:blip r:embed="rId1"/>
          <a:stretch/>
        </p:blipFill>
        <p:spPr>
          <a:xfrm>
            <a:off x="0" y="2071800"/>
            <a:ext cx="5443560" cy="47862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"/>
          <p:cNvSpPr/>
          <p:nvPr/>
        </p:nvSpPr>
        <p:spPr>
          <a:xfrm>
            <a:off x="3214800" y="928800"/>
            <a:ext cx="55720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El dinero, puede comprar la sangre, </a:t>
            </a:r>
            <a:br>
              <a:rPr sz="5400"/>
            </a:br>
            <a:r>
              <a:rPr b="1" lang="es-MX" sz="5400" spc="-1" strike="noStrike">
                <a:solidFill>
                  <a:srgbClr val="ffffff"/>
                </a:solidFill>
                <a:latin typeface="Constantia"/>
              </a:rPr>
              <a:t>pero no la vid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4 CuadroTexto"/>
          <p:cNvSpPr/>
          <p:nvPr/>
        </p:nvSpPr>
        <p:spPr>
          <a:xfrm>
            <a:off x="0" y="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www.sueniodelbosque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d7e8"/>
                </a:solidFill>
                <a:latin typeface="Arial"/>
              </a:rPr>
              <a:t>mangel20031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03:13:51Z</dcterms:created>
  <dc:creator>USUARIO</dc:creator>
  <dc:description/>
  <dc:language>en-US</dc:language>
  <cp:lastModifiedBy>Mangel</cp:lastModifiedBy>
  <dcterms:modified xsi:type="dcterms:W3CDTF">2008-02-11T16:42:58Z</dcterms:modified>
  <cp:revision>12</cp:revision>
  <dc:subject/>
  <dc:title>Diapositiva 1</dc:title>
</cp:coreProperties>
</file>