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228-C126-419D-8B78-EE5360B4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E36-C5E3-47AA-9EC8-BCE3E7C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537-2962-484A-9F0E-ED98D974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45C-A2A0-4CC6-90CA-2AD39338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450-E0DD-48A1-B81B-D067805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6B4-2E27-4D0A-9E3E-1ADF3AC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A0F-58D6-4024-8EED-E78AC7BD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FE-F91B-4E8F-A83B-5DE34DF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C73-9586-4791-AD18-AD3FB26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A9-652F-44F9-89AB-1BA11EC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CB5-E137-4188-8D21-ADF81B7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B70-77E4-413B-ACF9-CD5AB75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1F5-F59A-43E8-8732-B1784B16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img.bbc.co.uk/media/images/40668000/jpg/_40668372_bbc203bodysurgery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nvasor.islagrande.cu/2006/mayo/02/organos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384360" cy="306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40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EVA DROGA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5445000"/>
            <a:ext cx="58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¡ALERTA!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1269360"/>
            <a:ext cx="74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ea00"/>
                </a:solidFill>
                <a:latin typeface="Arial"/>
              </a:rPr>
              <a:t>LO IMPORTANTE ES DIFUNDIRLO, Y RECUERDEN: REENVIARLO  NO CUESTA NADA, QUE NO LE PASE A UN AMIGO(A) TUYO(A) SABIENDO DE ESTA DROGA, TE SENTIRÁS CULP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621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0000"/>
                </a:solidFill>
                <a:latin typeface="Arial"/>
              </a:rPr>
              <a:t>REENVÍALO Y COLABORA EN LA DIFUSIÓN ... POR EL BIEN DE TODOS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4437000"/>
            <a:ext cx="81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GRACIAS!. </a:t>
            </a:r>
            <a:endParaRPr b="0" lang="en-US" sz="1800" spc="1" strike="noStrike">
              <a:ln w="3816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7440" cy="105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349360"/>
            <a:ext cx="6696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LEAN CON MUCHA 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ATENCION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0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 FAV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IMPORTANTE PARA QUE 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ULG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SERES QUER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EMPRE APARECE UN iH..... DE P....! 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NO LE IMPOR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VIDA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N ATENTOS Y COMUNÍQUE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HIJOS TAMBIE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57680" cy="23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024360" cy="249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9316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ERTENCIA SOBRE UNA NUEVA DROGA QUE ESTÁ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9520"/>
            <a:ext cx="47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AQUELLOS QUE LES GUSTAN LAS SALIDAS A DISCOTECAS, TENGAN MUCHO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CUIDADO'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 ESTÉN MUY ALERTA CUANDO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BRE LES OFREZCA UNA BEBIDA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1413000"/>
            <a:ext cx="8137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STEN ATENCIÓN! 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27640" y="5157720"/>
            <a:ext cx="4176720" cy="1440000"/>
            <a:chOff x="4427640" y="5157720"/>
            <a:chExt cx="4176720" cy="1440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464000" y="5157720"/>
              <a:ext cx="413928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 rot="10800000">
              <a:off x="4501080" y="5157720"/>
              <a:ext cx="4103280" cy="96768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5793120"/>
              <a:ext cx="4176720" cy="80172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257400"/>
            <a:ext cx="53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Y UNA NUEV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E ESTÁ DE MODA LLAMAD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"PROGESTEREX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ES UNA PASTILLA PARA ESTERILIZAR. L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A SIENDO UTILIZADA POR VIOLADORES EN FIESTAS PARA ABUSAR DE SUS VÍCT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300640"/>
            <a:ext cx="78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EL ROHYPN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E ES UNA BENZODIAZEPINA QUE POR LO TANTO PUEDE PRODUCIR SOMNOLENCIA Y ALGO DE AMNESIA, ES UNA DROGA QUE, AL SER DISUELTA EN CUALQUIER BEBIDA, LA VÍCTIMA NO RECUERDA NADA DE LO OCURR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429000"/>
            <a:ext cx="452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S UTILIZADA POR VETERINARIOS PARA ESTERILIZAR ANIMALES GRANDES. SE CORRE EL RUMOR DE QUE ESTA DROGA SE USA EN CONJUNTO CON ROHYPN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376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7367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620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TAMBIÉN SE DISUELVE FÁCILMENTE, ES PAR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INHIBIR UN EMBARAZ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DE ESTA MANERA EL VIOLADOR NO TIENE DE QUE ¡PREOCUPARSE POR UN TEST DE PATERNIDAD PARA IDENTIFICARLO MESES DESPUÉS. LOS EFECTOS DEL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SON TEMPORALES..... CUALQUIER MUJER QUE TOME ESTO JAMÁS, ENTIÉNDASE BIEN,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JAMÁS PODRÁ CONCEB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71280"/>
            <a:ext cx="496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MALDITOS H.... DE... P.... “PONEN SUS MANOS EN ESTAS PÍLDORAS GRACIAS A LAS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FACULTADES DE VETERINAR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CUALQUIER UNIVERSIDAD. ES MUY FÁCIL OBTENERL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MBIÉN ES UTILIZADA PARA SACAR AL INDIVIDUO, YA SEA UNA DAMA O UN CABALLERO, Y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ROBARLE ALGÚN ÓRGANO (PARA EL TRÁFICO DE ÉSTO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Á SIENDO DIFUNDIDO EN MUCHOS LUGARES. INCLUSO, PARA ASOMBRO, HAY UN SITIO WEB QUE ENSEÑA A LA GENTE A USARLA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88000" y="476280"/>
            <a:ext cx="306072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3789360"/>
            <a:ext cx="3059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836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POR FAVOR RENVIEN ESTO A TODOS SUS AMIGOS EN ESPECIAL  A  LAS CH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2629440"/>
            <a:ext cx="608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ENVÍELO COMO </a:t>
            </a: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CCO:</a:t>
            </a: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PARA QUE A TODOS LES LLEGUE, Y NO SE FORME UNA LISTA INTERMINABLE DE DIRE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9:53:51Z</dcterms:created>
  <dc:creator/>
  <dc:description/>
  <dc:language>en-US</dc:language>
  <cp:lastModifiedBy>Robert</cp:lastModifiedBy>
  <dcterms:modified xsi:type="dcterms:W3CDTF">2007-06-09T15:37:08Z</dcterms:modified>
  <cp:revision>3</cp:revision>
  <dc:subject/>
  <dc:title>ALERTA NUEVA DROGA ¡¡¡ ATENCION !!!</dc:title>
</cp:coreProperties>
</file>