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9FD-B295-4625-8969-0F36EE46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468-D845-4932-AF22-E94678E4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A9B-F8BD-460A-9120-EF6A8BBF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523-8ABA-4DED-AB9F-B3596970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E549-1E42-4567-94E3-6851ED98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4583-7021-483E-9599-B93ABDD1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24D5-8E58-4DE2-B224-CB2679DF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7542-B048-4B38-9BD8-23ED229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DEC1-6947-40B7-A38D-4B419782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C565-661E-448A-B1EF-B5D0A913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B802-AED7-4AB2-8364-0095B737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3F5-2FF4-4B2B-A477-644C9485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BB6C-DE4F-43A4-A012-BA6C1447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38A1-9F1B-4A23-AA87-41D1680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60B3-FF86-4A72-B7D1-E3A7138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CE77-43B2-4AB4-B2A6-89DE0037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1FE7-F641-4ADD-AC32-D1E0A0E0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B0A-040A-46C4-9AFD-CD69387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67B-DC6B-4127-9237-2552E58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1EE-ED45-4E67-A2A2-3E9CE00B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0FB-49D1-4DE0-B972-812592E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B9E-B983-4A25-AE74-A01E11FB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AB1-9207-4224-A2FB-9509606D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C2A-0751-487C-97DB-97F2760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D3BC-BBFD-435F-A53F-CDA5079ED353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17B2-9FF1-40B1-B8DE-1F06AB0A809F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Gestão contemporânea da qualidad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busca da excel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lidade dos produtos e serviços não pode ser vista como um diferencial nas organizações, mas sim como a condição básica para se manterem n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quanto a melhoria contínua da qualidade se aplica no nível operacional, a qualidade total estende o conceito de qualidade, desde o pessoal do escritório e do chão da fábrica até a cúpula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objetivo é acrescentar valor continuamente. Ambas seguem um processo composto das seguintes etap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0066"/>
                </a:solidFill>
                <a:latin typeface="Arial"/>
              </a:rPr>
              <a:t>Escolha de uma área de melhori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mo redução da porcentagem de defeitos; redução do absenteísmo do pess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0066"/>
                </a:solidFill>
                <a:latin typeface="Arial"/>
              </a:rPr>
              <a:t>Definição da equipe que tratará da melhori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técnicas participativas para mobilizar as pessoas na derrubada de barreiras à qu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0066"/>
                </a:solidFill>
                <a:latin typeface="Arial"/>
              </a:rPr>
              <a:t>Identificação dos benchmarks. Benchmark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gnifica um padrão de excelência a ser identificado, conhecido e copiad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0066"/>
                </a:solidFill>
                <a:latin typeface="Arial"/>
              </a:rPr>
              <a:t>Análise do método atua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equipe de melhoria analisa o método atual de trabalho para comparar como ele pode ser </a:t>
            </a:r>
            <a:r>
              <a:rPr b="0" lang="en-US" sz="2800" spc="-1" strike="noStrike">
                <a:solidFill>
                  <a:srgbClr val="1d003a"/>
                </a:solidFill>
                <a:latin typeface="Arial"/>
              </a:rPr>
              <a:t>melho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Estudo-piloto da melho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equipe elabora um esquema para melhorar a qualidade, e testa a sua relação de custo e benefí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Implementação das melhoria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equipe propõe a melhoria, e a direção assegura sua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59280" y="333360"/>
            <a:ext cx="2016000" cy="113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olher 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re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5373720"/>
            <a:ext cx="2016000" cy="113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analis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mpenh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od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005360"/>
            <a:ext cx="2016360" cy="1130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desenv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estu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4005360"/>
            <a:ext cx="2016360" cy="1130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Ident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1916280"/>
            <a:ext cx="2016000" cy="1130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organiza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horia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989000"/>
            <a:ext cx="2016000" cy="113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adminis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melh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692280"/>
            <a:ext cx="733320" cy="1079280"/>
          </a:xfrm>
          <a:custGeom>
            <a:avLst/>
            <a:gdLst>
              <a:gd name="textAreaLeft" fmla="*/ 98280 w 733320"/>
              <a:gd name="textAreaRight" fmla="*/ 635040 w 7333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997360"/>
            <a:ext cx="733320" cy="1079280"/>
          </a:xfrm>
          <a:custGeom>
            <a:avLst/>
            <a:gdLst>
              <a:gd name="textAreaLeft" fmla="*/ 98280 w 733320"/>
              <a:gd name="textAreaRight" fmla="*/ 635040 w 7333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7283400">
            <a:off x="1978920" y="5157360"/>
            <a:ext cx="733320" cy="1079640"/>
          </a:xfrm>
          <a:custGeom>
            <a:avLst/>
            <a:gdLst>
              <a:gd name="textAreaLeft" fmla="*/ 98280 w 733320"/>
              <a:gd name="textAreaRight" fmla="*/ 635040 w 7333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332200">
            <a:off x="5579640" y="5373720"/>
            <a:ext cx="733320" cy="1079640"/>
          </a:xfrm>
          <a:custGeom>
            <a:avLst/>
            <a:gdLst>
              <a:gd name="textAreaLeft" fmla="*/ 98280 w 733320"/>
              <a:gd name="textAreaRight" fmla="*/ 635040 w 7333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3751400">
            <a:off x="1738080" y="356400"/>
            <a:ext cx="733320" cy="1397160"/>
          </a:xfrm>
          <a:custGeom>
            <a:avLst/>
            <a:gdLst>
              <a:gd name="textAreaLeft" fmla="*/ 98280 w 733320"/>
              <a:gd name="textAreaRight" fmla="*/ 635040 w 733320"/>
              <a:gd name="textAreaTop" fmla="*/ 244440 h 1397160"/>
              <a:gd name="textAreaBottom" fmla="*/ 1013040 h 13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7699800">
            <a:off x="1215360" y="3039480"/>
            <a:ext cx="733680" cy="1079640"/>
          </a:xfrm>
          <a:custGeom>
            <a:avLst/>
            <a:gdLst>
              <a:gd name="textAreaLeft" fmla="*/ 98280 w 733680"/>
              <a:gd name="textAreaRight" fmla="*/ 635400 w 73368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73280" y="5537160"/>
            <a:ext cx="18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process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ia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gerenciamento da qualidade total (total quality management – TQM) é um conceito de controle que atribui às pessoas – e não somente aos gerentes o alcance dos padrões de qual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tema central d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qualidade total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simples: a qualidade está nas pessoas que a produzem. Com isso, o controle rígido, centralizado  – cede lugar para o controle efetuado pelas pessoas envolvidas – solto e descentraliz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drawingml/2006/table">
            <a:tbl>
              <a:tblPr/>
              <a:tblGrid>
                <a:gridCol w="2050920"/>
                <a:gridCol w="3600720"/>
                <a:gridCol w="349236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 burocrá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 pelas pesso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ários devem seguir as regras e regula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ários comprometidos com a qu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s formais de controle, regras, hierarquia, inspetores de CQ, tecnolog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a corporativa, equipes, socialização das pesso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mpen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rões mensuráveis definem o desempen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n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nfase no alto desempenho e orientação dinâmica para o mer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tu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tura alta e verticalizada. Controles de cima para baixo. Autoridade</a:t>
                      </a:r>
                      <a:r>
                        <a:rPr b="0" lang="pt-B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pos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tura baixa e horizontal. Objetivos compartilhados. Autoridade do conhe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pen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adas no resultado do funcionário no seu car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adas no resultado do grupo e na equ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izada e estr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e amp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84320" y="6491160"/>
            <a:ext cx="51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ntrole burocrático e o controle “adhocrát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Quem resolve os problemas da qualidade na organizaçã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qualidade total muda o foco do controle externo para o interior da cada pessoa. O objetivo é tornar cada pessoa a responsável por seu próprio desempenho, e que todos se comprometam a atingir a qualidade de maneira motiva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786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Os 10 mandamentos da qualidade tota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abaf01"/>
                </a:solidFill>
                <a:latin typeface="Arial"/>
              </a:rPr>
              <a:t>.Satisfação do client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cliente deve ser a pessoa mais importante da organização. O que seria de uma organização sem seus cli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abaf01"/>
                </a:solidFill>
                <a:latin typeface="Arial"/>
              </a:rPr>
              <a:t>.  Delegação</a:t>
            </a:r>
            <a:r>
              <a:rPr b="0" lang="en-US" sz="2600" spc="-1" strike="noStrike">
                <a:solidFill>
                  <a:srgbClr val="abaf01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s organizações, é impossível administrar sem delegar competência. Delegar significa colocar o poder de decisão mais próximo da 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0" i="1" lang="en-US" sz="2600" spc="-1" strike="noStrike">
                <a:solidFill>
                  <a:srgbClr val="abaf01"/>
                </a:solidFill>
                <a:latin typeface="Arial"/>
              </a:rPr>
              <a:t>.Gerênc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Na gestão da qualidade, gerenciar significa liderar e não impor ou controlar. Liderar significa motivar, ouvir sugestões, compartilhar objet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084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Melhoria contínu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organização precisa estar aberta às rápidas mudanças na sociedade, na tecnologia e nas novas necessidades dos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Desenvolvimento de pesso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o satisfazer aspirações das pessoas, a organização multiplica o potencial e iniciativa das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Disseminação de informaçõ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odos os planos, metas e objetivos devem ser de conhecimento comum dentro da organ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Não-aceitação de erro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busca da perfeição deve ser uma preocupação constante. Err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Constância de propósito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etimento e convergência de ações na organização. Constância e perseverança são fundament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abaf01"/>
                </a:solidFill>
                <a:latin typeface="Arial"/>
              </a:rPr>
              <a:t>.  Garantia de qualid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É preciso investir em planejamento, organização e sistematização de proces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stão da qualidade total, conhecida como TQM, e também citada como GQT ou TQC, foi desenvolvida entre as décadas 1950 e 1980 e baseia-se nos trabalhos dos autores Crosby, Deming, Feigenbaum, Ishikawa e Ju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undiu-se como o sistema de gestão mais conhecido e utilizado na indústria. Ele é,  focado nas necessidades dos clientes, além de tornar a qualidade prioridade nas empresas, torna-a um processo de melhoria contín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330066"/>
                </a:solidFill>
                <a:latin typeface="Arial"/>
              </a:rPr>
              <a:t>10</a:t>
            </a:r>
            <a:r>
              <a:rPr b="0" lang="pt-BR" sz="3000" spc="-1" strike="noStrike">
                <a:solidFill>
                  <a:srgbClr val="abaf01"/>
                </a:solidFill>
                <a:latin typeface="Arial"/>
              </a:rPr>
              <a:t>. </a:t>
            </a:r>
            <a:r>
              <a:rPr b="0" lang="pt-BR" sz="2800" spc="-1" strike="noStrike">
                <a:solidFill>
                  <a:srgbClr val="abaf01"/>
                </a:solidFill>
                <a:latin typeface="Arial"/>
              </a:rPr>
              <a:t>Gerencia de process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A gerência de processos utiliza o conceito de cadeia-fornecedor para eliminar barreiras entre as áreas da empresa, promovendo integração e eficiência no resultado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qualidade total se aplica a todos os níveis da organização, e deve começar no topo da empresa. O comprometimento da alta administração é indispensá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endências para a gestão contemporânea da qualidad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guagem econômica deverá estar necessariamente atrelada à linguagem da qualidade. Isto é a melhoria da qualidade resulta em ganhos financeiros mensurá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stão da qualidade será, cada vez mais , parte integrante do trabalho de cada pessoa n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ão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conhecimentos e as ferramentas de gestão da qualidade serão adotados por cada vez mais pessoas em todos os setores dos diversos tipos de organiza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lhoria contínu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elhoria contínua é uma técnica de mudança organizacional suave e contínua. Visa à qualidade dos produtos e serviços em programas de longo pr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abordagem para obter excelência nos produtos e serviços a partir das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ilosofia de melhoria contínua deriva 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aizen (d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aponês Kai, que significa mudança, e zen, que significa bom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Kaizen é uma filosofia de melhoria contínua de todas as pessoas da organização, de maneira que a execução das tarefas é melhor a cada d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fazer melhor as coisas ( como eliminação do desperdício – de tempo, material, esforço e dinheiro – e elevação da qualidade - de produtos ,serviços e competências pessoais) para reduzir custos de fabr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verdade, kaisen é uma maneira de pensar e agir baseada em princípios com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verdade,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kaise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maneira de pensar e agir baseada em princípios com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 Promover o aprimoramento contín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 Enfatizar o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 Reconhecer o problema aber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. Promover a discussão aberta e fran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. Criar e incentivar equipes de trabal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Gerenciar projetos por intermédio de equipes   multifunc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Incentivar o relacionamento entre as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Desenvolver a autodiscip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Comunicar e informar a todas as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Treinar intensivamente e capacitar todas as  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ualidade tota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qualidade total é uma decorrência da aplicação da melhoria contínu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idade tem vários significados. Qualidade  é o atendimento das exigências do cliente. Para Deming, “ a qualidade deve ter como objetivo as necessidades do usuário, presentes e futur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Juran, “é a adequação à finalidade ou ao uso”. Para Crosby, é a conformidade com as exigência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Feigenbaum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iz que ela é “ o total das características de um produto ou serviço referentes a marketing, engenharia, manufatura e manutenção, pelas quais o produto ou serviço, quando em uso, atenderá às expectativas do cliente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os os conceitos de qualidade falam o mesmo idioma e por trás deles esta a figura do cli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fornecedores/clientes internos e externos são o núcleo da qualidade tot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11:40Z</dcterms:created>
  <dc:creator>Cliente</dc:creator>
  <dc:description/>
  <dc:language>en-US</dc:language>
  <cp:lastModifiedBy>user</cp:lastModifiedBy>
  <dcterms:modified xsi:type="dcterms:W3CDTF">2009-09-23T18:43:40Z</dcterms:modified>
  <cp:revision>12</cp:revision>
  <dc:subject/>
  <dc:title>Gestão contemporânea da qualidade</dc:title>
</cp:coreProperties>
</file>