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10AB-F3D0-4C6C-9AF1-074F270E9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EDED-9D8C-4D11-B716-BBE7645B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66B9-F754-4AD9-A20C-06639EFF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CDFC-3411-47F7-B2E7-A99717AAF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FDF1-77A2-4C36-951D-F7DE503A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7114-D455-44D2-A875-4BC281CA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B851-26DC-4D36-8CFB-63684D0E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8EC9-B840-40A3-825B-5B7DE4FE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4796-AD3D-494E-AFB5-62A209D3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06B8-D1B5-430A-B50E-106883D3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76AC-C7E4-4579-9070-2D237225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5DDE-A5A7-4BE3-B8B0-05A75F40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5729-4EA0-43C6-B68E-8DEC25B4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0812-2887-444B-97B3-D4D79BBC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5430-EE54-475F-950D-F5EBCF08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5E30-11D9-4EEF-A56A-CECA7437C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51C7-4338-4B1B-9DB0-C4610FF4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2E8F-DC64-4469-B6F8-3D7DB631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1FB6-E015-4EC1-B132-F496B946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B85F-75D5-413E-B4C1-03F5304D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9B1A-E2DE-4B22-903B-D2490D30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E1FE-F83B-4080-B93C-D27774AB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A150-2151-4892-8321-CB992E02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8837-7F28-434D-B144-574319FA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0326-18F1-4E7A-91F9-C33AA01CB617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12AF-CCF3-4557-977F-B278A644632E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Gestão contemporânea da qualidade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 busca da excel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qualidade dos produtos e serviços não pode ser vista como um diferencial nas organizações, mas sim como a condição básica para se manterem no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quanto a melhoria contínua da qualidade se aplica no nível operacional, a qualidade total estende o conceito de qualidade, desde o pessoal do escritório e do chão da fábrica até a cúpula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 objetivo é acrescentar valor continuamente. Ambas seguem um processo composto das seguintes etap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330066"/>
                </a:solidFill>
                <a:latin typeface="Arial"/>
              </a:rPr>
              <a:t>Escolha de uma área de melhoria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como redução da porcentagem de defeitos; redução do absenteísmo do pesso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330066"/>
                </a:solidFill>
                <a:latin typeface="Arial"/>
              </a:rPr>
              <a:t>Definição da equipe que tratará da melhoria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ão técnicas participativas para mobilizar as pessoas na derrubada de barreiras à qualid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330066"/>
                </a:solidFill>
                <a:latin typeface="Arial"/>
              </a:rPr>
              <a:t>Identificação dos benchmarks. Benchmark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gnifica um padrão de excelência a ser identificado, conhecido e copiado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79280" y="83628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0066"/>
                </a:solidFill>
                <a:latin typeface="Arial"/>
              </a:rPr>
              <a:t>Análise do método atual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equipe de melhoria analisa o método atual de trabalho para comparar como ele pode ser </a:t>
            </a:r>
            <a:r>
              <a:rPr b="0" lang="en-US" sz="2800" spc="-1" strike="noStrike">
                <a:solidFill>
                  <a:srgbClr val="1d003a"/>
                </a:solidFill>
                <a:latin typeface="Arial"/>
              </a:rPr>
              <a:t>melhor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Arial"/>
              </a:rPr>
              <a:t>Estudo-piloto da melhor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A equipe elabora um esquema para melhorar a qualidade, e testa a sua relação de custo e benefí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Arial"/>
              </a:rPr>
              <a:t>Implementação das melhorias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equipe propõe a melhoria, e a direção assegura sua implement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059280" y="333360"/>
            <a:ext cx="2016000" cy="1130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colher u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área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bal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03640" y="5373720"/>
            <a:ext cx="2016000" cy="1130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-analisar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empenho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étodo a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4005360"/>
            <a:ext cx="2016360" cy="11300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- desenvol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 estu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l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24360" y="4005360"/>
            <a:ext cx="2016360" cy="11300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. Identif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benchm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651640" y="1916280"/>
            <a:ext cx="2016000" cy="11300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organizar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e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horia 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1989000"/>
            <a:ext cx="2016000" cy="1130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-administra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 melho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35640" y="692280"/>
            <a:ext cx="733320" cy="1079280"/>
          </a:xfrm>
          <a:custGeom>
            <a:avLst/>
            <a:gdLst>
              <a:gd name="textAreaLeft" fmla="*/ 98280 w 733320"/>
              <a:gd name="textAreaRight" fmla="*/ 635040 w 733320"/>
              <a:gd name="textAreaTop" fmla="*/ 188640 h 1079280"/>
              <a:gd name="textAreaBottom" fmla="*/ 782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00720" y="2997360"/>
            <a:ext cx="733320" cy="1079280"/>
          </a:xfrm>
          <a:custGeom>
            <a:avLst/>
            <a:gdLst>
              <a:gd name="textAreaLeft" fmla="*/ 98280 w 733320"/>
              <a:gd name="textAreaRight" fmla="*/ 635040 w 733320"/>
              <a:gd name="textAreaTop" fmla="*/ 188640 h 1079280"/>
              <a:gd name="textAreaBottom" fmla="*/ 782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7283400">
            <a:off x="1978920" y="5157360"/>
            <a:ext cx="733320" cy="1079640"/>
          </a:xfrm>
          <a:custGeom>
            <a:avLst/>
            <a:gdLst>
              <a:gd name="textAreaLeft" fmla="*/ 98280 w 733320"/>
              <a:gd name="textAreaRight" fmla="*/ 635040 w 733320"/>
              <a:gd name="textAreaTop" fmla="*/ 189000 h 1079640"/>
              <a:gd name="textAreaBottom" fmla="*/ 783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2332200">
            <a:off x="5579640" y="5373720"/>
            <a:ext cx="733320" cy="1079640"/>
          </a:xfrm>
          <a:custGeom>
            <a:avLst/>
            <a:gdLst>
              <a:gd name="textAreaLeft" fmla="*/ 98280 w 733320"/>
              <a:gd name="textAreaRight" fmla="*/ 635040 w 733320"/>
              <a:gd name="textAreaTop" fmla="*/ 189000 h 1079640"/>
              <a:gd name="textAreaBottom" fmla="*/ 783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3751400">
            <a:off x="1738080" y="356400"/>
            <a:ext cx="733320" cy="1397160"/>
          </a:xfrm>
          <a:custGeom>
            <a:avLst/>
            <a:gdLst>
              <a:gd name="textAreaLeft" fmla="*/ 98280 w 733320"/>
              <a:gd name="textAreaRight" fmla="*/ 635040 w 733320"/>
              <a:gd name="textAreaTop" fmla="*/ 244440 h 1397160"/>
              <a:gd name="textAreaBottom" fmla="*/ 1013040 h 139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7699800">
            <a:off x="1215360" y="3039480"/>
            <a:ext cx="733680" cy="1079640"/>
          </a:xfrm>
          <a:custGeom>
            <a:avLst/>
            <a:gdLst>
              <a:gd name="textAreaLeft" fmla="*/ 98280 w 733680"/>
              <a:gd name="textAreaRight" fmla="*/ 635400 w 733680"/>
              <a:gd name="textAreaTop" fmla="*/ 189000 h 1079640"/>
              <a:gd name="textAreaBottom" fmla="*/ 783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73280" y="5537160"/>
            <a:ext cx="183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process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lhoria 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gerenciamento da qualidade total (total quality management – TQM) é um conceito de controle que atribui às pessoas – e não somente aos gerentes o alcance dos padrões de qualida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tema central da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qualidade total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é simples: a qualidade está nas pessoas que a produzem. Com isso, o controle rígido, centralizado  – cede lugar para o controle efetuado pelas pessoas envolvidas – solto e descentralizad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0" y="0"/>
          <a:ext cx="9144000" cy="6877080"/>
        </p:xfrm>
        <a:graphic>
          <a:graphicData uri="http://schemas.openxmlformats.org/drawingml/2006/table">
            <a:tbl>
              <a:tblPr/>
              <a:tblGrid>
                <a:gridCol w="2050920"/>
                <a:gridCol w="3600720"/>
                <a:gridCol w="3492360"/>
              </a:tblGrid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e burocrá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e pelas pesso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ós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onários devem seguir as regras e regulamen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onários comprometidos com a qual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cnica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s formais de controle, regras, hierarquia, inspetores de CQ, tecnolog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ltura corporativa, equipes, socialização das pesso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mpen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drões mensuráveis definem o desempenh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íni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Ênfase no alto desempenho e orientação dinâmica para o mer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utur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utura alta e verticalizada. Controles de cima para baixo. Autoridade</a:t>
                      </a:r>
                      <a:r>
                        <a:rPr b="0" lang="pt-B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 posi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utura baixa e horizontal. Objetivos compartilhados. Autoridade do conheci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pens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adas no resultado do funcionário no seu car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adas no resultado do grupo e na equ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lizada e estre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l e amp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84320" y="6491160"/>
            <a:ext cx="51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controle burocrático e o controle “adhocrátic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Quem resolve os problemas da qualidade na organização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qualidade total muda o foco do controle externo para o interior da cada pessoa. O objetivo é tornar cada pessoa a responsável por seu próprio desempenho, e que todos se comprometam a atingir a qualidade de maneira motivad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786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Os 10 mandamentos da qualidade total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5690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330066"/>
                </a:solidFill>
                <a:latin typeface="Arial"/>
              </a:rPr>
              <a:t>1</a:t>
            </a:r>
            <a:r>
              <a:rPr b="0" i="1" lang="en-US" sz="2600" spc="-1" strike="noStrike">
                <a:solidFill>
                  <a:srgbClr val="abaf01"/>
                </a:solidFill>
                <a:latin typeface="Arial"/>
              </a:rPr>
              <a:t>.Satisfação do cliente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 cliente deve ser a pessoa mais importante da organização. O que seria de uma organização sem seus clie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330066"/>
                </a:solidFill>
                <a:latin typeface="Arial"/>
              </a:rPr>
              <a:t>2</a:t>
            </a:r>
            <a:r>
              <a:rPr b="0" i="1" lang="en-US" sz="2600" spc="-1" strike="noStrike">
                <a:solidFill>
                  <a:srgbClr val="abaf01"/>
                </a:solidFill>
                <a:latin typeface="Arial"/>
              </a:rPr>
              <a:t>.  Delegação</a:t>
            </a:r>
            <a:r>
              <a:rPr b="0" lang="en-US" sz="2600" spc="-1" strike="noStrike">
                <a:solidFill>
                  <a:srgbClr val="abaf01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Nas organizações, é impossível administrar sem delegar competência. Delegar significa colocar o poder de decisão mais próximo da açã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330066"/>
                </a:solidFill>
                <a:latin typeface="Arial"/>
              </a:rPr>
              <a:t>3</a:t>
            </a:r>
            <a:r>
              <a:rPr b="0" i="1" lang="en-US" sz="2600" spc="-1" strike="noStrike">
                <a:solidFill>
                  <a:srgbClr val="abaf01"/>
                </a:solidFill>
                <a:latin typeface="Arial"/>
              </a:rPr>
              <a:t>.Gerênc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Na gestão da qualidade, gerenciar significa liderar e não impor ou controlar. Liderar significa motivar, ouvir sugestões, compartilhar objetiv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0848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baf01"/>
                </a:solidFill>
                <a:latin typeface="Arial"/>
              </a:rPr>
              <a:t>Melhoria contínu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A organização precisa estar aberta às rápidas mudanças na sociedade, na tecnologia e nas novas necessidades dos cli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baf01"/>
                </a:solidFill>
                <a:latin typeface="Arial"/>
              </a:rPr>
              <a:t>Desenvolvimento de pesso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Ao satisfazer aspirações das pessoas, a organização multiplica o potencial e iniciativa das pesso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baf01"/>
                </a:solidFill>
                <a:latin typeface="Arial"/>
              </a:rPr>
              <a:t>Disseminação de informaçõ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odos os planos, metas e objetivos devem ser de conhecimento comum dentro da organiz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baf01"/>
                </a:solidFill>
                <a:latin typeface="Arial"/>
              </a:rPr>
              <a:t>Não-aceitação de erro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busca da perfeição deve ser uma preocupação constante. Erro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baf01"/>
                </a:solidFill>
                <a:latin typeface="Arial"/>
              </a:rPr>
              <a:t>Constância de propósito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ometimento e convergência de ações na organização. Constância e perseverança são fundamenta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abaf01"/>
                </a:solidFill>
                <a:latin typeface="Arial"/>
              </a:rPr>
              <a:t>.  Garantia de qualida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É preciso investir em planejamento, organização e sistematização de proces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gestão da qualidade total, conhecida como TQM, e também citada como GQT ou TQC, foi desenvolvida entre as décadas 1950 e 1980 e baseia-se nos trabalhos dos autores Crosby, Deming, Feigenbaum, Ishikawa e Jur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fundiu-se como o sistema de gestão mais conhecido e utilizado na indústria. Ele é,  focado nas necessidades dos clientes, além de tornar a qualidade prioridade nas empresas, torna-a um processo de melhoria contínu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78920" y="1125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330066"/>
                </a:solidFill>
                <a:latin typeface="Arial"/>
              </a:rPr>
              <a:t>10</a:t>
            </a:r>
            <a:r>
              <a:rPr b="0" lang="pt-BR" sz="3000" spc="-1" strike="noStrike">
                <a:solidFill>
                  <a:srgbClr val="abaf01"/>
                </a:solidFill>
                <a:latin typeface="Arial"/>
              </a:rPr>
              <a:t>. </a:t>
            </a:r>
            <a:r>
              <a:rPr b="0" lang="pt-BR" sz="2800" spc="-1" strike="noStrike">
                <a:solidFill>
                  <a:srgbClr val="abaf01"/>
                </a:solidFill>
                <a:latin typeface="Arial"/>
              </a:rPr>
              <a:t>Gerencia de process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 A gerência de processos utiliza o conceito de cadeia-fornecedor para eliminar barreiras entre as áreas da empresa, promovendo integração e eficiência no resultado f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qualidade total se aplica a todos os níveis da organização, e deve começar no topo da empresa. O comprometimento da alta administração é indispensá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Tendências para a gestão contemporânea da qualidade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nguagem econômica deverá estar necessariamente atrelada à linguagem da qualidade. Isto é a melhoria da qualidade resulta em ganhos financeiros mensuráve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estão da qualidade será, cada vez mais , parte integrante do trabalho de cada pessoa n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lusão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s conhecimentos e as ferramentas de gestão da qualidade serão adotados por cada vez mais pessoas em todos os setores dos diversos tipos de organizaçã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lhoria contínu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melhoria contínua é uma técnica de mudança organizacional suave e contínua. Visa à qualidade dos produtos e serviços em programas de longo praz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É uma abordagem para obter excelência nos produtos e serviços a partir das pesso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filosofia de melhoria contínua deriva d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kaizen (do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japonês Kai, que significa mudança, e zen, que significa bom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Kaizen é uma filosofia de melhoria contínua de todas as pessoas da organização, de maneira que a execução das tarefas é melhor a cada d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É fazer melhor as coisas ( como eliminação do desperdício – de tempo, material, esforço e dinheiro – e elevação da qualidade - de produtos ,serviços e competências pessoais) para reduzir custos de fabric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verdade, kaisen é uma maneira de pensar e agir baseada em princípios como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640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a verdade,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kaisen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é uma maneira de pensar e agir baseada em princípios com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. Promover o aprimoramento contínu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. Enfatizar o cl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3. Reconhecer o problema abert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4. Promover a discussão aberta e fran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5. Criar e incentivar equipes de trabal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 Gerenciar projetos por intermédio de equipes   multifunciona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 Incentivar o relacionamento entre as pesso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 Desenvolver a autodiscipl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 Comunicar e informar a todas as pesso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Treinar intensivamente e capacitar todas as   pesso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7543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Qualidade total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 qualidade total é uma decorrência da aplicação da melhoria contínu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lidade tem vários significados. Qualidade  é o atendimento das exigências do cliente. Para Deming, “ a qualidade deve ter como objetivo as necessidades do usuário, presentes e futura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Juran, “é a adequação à finalidade ou ao uso”. Para Crosby, é a conformidade com as exigências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Feigenbaum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diz que ela é “ o total das características de um produto ou serviço referentes a marketing, engenharia, manufatura e manutenção, pelas quais o produto ou serviço, quando em uso, atenderá às expectativas do cliente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dos os conceitos de qualidade falam o mesmo idioma e por trás deles esta a figura do clien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s fornecedores/clientes internos e externos são o núcleo da qualidade tot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3:11:40Z</dcterms:created>
  <dc:creator>Cliente</dc:creator>
  <dc:description/>
  <dc:language>en-US</dc:language>
  <cp:lastModifiedBy>user</cp:lastModifiedBy>
  <dcterms:modified xsi:type="dcterms:W3CDTF">2009-09-23T18:43:40Z</dcterms:modified>
  <cp:revision>12</cp:revision>
  <dc:subject/>
  <dc:title>Gestão contemporânea da qualidade</dc:title>
</cp:coreProperties>
</file>