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F8C-86B5-46D3-AB36-134E75D4C3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E6E-ADD5-41A1-8C29-A1D62A4EF5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EC9-B6D4-4224-BF0A-99E8BE1034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17F-44BB-4A3E-91B7-E678CF4490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A89D-23B7-497F-989E-655533AC22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275-DBF6-465F-91FF-C472740421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597-C2E7-4B53-AC80-2B8C219B76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7108-4A9F-481C-883E-202259081D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92E-4A6A-4355-AA4F-82BB25443B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2C1-D78F-4F4D-A51F-A5302D25C3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6CF-E628-4AED-B0A2-2539E39D37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840-90F8-4E2E-82B6-327F3D1D6D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530-81FA-46DC-8863-8E956BF3DA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8F7-C919-4048-92CF-ABEFBA8E7B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12C-9231-4BF8-B056-BB844D0D54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DD8-B6C9-4FF1-947F-C909F69632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9BE7-8421-4368-835C-76C698F55E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4F23-C287-49CD-A8D0-459610E2076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3408-6529-4E14-9D96-985C46C32D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3F45-F929-49EC-A44B-CD636F9561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9036-74A6-4417-96DA-896A2A57B3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C3F-0C26-4309-BF42-A06A7F8BDC3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81E-35B1-4217-8C94-7D3C1CB1B0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C0D0-0037-4753-8118-219BFBC2D1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410-8246-4FB9-A8B7-05DBAA915B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047A-ACB8-463E-8A84-37DF5BBCBFE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5EE-17FF-4986-AE2D-BC398C4C18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319-5315-4BCB-8764-CC02364054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91F-B21C-43F3-929E-DC9FB5B953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C99-F426-42B1-A8FE-5CF7AA35BFF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DD1-D517-482D-8EE2-7C61820227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7FAF-BE45-446F-A683-BCEF2C581E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EFB-D3E8-4800-BECF-8EF7D23FD8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5B8-2B34-40E3-8687-C8098C23E1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D665-E3B0-42EE-A86C-82FF2F8B82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E647-AB1A-435C-99C8-5F1B2DF933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56A0-D2CD-4F2A-A6BB-5DCC4F8653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136-FB35-4940-9E47-272B9DC907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48B-1ECA-4B69-8505-571FBF08C2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72C-EB1F-4258-8E49-F0CB5CF2D5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8910-8D7F-4FE3-9046-2F232653D7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2E7-D842-4E51-9C0E-99D9E409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7D8-6AF4-4CDD-836E-1F254825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64D-CC97-4EBA-B60A-C24E123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945-CE56-4064-B0D1-4A054E5D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47D-DBA8-4B46-900A-BBA7322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FC4-7CE8-481F-ACAD-25C95CE0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A5D-463F-469E-90E7-15D86E97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BA9-1B49-4F8C-87B1-91020636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3F5-43AB-4D39-B1DB-BB807BC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34D-6867-481B-9FCB-5DD594B8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FF3-09D4-4E83-A5A9-8EEA9B6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171-E873-44CD-B433-9894F7F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A89-0818-49AF-A1E0-A18A220D46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02AD-F9A9-43DE-84EF-D56F2D21AB0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84280"/>
            <a:ext cx="8280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 a ordem existente para melhorar a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geral, afeta as linhas de autoridade, os níveis de responsabilidade e as linhas de comunic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ocorrer em virtude das novas tecnologias, oportunidade de crescimento global e tendência de enxugamento de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4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45C-5431-4060-BA9A-9F40B9AE3DFC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341360"/>
            <a:ext cx="849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edade: As novas exigências para 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questões como: o meio ambiente, saúde e bem-estar social, diversidade, direitos humanos e comunidades, são fundamentais para a conquista d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nsumidores valorizam os produtos de  empresas com atuação transparente, ética e respons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ões de pobreza e miséria colocam a paz num segundo plano, e criam barreiras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5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A6E-18B8-4439-89F3-DD4059760C5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56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Ambiente como fator determinante de Mudança e o papel d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mbiente está em freqüente movimento 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m adaptar seus processos e m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stor deve perceber o momento para as mudanças: como, quando e por quem devem ser imple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prevenir o estresse e estimular a criatividade de seu pessoal, além de nortear suas carr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6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7069-4581-47D4-AF7A-E2184003C277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268280"/>
            <a:ext cx="79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of (1985 apud Caravantes et al., 2005, p. 9) sustenta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adigm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definido como uma constelação de crenças, valores e técnicas compartilhadas por membros de uma determinada comunidade cientí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7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F66-225D-4517-A5C1-3BC34A98D2C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68280"/>
            <a:ext cx="8425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ESTOR D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competência paradigmática e permitir que sua mente, veja os problemas por diferentes âng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vantes (2005, p. 10): “A competência paradigmática parte do princípio de que podem existir múltiplos paradigmas e que o fator limitador está na capacidade humana de entender e incorporar essa noçã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quistar um bom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8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C2CD-1322-469B-AE81-CEACC5C4A3F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: seqüência lógica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5614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9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1F6-CB04-4E78-BC32-A76681ED5ED5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68280"/>
            <a:ext cx="88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uma organização obter o máximo result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entender quais são e como funcionam os vários processo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ntagem competitiva está na forma diferenciada de executar 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conhecer quais atividades agregam ou não agregam valor ao produto / servi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cessos precisam ser flex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criar indicadores de desempenho (dados numér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0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826920" y="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Tecnologias e Ferramentas de Gest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1171-57AF-40AB-9E01-ED044722257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6828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 PODEM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çam e terminam dentro da empresa 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quando parte ou o total dos processos é realizado em outra(s) empresa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-Chave ou primá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ão essenciais e proporcionam valor ao cliente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 de Apo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ortam o funcionamento dos Processo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1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53C-7763-4D0F-BDF9-E929D9FFA5E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268280"/>
            <a:ext cx="8424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dinâmicos e estão sendo redesenhados de acordo com as mudanças do ambiente e da necessidade do seu cl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tão apenas na área industrial e devem também se organizar em torno de processos não fabris, contudo, sempre focados n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2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21B-BADB-4B2C-8E2E-45891DC0063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484280"/>
            <a:ext cx="8642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mpresas são organismos vivos e interagem com os ambientes tendo o gestor por “maest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r a aprender é essencial, pois as organizações estão em constante mudanç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é a mola propulsora do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orias administrativas são essenciais para 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associar o conceito de processo empresarial à idéia de cadeia de valor: uma coleção de atividades que envolvem a empresa de ponta a p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3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332-C9C2-4BB3-A33D-70CF01D5035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1197000"/>
            <a:ext cx="85723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organizações precisam compre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mbientes interno e externo, quais são e como funcionam os processos fabris e não fab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e pos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respostas rápidas à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r seus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4762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6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50E0-2623-4761-B111-449933F14136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1197000"/>
            <a:ext cx="85723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48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mpresas estão inseridas em um ambiente em constante mudança, influenciando e sofrendo influência deste e, portanto, aprendendo e ensin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0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9FF1-8BBC-4D24-BC3E-2D956F5EDDE5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12536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resas como organismos v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em constante mut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aptação e mudanç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como cérebro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mpresa, assim como os indivíduos, aprendem continuamente, por sofrerem influências desse ambiente. Embora não tenha ‘cérebro’, ela apren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lhar o conhecimento gerado  pelo    grupo na busca por sol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ucesso é uma conquista d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476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9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F9F-7557-4BA1-95A3-CD456CE91DB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341360"/>
            <a:ext cx="8785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tivos impulsionam as ações e determinam o comportamento, mas a liderança é imprescindí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2349360"/>
          <a:ext cx="7994520" cy="38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79945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9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F4E3-3C2B-413E-BF22-358531B9391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8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-se que pessoas criativas e estimuladas tendem a trazer boas contribuições para as empr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presa flexível e pronta para se adaptar, aprender, inovar e enfrentar as turbulências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definir novos modelos e promover a sua internalização para que as pessoas aceitem aprender novamente aquilo o que já faz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0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9CC-494B-454E-B70E-83C4A21649DB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341360"/>
            <a:ext cx="835344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 DAS PESSOAS E O COMPARTILHAMENT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r na capacidade das pessoas, considerando suas experiências do pas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unções tendem a mudar, evoluir, conferindo agilidade, inovação e qualidade nos proces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pode ser desenvolvido individualmente mas precisa estar combinado com as forças da equ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e gerá-lo é preciso difundi-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1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3D2-BBA7-45B6-8994-B52D1B64A0C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484280"/>
            <a:ext cx="83534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histórica da ciênci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80 a 1860: Primeira Revolução Industrial ou do carvão e do f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0 a 1914: Segunda Revolução Industrial ou do aço e da eletr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Clássic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das Relações Hum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2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9E9-2846-41C5-BCE9-113F87A7EB1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628640"/>
            <a:ext cx="7920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Estrut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Comportament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da Contin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Neoclá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po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3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37:45Z</dcterms:created>
  <dc:creator>Maria Cristina</dc:creator>
  <dc:description/>
  <dc:language>en-US</dc:language>
  <cp:lastModifiedBy>Geovair</cp:lastModifiedBy>
  <dcterms:modified xsi:type="dcterms:W3CDTF">2009-08-27T10:35:16Z</dcterms:modified>
  <cp:revision>54</cp:revision>
  <dc:subject/>
  <dc:title>Slide 1</dc:title>
</cp:coreProperties>
</file>