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B02B-9960-456B-A178-D34BE3DC7C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7C44-ED0D-45D2-8041-E8648BB5DDD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249C-7F7F-4520-B0B7-397EEC8B0F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27B-159A-45FF-A449-231EF2B3D1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1266-A397-4554-8A98-8914029EE1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57D-1677-43A9-80B5-E65FFFD3E07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889-490E-4465-A702-2B65404D5A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0F0A-A39C-4B4F-8D46-687B03B25F0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1865-247E-4959-B7D4-587CAD16DF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0CB-5E73-416F-9A48-4583B169916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BBE8-17F9-4636-BF32-F820EBA5B6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3F81-108C-4953-879D-F126A9A20A3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D06-5C28-4E06-B0C8-0283A57EAB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30B1-8811-48DE-B309-B00B863CB30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0C67-E459-48FF-BF13-007BB381B8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3DFB-3473-4D4D-82A1-0BFA945F9BC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4D8-6BB4-4CFC-9C49-6710D94525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FCDF-14D7-4FA8-86E4-50FFA67E08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04C-0776-4043-A3F4-AF73FEE613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F27-C8E2-4E4C-8DBB-5D69EAF5824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6377-78EE-466B-9A97-3B76999ADD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EBC-C4F9-4D6E-88A1-604C90268BC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05B-5D7D-4E11-B450-11AD91AA71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F67-0679-4D7A-A118-004C81C264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669-11A1-45DA-9105-5FDCED319AF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C988-E37F-46D3-B9D5-F0B75C1844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587-9A18-4CE4-8F6A-E4569BD640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072B-5335-42BC-9F36-6CFF17B8BC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BD11-EE7A-4F50-9348-306C1F326C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4FEE-14CC-4127-9B1F-6E0E4517CB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2653-7613-486D-B388-606356215F6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917-EE37-4F7C-A513-625182A77F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E41-3A19-483D-8F60-A38F5F41AE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D0AE-A4EF-453C-A659-EF23C1E2003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0C28-39F6-4D2E-B0E0-183BFAD93D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C7F-1ADA-480D-A62B-901ECCE724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7A4-4B3D-45B5-B8FA-CAC6FB0F0E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E64-307A-4FE4-960E-D05272A0BB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D86-AE14-499D-83D8-0A70DC58ED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CA8-A3CD-4290-9A00-B316AA2F59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9A6-3A76-49D3-B97A-9A51878C887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F88-D2FA-4341-B28A-11AF485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A07-0FC7-49FC-88FA-5E446FAD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031-599D-47B1-91DB-0B951BA0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0A7-B7A3-43CC-85B5-19BDF8D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7F0-973D-4A45-9049-5D7DA8A9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388-286E-4AFB-B6D7-871FFE3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900-3C32-46F7-92AC-B5174854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AAB-E7CB-4C88-8F44-C9726B0A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203-5E7C-4C96-BB7A-9186606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8C1-5397-4F4B-B0D5-B8782C0C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1B3-4FA3-449E-B3DF-56D477D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4F8-85DA-409D-B7B6-6EB195D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4DA7-BF3E-4E3F-BAE2-D8F0793049D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1C9-924A-4CCB-999A-F134566082B8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84280"/>
            <a:ext cx="8280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 a ordem existente para melhorar a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geral, afeta as linhas de autoridade, os níveis de responsabilidade e as linhas de comunic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ocorrer em virtude das novas tecnologias, oportunidade de crescimento global e tendência de enxugamento de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4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32E3-A4F6-4203-8F12-3038ED87A441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341360"/>
            <a:ext cx="849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edade: As novas exigências para 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questões como: o meio ambiente, saúde e bem-estar social, diversidade, direitos humanos e comunidades, são fundamentais para a conquista d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nsumidores valorizam os produtos de  empresas com atuação transparente, ética e respons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ões de pobreza e miséria colocam a paz num segundo plano, e criam barreiras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5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6B3-09C3-4B37-BE38-5F9C5C4A04E7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56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Ambiente como fator determinante de Mudança e o papel d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mbiente está em freqüente movimento 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m adaptar seus processos e m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stor deve perceber o momento para as mudanças: como, quando e por quem devem ser imple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prevenir o estresse e estimular a criatividade de seu pessoal, além de nortear suas carr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6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2864-A1B7-410C-9DB4-439BEB8A948C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268280"/>
            <a:ext cx="79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of (1985 apud Caravantes et al., 2005, p. 9) sustenta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adigm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definido como uma constelação de crenças, valores e técnicas compartilhadas por membros de uma determinada comunidade cientí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7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4BD-C451-419C-A6D1-B59ED5C3186F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68280"/>
            <a:ext cx="8425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ESTOR D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competência paradigmática e permitir que sua mente, veja os problemas por diferentes âng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vantes (2005, p. 10): “A competência paradigmática parte do princípio de que podem existir múltiplos paradigmas e que o fator limitador está na capacidade humana de entender e incorporar essa noçã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quistar um bom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8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A9F-BD95-400F-8227-CF35817C903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: seqüência lógica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5614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9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FC01-13AC-44A2-ACB4-F1F265DA792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68280"/>
            <a:ext cx="88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uma organização obter o máximo result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entender quais são e como funcionam os vários processo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ntagem competitiva está na forma diferenciada de executar 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conhecer quais atividades agregam ou não agregam valor ao produto / servi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cessos precisam ser flex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criar indicadores de desempenho (dados numér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0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826920" y="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Tecnologias e Ferramentas de Gest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0B1-7C4E-4B3F-A584-70719CA1DF35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6828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 PODEM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çam e terminam dentro da empresa 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quando parte ou o total dos processos é realizado em outra(s) empresa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-Chave ou primá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ão essenciais e proporcionam valor ao cliente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 de Apo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ortam o funcionamento dos Processo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1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D8F8-9C24-4DE6-BE4F-CF3845130EF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268280"/>
            <a:ext cx="8424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dinâmicos e estão sendo redesenhados de acordo com as mudanças do ambiente e da necessidade do seu cl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tão apenas na área industrial e devem também se organizar em torno de processos não fabris, contudo, sempre focados n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2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257-8FF2-4E21-86F9-2155AE6E8E3E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484280"/>
            <a:ext cx="8642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mpresas são organismos vivos e interagem com os ambientes tendo o gestor por “maest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r a aprender é essencial, pois as organizações estão em constante mudanç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é a mola propulsora do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orias administrativas são essenciais para 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associar o conceito de processo empresarial à idéia de cadeia de valor: uma coleção de atividades que envolvem a empresa de ponta a p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3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61EE-5644-4E20-96E0-84779F43D5B0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1197000"/>
            <a:ext cx="85723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organizações precisam compre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mbientes interno e externo, quais são e como funcionam os processos fabris e não fab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e pos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respostas rápidas à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r seus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4762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6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EE61-F73E-408D-AA31-C5916B2BA651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1197000"/>
            <a:ext cx="85723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48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mpresas estão inseridas em um ambiente em constante mudança, influenciando e sofrendo influência deste e, portanto, aprendendo e ensin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0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6D67-FE89-430B-96C3-2691200B9FA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12536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resas como organismos v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em constante mut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aptação e mudanç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como cérebro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mpresa, assim como os indivíduos, aprendem continuamente, por sofrerem influências desse ambiente. Embora não tenha ‘cérebro’, ela apren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lhar o conhecimento gerado  pelo    grupo na busca por sol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ucesso é uma conquista d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476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9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DBBA-90FB-42EB-BB2D-64A07051D7F1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341360"/>
            <a:ext cx="8785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tivos impulsionam as ações e determinam o comportamento, mas a liderança é imprescindí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2349360"/>
          <a:ext cx="7994520" cy="38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79945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9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B96-6D98-4C39-A227-202E35BB523E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8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-se que pessoas criativas e estimuladas tendem a trazer boas contribuições para as empr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presa flexível e pronta para se adaptar, aprender, inovar e enfrentar as turbulências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definir novos modelos e promover a sua internalização para que as pessoas aceitem aprender novamente aquilo o que já faz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0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C869-D53E-473C-B77D-471E32B229F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341360"/>
            <a:ext cx="835344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 DAS PESSOAS E O COMPARTILHAMENT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r na capacidade das pessoas, considerando suas experiências do pas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unções tendem a mudar, evoluir, conferindo agilidade, inovação e qualidade nos proces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pode ser desenvolvido individualmente mas precisa estar combinado com as forças da equ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e gerá-lo é preciso difundi-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1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51D4-E3C4-4DC8-A605-8E92D2BA56E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484280"/>
            <a:ext cx="83534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histórica da ciênci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80 a 1860: Primeira Revolução Industrial ou do carvão e do f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0 a 1914: Segunda Revolução Industrial ou do aço e da eletr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Clássic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das Relações Hum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2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E31-252F-4349-B139-2C2704B4498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628640"/>
            <a:ext cx="7920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Estrut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Comportament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da Contin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Neoclá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po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3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37:45Z</dcterms:created>
  <dc:creator>Maria Cristina</dc:creator>
  <dc:description/>
  <dc:language>en-US</dc:language>
  <cp:lastModifiedBy>Geovair</cp:lastModifiedBy>
  <dcterms:modified xsi:type="dcterms:W3CDTF">2009-08-27T10:35:16Z</dcterms:modified>
  <cp:revision>54</cp:revision>
  <dc:subject/>
  <dc:title>Slide 1</dc:title>
</cp:coreProperties>
</file>