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BF19-BE1C-416E-9362-AEA3ECE83C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5405-F094-471F-9AD6-366655A3156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BF2E-0B2A-42E9-AF67-4F0C543B6F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2EC-DBF8-47B4-8883-7B1778E8FEC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48E0-7E61-4FEE-9C0A-443A0C9BC5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DD8E-27A4-4F25-BFFF-00075E38E4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B66-2F84-4128-AE22-042265765D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E9A-3302-465E-B388-B3B7A308126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871-C592-4AD4-B271-8D279A0497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F462-0510-4C18-9C65-E88EE258CB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359-0BCF-4FBD-8A3E-8EB11AA03D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412B-2AED-44A4-87C5-0636DF686C8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D397-A06A-48D1-A0D5-C6E44E422E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FBCD-D02C-4D6D-8968-27EE62B946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22BE-E67B-4F8C-9F27-0CFB7230606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9A0-86AE-4CAF-9DC9-F0944C675BC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E826-5EFD-4459-A317-96B47455F9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4965-EACB-45BE-A541-EED5AA644D5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FAAA-E83C-404E-A684-8DD34405D7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EA1-F1D1-4FB3-8A9F-8F08EE704AA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CD5B-0BC7-4AED-868A-444C4DF233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12B6-DD68-42DD-9B51-D21813AC95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5049-9925-45C6-8D34-5BF4274141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0A02-EAD0-4B99-BBB0-3E5E990E5A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9197-B7F9-48B3-A85B-7CE109B715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1288-3E99-4E60-AF4F-BAEA67E130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7D5F-E089-4619-B5F2-BC48F562CB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BD0B-F873-4087-9E81-BD384F0BFE3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5966-27DF-4251-AE04-F60A4D9A84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E842-A474-4449-90D0-F3511E96F0A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6BB9-7B7E-417B-98DA-780907FC40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0283-785D-419D-90B5-1CF0C342DE8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7B3-B005-477A-B178-2185114E65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0F88-A1D5-4092-B267-313422E1325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C4E-0C19-4BBA-81D2-0591C8B8FF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F73B-5EF7-4EF1-A36E-C86AC5543CF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5778-4423-4072-A858-3959070F1B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A7B-65C9-401B-801C-4C150C608A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E67B-C927-498C-86D5-6B908E6B61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7048-EB24-42DB-A911-781DB84CB3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8FF6-B381-4661-8F93-9B0DD0208B6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32B-D8EF-46FF-A14B-6BB6910F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72A-2209-4D6E-AA6A-E0209361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6A9-44FF-41DE-9199-39ED7B77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4BC-917C-46C2-8E36-F8CAFEB7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94E-86EB-44AD-9269-BF77E7C1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E82-E20F-4999-B5D8-012252F5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AFC-364A-4E10-9364-415EF79A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61E-E3C3-420B-81BE-F61FF6A6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182-8ADC-4ADA-B04E-AE8E8B3D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336-45A0-4AC2-B176-D80B784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F44-CF4E-462C-9DFC-6C94D2B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554-2A55-4348-B49E-F87A7FE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2A49-9921-486E-AFA1-0161DEB01E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1DAA-B97B-4114-A680-749D6D1334E4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484280"/>
            <a:ext cx="8280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 a ordem existente para melhorar a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geral, afeta as linhas de autoridade, os níveis de responsabilidade e as linhas de comunic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ocorrer em virtude das novas tecnologias, oportunidade de crescimento global e tendência de enxugamento de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4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092-3A5D-4B8E-813B-18B08AC8F56A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341360"/>
            <a:ext cx="8496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edade: As novas exigências para 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questões como: o meio ambiente, saúde e bem-estar social, diversidade, direitos humanos e comunidades, são fundamentais para a conquista d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nsumidores valorizam os produtos de  empresas com atuação transparente, ética e respons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ões de pobreza e miséria colocam a paz num segundo plano, e criam barreiras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5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4F80-4A60-467E-BC2F-88F15D210025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56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Ambiente como fator determinante de Mudança e o papel do g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mbiente está em freqüente movimento 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m adaptar seus processos e m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stor deve perceber o momento para as mudanças: como, quando e por quem devem ser implem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prevenir o estresse e estimular a criatividade de seu pessoal, além de nortear suas carr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6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8DF-6343-4792-AD62-8F2333F0D626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268280"/>
            <a:ext cx="7993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PARADIG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of (1985 apud Caravantes et al., 2005, p. 9) sustenta qu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adigm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definido como uma constelação de crenças, valores e técnicas compartilhadas por membros de uma determinada comunidade cientí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7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7779-A743-4EE0-86A1-D55386A0151A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68280"/>
            <a:ext cx="8425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GESTOR D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competência paradigmática e permitir que sua mente, veja os problemas por diferentes âng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vantes (2005, p. 10): “A competência paradigmática parte do princípio de que podem existir múltiplos paradigmas e que o fator limitador está na capacidade humana de entender e incorporar essa noçã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quistar um bom clim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8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66A3-4CC4-462A-BF70-7B7DD62AA8BC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1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: seqüência lógica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5614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9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115-D685-4462-802C-FF94CC44645F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68280"/>
            <a:ext cx="88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uma organização obter o máximo result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entender quais são e como funcionam os vários processos 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ntagem competitiva está na forma diferenciada de executar os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conhecer quais atividades agregam ou não agregam valor ao produto / servi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cessos precisam ser flex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criar indicadores de desempenho (dados numér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0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826920" y="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Tecnologias e Ferramentas de Gest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5220-6AFB-4C15-B13E-D684AF199F2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68280"/>
            <a:ext cx="8642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 PODEM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çam e terminam dentro da empresa 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quando parte ou o total dos processos é realizado em outra(s) empresa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-Chave ou primá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ão essenciais e proporcionam valor ao cliente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 de Apo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ortam o funcionamento dos Processos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1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7A3-0669-42C0-B7D3-52BCEB99920F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268280"/>
            <a:ext cx="84247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dinâmicos e estão sendo redesenhados de acordo com as mudanças do ambiente e da necessidade do seu cl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estão apenas na área industrial e devem também se organizar em torno de processos não fabris, contudo, sempre focados n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2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5801-FA21-4264-806F-BEB1FD5F108E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484280"/>
            <a:ext cx="8642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mpresas são organismos vivos e interagem com os ambientes tendo o gestor por “maest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nder a aprender é essencial, pois as organizações estão em constante mudanç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é a mola propulsora do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orias administrativas são essenciais para 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os associar o conceito de processo empresarial à idéia de cadeia de valor: uma coleção de atividades que envolvem a empresa de ponta a p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3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CD33-2EE8-4B08-BE06-AADF2844BCA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1197000"/>
            <a:ext cx="85723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organizações precisam compre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mbientes interno e externo, quais são e como funcionam os processos fabris e não fab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que poss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respostas rápidas às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r seus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4762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6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AEF-EDB6-4DC7-811C-5535E5E2D836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1197000"/>
            <a:ext cx="85723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9280" y="148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mpresas estão inseridas em um ambiente em constante mudança, influenciando e sofrendo influência deste e, portanto, aprendendo e ensin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0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49CE-BCAD-4B46-8B20-CAFDD357D67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9280" y="112536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resas como organismos v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em constante muta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aptação e mudanç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ões como cérebro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mpresa, assim como os indivíduos, aprendem continuamente, por sofrerem influências desse ambiente. Embora não tenha ‘cérebro’, ela apren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ilhar o conhecimento gerado  pelo    grupo na busca por sol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ucesso é uma conquista d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50920" y="4762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9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44AA-308F-4FAA-A5FD-594AEE454837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341360"/>
            <a:ext cx="8785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motivos impulsionam as ações e determinam o comportamento, mas a liderança é imprescindí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2349360"/>
          <a:ext cx="7994520" cy="38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79945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9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CE6-41B7-458B-8C75-F8E9DA168EFC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268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484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13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da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-se que pessoas criativas e estimuladas tendem a trazer boas contribuições para as empre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presa flexível e pronta para se adaptar, aprender, inovar e enfrentar as turbulências d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definir novos modelos e promover a sua internalização para que as pessoas aceitem aprender novamente aquilo o que já faz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0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FD51-507F-41A8-A382-C80994A4D370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341360"/>
            <a:ext cx="835344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 DAS PESSOAS E O COMPARTILHAMENT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r na capacidade das pessoas, considerando suas experiências do pas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unções tendem a mudar, evoluir, conferindo agilidade, inovação e qualidade nos proces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pode ser desenvolvido individualmente mas precisa estar combinado com as forças da equi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m de gerá-lo é preciso difundi-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1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774-8FA0-4498-9686-F5F650FF5FC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484280"/>
            <a:ext cx="83534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histórica da ciênci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80 a 1860: Primeira Revolução Industrial ou do carvão e do f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0 a 1914: Segunda Revolução Industrial ou do aço e da eletri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Clássic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das Relações Huma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2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88E-1DDD-44BA-995B-8B0CC62440A4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628640"/>
            <a:ext cx="7920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Estrut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Comportament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da Contin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Neoclá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por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3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37:45Z</dcterms:created>
  <dc:creator>Maria Cristina</dc:creator>
  <dc:description/>
  <dc:language>en-US</dc:language>
  <cp:lastModifiedBy>Geovair</cp:lastModifiedBy>
  <dcterms:modified xsi:type="dcterms:W3CDTF">2009-08-27T10:35:16Z</dcterms:modified>
  <cp:revision>54</cp:revision>
  <dc:subject/>
  <dc:title>Slide 1</dc:title>
</cp:coreProperties>
</file>