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CA7B-CAE3-42BE-B8E2-CCDCBC11544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A144-990D-4B13-BD98-6635D5F800E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63EC-F038-4641-91DE-D07BFDB03D1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30400" y="711360"/>
            <a:ext cx="4605120" cy="3454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mentar foto do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9FC5-318A-4EBE-8DA6-50ED620EC3B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FE14-F6AA-4612-AA76-C8E3D9FF640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FF0F-2A2A-44C1-9C79-70AB96D6332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DF55-4654-4DB0-AD6F-BAAD94F88A9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45C3-E1F1-40F4-BA05-1AC7DC5DAC3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EC95-2CAF-447F-9AD1-68D390231C5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946C-9D5A-4415-A6F3-10AF8F4215F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7601-A5F8-4B5B-B5CB-45146D0746F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4894-C460-4029-829A-7F527DFD0EF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D1F3-FC86-426D-8E78-5F850F467E0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3BD8-5AD7-472D-ABFB-036032D56A2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8A99-74CF-463D-82F5-32DE275A788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D261-2D13-47B4-9E70-4C81BA33251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78D2-8EE8-4155-BDD2-0983F30F4D5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DBE0-DD57-467F-A9D3-8FCAA8686F5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57C5-B9A5-475E-959A-F00BECA1971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52FD-853E-4A99-AD6C-C34E6E953A8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646F-E9B7-4550-AF81-250A356629E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5831-3470-4D54-A890-CE7D1CE1207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647C-A6F8-4425-98EF-0C695CEA74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0930-9E7B-4E79-B044-6B993F08B6B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3915-190F-4F97-94FA-5B74BF56A0C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7DFD-8B4F-40BA-BA61-752E1AD198A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EFE4-8265-4ACC-9C32-5135A7C24D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30400" y="711360"/>
            <a:ext cx="4605120" cy="345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mentar foto do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9331-524B-4EC3-B2F2-C08E05D424B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6748-7256-4653-8DB7-3E062E02C9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8F3E-D0A2-4499-9831-99D8FFE19E9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1FED-3793-45AD-A668-D58C5A677EE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7688-8D17-40C5-9FC2-92C28449072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447F-29B2-4468-B7F6-089F5238DA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6963-2B26-4B2B-8953-C3E612DBE7F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4C5F-04CC-430B-97B1-24F1BF7702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9F16-DEC6-4B52-A9E9-1DD1FF42BED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B6AA-7FBF-4DC9-B1A4-417D049F501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A0F9-BBBB-4C4F-9D47-3057D5F23C7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1A2A-38BB-47F0-A606-57D98DE7BA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F65E-5579-4CBA-A3A5-4B28701B8DC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5676-2EFD-437B-87D1-ED963EC4D85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B32-B153-4E32-8375-49BA621B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92F-D2DE-4724-847D-0321AD06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410-08E4-46F2-9199-E70E7AB4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BC1-1171-4743-89BC-3DB242F5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B03-6C3D-44E2-9A56-88354B49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0C2-164A-446F-9E09-CC3AAC85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644-D05D-4167-9E17-88B8B265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C79-0C56-40DD-A186-7FC7E176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F22-0BA5-42CE-8EAC-3861CB43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87D-21D3-4A24-BA0B-7C5DC2A9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5E9-6439-4216-9AAD-93BF771B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E69-8F78-4B30-ABF5-4ABCFACA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74AB-47B7-476E-A9F5-98E69CECF59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3562200" y="549360"/>
            <a:ext cx="2452680" cy="3095640"/>
          </a:xfrm>
          <a:prstGeom prst="rect">
            <a:avLst/>
          </a:prstGeom>
          <a:ln w="0">
            <a:noFill/>
          </a:ln>
        </p:spPr>
      </p:pic>
      <p:sp>
        <p:nvSpPr>
          <p:cNvPr id="5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902520" y="3789360"/>
            <a:ext cx="69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ro Tecnologias e ferramentas de gest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4581360"/>
            <a:ext cx="85723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apítul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ia Cristina Pavan de Moraes e Décio Henrique Fr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5DC2-2E42-4A0A-AB41-C59A05175AE3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484280"/>
            <a:ext cx="82803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DANÇ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 a ordem existente para melhorar a efic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geral, afeta as linhas de autoridade, os níveis de responsabilidade e as linhas de comunic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 ocorrer em virtude das novas tecnologias, oportunidade de crescimento global e tendência de enxugamento de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4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E5C3-A474-47FA-BA17-E7C2C77A8E6D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1341360"/>
            <a:ext cx="8496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edade: As novas exigências para as organiz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questões como: o meio ambiente, saúde e bem-estar social, diversidade, direitos humanos e comunidades, são fundamentais para a conquista d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consumidores valorizam os produtos de  empresas com atuação transparente, ética e respons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ões de pobreza e miséria colocam a paz num segundo plano, e criam barreiras de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5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25BD-468C-44E7-8EE8-786EE124B7DB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413000"/>
            <a:ext cx="8569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Ambiente como fator determinante de Mudança e o papel do g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mbiente está em freqüente movimento e mud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m adaptar seus processos e mu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gestor deve perceber o momento para as mudanças: como, quando e por quem devem ser implemen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 prevenir o estresse e estimular a criatividade de seu pessoal, além de nortear suas carrei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6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6907-315D-488E-B01F-AD0ABC70D178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1268280"/>
            <a:ext cx="79930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PARADIG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of (1985 apud Caravantes et al., 2005, p. 9) sustenta qu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radigma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ser definido como uma constelação de crenças, valores e técnicas compartilhadas por membros de uma determinada comunidade cientí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7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8A01-EABF-43FE-8131-C4D0FBB9524D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1268280"/>
            <a:ext cx="8425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GESTOR DE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er uma competência paradigmática e permitir que sua mente, veja os problemas por diferentes ângu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vantes (2005, p. 10): “A competência paradigmática parte do princípio de que podem existir múltiplos paradigmas e que o fator limitador está na capacidade humana de entender e incorporar essa noçã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quistar um bom clima organiz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8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6801-E404-4202-8666-556E76184BF4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413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: seqüência lógica de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56144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94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E162-6261-46E2-A468-6A100FF06194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268280"/>
            <a:ext cx="8893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uma organização obter o máximo result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 entender quais são e como funcionam os vários processos exis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ntagem competitiva está na forma diferenciada de executar os proces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a conhecer quais atividades agregam ou não agregam valor ao produto / servi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rocessos precisam ser flex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 criar indicadores de desempenho (dados numér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04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826920" y="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Tecnologias e Ferramentas de Gest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69D9-0227-42A3-BB1F-0A0D3A3A3D89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68280"/>
            <a:ext cx="86421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PROCESSOS PODEM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çam e terminam dentro da empresa o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quando parte ou o total dos processos é realizado em outra(s) empresa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s-Chave ou primá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ão essenciais e proporcionam valor ao cliente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s de Apo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ortam o funcionamento dos Processos-ch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15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CE1A-3AB8-48D3-A699-DFF79C3CF5AB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268280"/>
            <a:ext cx="842472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PROCES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dinâmicos e estão sendo redesenhados de acordo com as mudanças do ambiente e da necessidade do seu cl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estão apenas na área industrial e devem também se organizar em torno de processos não fabris, contudo, sempre focados no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25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FE5D-C042-4FD4-8E4A-5213F2A111AA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1484280"/>
            <a:ext cx="864216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empresas são organismos vivos e interagem com os ambientes tendo o gestor por “maestr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nder a aprender é essencial, pois as organizações estão em constante mudanç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hecimento é a mola propulsora do desenvol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eorias administrativas são essenciais para 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os associar o conceito de processo empresarial à idéia de cadeia de valor: uma coleção de atividades que envolvem a empresa de ponta a po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235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5859-189C-4F4A-80E0-DDF1A55B5878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50920" y="1197000"/>
            <a:ext cx="8572320" cy="60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organizações precisam compre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mbientes interno e externo, quais são e como funcionam os processos fabris e não fab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 que poss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 respostas rápidas às mudanç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r seus proce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79280" y="4762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61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8" descr=""/>
          <p:cNvPicPr/>
          <p:nvPr/>
        </p:nvPicPr>
        <p:blipFill>
          <a:blip r:embed="rId1"/>
          <a:stretch/>
        </p:blipFill>
        <p:spPr>
          <a:xfrm>
            <a:off x="3562200" y="549360"/>
            <a:ext cx="2452680" cy="309564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902520" y="3789360"/>
            <a:ext cx="69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ro Tecnologias e ferramentas de gest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50920" y="4581360"/>
            <a:ext cx="85723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apítul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ia Cristina Pavan de Moraes e Décio Henrique Fr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34F2-6993-4541-865E-8DBE8E364641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1197000"/>
            <a:ext cx="857232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42720" algn="just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79280" y="1484280"/>
            <a:ext cx="857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mpresas estão inseridas em um ambiente em constante mudança, influenciando e sofrendo influência deste e, portanto, aprendendo e ensin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70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9880-F38B-4753-AE41-C62F15D2D292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79280" y="1125360"/>
            <a:ext cx="8572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resas como organismos v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s em constante mutaçã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daptação e mudanç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ções como cérebro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empresa, assim como os indivíduos, aprendem continuamente, por sofrerem influências desse ambiente. Embora não tenha ‘cérebro’, ela aprend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tilhar o conhecimento gerado  pelo    grupo na busca por solu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sucesso é uma conquista do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50920" y="4762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79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0CDD-F275-4364-9E7F-A0D43D6FB30D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341360"/>
            <a:ext cx="8785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motivos impulsionam as ações e determinam o comportamento, mas a liderança é imprescindí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2349360"/>
          <a:ext cx="7994520" cy="383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349360"/>
                    <a:ext cx="799452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91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3742-555F-4FA1-8F3F-1805BD2C9C23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26828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4842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41300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DANÇA ORGANIZA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dad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e-se que pessoas criativas e estimuladas tendem a trazer boas contribuições para as empre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presa flexível e pronta para se adaptar, aprender, inovar e enfrentar as turbulências d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f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o definir novos modelos e promover a sua internalização para que as pessoas aceitem aprender novamente aquilo o que já faz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0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E943-8457-4865-840A-7FE9BFF28460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341360"/>
            <a:ext cx="835344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NVOLVIMENTO DAS PESSOAS E O COMPARTILHAMENTO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r na capacidade das pessoas, considerando suas experiências do pass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unções tendem a mudar, evoluir, conferindo agilidade, inovação e qualidade nos proces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hecimento pode ser desenvolvido individualmente mas precisa estar combinado com as forças da equi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ém de gerá-lo é preciso difundi-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1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9CE3-F981-472C-AE64-D0D713BB9AF0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484280"/>
            <a:ext cx="835344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ção histórica da ciência da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80 a 1860: Primeira Revolução Industrial ou do carvão e do fe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60 a 1914: Segunda Revolução Industrial ou do aço e da eletric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ção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Clássica da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dagem das Relações Huma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2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8" descr=""/>
          <p:cNvPicPr/>
          <p:nvPr/>
        </p:nvPicPr>
        <p:blipFill>
          <a:blip r:embed="rId1"/>
          <a:stretch/>
        </p:blipFill>
        <p:spPr>
          <a:xfrm>
            <a:off x="8429760" y="46080"/>
            <a:ext cx="625320" cy="7905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5"/>
          <p:cNvSpPr/>
          <p:nvPr/>
        </p:nvSpPr>
        <p:spPr>
          <a:xfrm flipV="1">
            <a:off x="0" y="0"/>
            <a:ext cx="9144000" cy="83664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 flipH="1">
            <a:off x="-37080" y="5950080"/>
            <a:ext cx="9180360" cy="907920"/>
          </a:xfrm>
          <a:prstGeom prst="rtTriangle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1D60-36C6-43C6-92CD-A73E64BADA0A}" type="slidenum"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14200" y="1500120"/>
            <a:ext cx="857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70164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: A mudança nas organiz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628640"/>
            <a:ext cx="7920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Estrutur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dagem Comportament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da Conting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ia Neoclás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ção por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imento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92160"/>
            <a:ext cx="8461800" cy="6643800"/>
            <a:chOff x="0" y="92160"/>
            <a:chExt cx="8461800" cy="6643800"/>
          </a:xfrm>
        </p:grpSpPr>
        <p:sp>
          <p:nvSpPr>
            <p:cNvPr id="133" name="TextBox 5"/>
            <p:cNvSpPr/>
            <p:nvPr/>
          </p:nvSpPr>
          <p:spPr>
            <a:xfrm>
              <a:off x="5717880" y="92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nologias de gest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5"/>
            <p:cNvSpPr/>
            <p:nvPr/>
          </p:nvSpPr>
          <p:spPr>
            <a:xfrm>
              <a:off x="0" y="6276960"/>
              <a:ext cx="40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ria Cristina Pavan de Mora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écio Henrique Fran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1:37:45Z</dcterms:created>
  <dc:creator>Maria Cristina</dc:creator>
  <dc:description/>
  <dc:language>en-US</dc:language>
  <cp:lastModifiedBy>Geovair</cp:lastModifiedBy>
  <dcterms:modified xsi:type="dcterms:W3CDTF">2009-08-27T10:35:16Z</dcterms:modified>
  <cp:revision>54</cp:revision>
  <dc:subject/>
  <dc:title>Slide 1</dc:title>
</cp:coreProperties>
</file>