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media/image6.jpeg" ContentType="image/jpe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DB99-54E2-4BFA-BDBC-6F33A55ED0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BBB9-D8DA-4A36-967A-2DF2142298C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76EB-3596-424E-BBC5-11E764097FD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944E5-DEF1-450B-B1F4-837A95CBE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08895-10D2-43A2-B7F5-D8129C79E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27A6CD-D435-4B41-84C4-26277D601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44D6A4-5433-45B8-B233-4A1D242D8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B0D01-B450-4A3A-BD5B-96AA791480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ED1A3C-EEBA-4FC1-B3FE-DAB77FB20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E7EFC5-4619-480B-BF76-39B03681C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325EA1-B956-4C27-9F98-89CC52A26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ADED2-72BD-49D8-A0FB-EBDD0FDDDD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F65B5F-FF17-47BE-8CCC-175FD54913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F2DA1-F8AA-4675-91C5-0421AC6DF5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07B3EB9-F950-493B-A3E7-B77A03FB53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2530A-D882-4641-87B1-C183CF8B9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8547A2-BFD9-4B2F-AE3C-3B5D5B42D7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BEC649-62A9-443C-A740-3A0F63BD85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C46BEB-8724-4E7A-A343-8264A79634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ECDDDC-1577-4EAE-8BA2-3E9D712CF2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5D8911-DAB0-4DCF-B2F1-8B39485196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00E684-B189-49AC-B97B-D51ADBD269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E31277-4FAD-4516-9BEA-EE4339BF4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423560-FCCA-4EFA-BD5F-61727F002B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8187DA-3432-4F5C-9561-A25DDD08EF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504D88-E71B-45F5-9B00-7D6EDE6BD3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A3421-9E79-4F40-904F-62D6E1FC8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CDF909-D238-4529-8F91-73E205B212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C90822-879D-4D83-8591-A862CB1DD8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C4F8D3-26D9-4DFB-9CF8-C5C6FCC6D2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B6176E-EA67-404C-BFBD-90C0B8AE23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1FE3E8-34E0-4C86-90FB-F9FE2F57FF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D505F7-0B19-45DD-8CDA-AA7B7DAD8F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CCF07D-72CB-4579-A941-66B366BD87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83806D-71C8-4035-AA21-F10B76D404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45A99-1798-4F32-8C1F-51A1EDEB7A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2A72C1-3B61-4F9E-9789-5531C081C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4339F-6634-4CC7-9553-5C23AA01F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C1E698-115B-4CD6-8059-3F11C7989E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3247C6-2CC4-4C47-984A-D46008A14D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1C664F-88CC-4D3F-B68D-983BA4B3AA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6AE4D2-A40B-4273-BE03-95F1917D3A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A9BAFC-7912-4B31-991F-F84D7D1BE4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2B1030-C88E-4027-80CA-756DE0BC11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2185DC-1B59-44A5-8CE0-A967B2DFC7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DE710C-9267-42CF-A967-F14CE26E4D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A3B0FB-C81E-4D86-8B75-FCFBDF5A64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A2239-48F1-4082-9C23-1CD5069AA0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A7294-3BD3-4A2A-B6DB-2B4547501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898F2C-6A25-4689-A428-D079EB2EE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5B18ED-16AC-4286-84B9-992E198AEC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8F3922-157C-4C74-B49C-152B5BC2AE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CF6822-3D41-430E-BD45-2CBAB0BF335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C74527-C734-4586-951D-501270390B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ADDF4-6930-4689-80F1-DE06752F1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A2033-883F-4CBE-B458-AF0C9AE93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C57BC-2FD5-470A-A501-C5D1D00BB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24C9B-40F7-4C47-ABE2-682582FF9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5BFAE-0B00-4B78-A78A-E40F89A20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50D4-6FBE-44ED-9BD9-8B7715829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F269-FA74-4A02-A424-8CF0FE6D2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C52BD-7C30-4C01-B799-8845BCB5C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E3C87-765D-4FED-B8F0-FC85B4209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99140-78F3-459B-B3F0-F0A9A952F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522D1-A36A-4016-A815-B15CAB845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11FA8-F92A-4CAB-BB3A-0AED36A17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E0AE8-E51D-4F36-910B-5C2C047DE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A7B50D-08EB-4A35-A74D-5393DDC94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97FA4-436C-49EC-99E3-79B85DDB4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8165F-B532-4132-9191-9F971DF3B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D69A9-932B-464F-ACCF-664967FDE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D6D56-CAD1-4614-9191-5EAACDBBC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D7E2C-1E31-45E2-B401-F3001A438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BAC7F-2953-4C67-BE84-445277CA9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54FDD-EF70-4E6C-974F-17E91C275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7A5049-AFED-466C-97C7-F429C4BEB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799885-5F29-49F9-96B9-9C5E57EBB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16A384-8548-4AFD-A750-5DF426332F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9938A-408F-4A77-ACA6-13E93CD669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46FAF-5791-43DF-AE06-473342F6E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8F504-DBDC-4C51-9862-722528E67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B6F0-233F-448D-BA05-D7E4D4A9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36218-14B0-45E5-8469-F2C76C696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46F37-C46C-4AC8-B8A4-560A70F1AC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60826-AFE7-4EA6-9281-4D629D29D8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2317F-25F5-4375-9F22-3236289B0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35F8D-D8E5-46B1-91A7-7AA9EB6EB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36C8E-F849-417D-BD57-A5269B55E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C66DC-225B-4467-AAC8-A629C144B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8266F-CACB-47DA-A04D-CC358CFDCC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9A5D0-C2A0-41F1-972D-AA39D5C7D7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F53F3-6173-4F7C-B34A-AEB1A664C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143B-0F77-4C5F-AF98-B51F575CB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D41A1-BCC5-476A-A81E-C873741D6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FBA63-DC3B-4541-B4DD-51CCCB726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0FBFA-95BF-459F-81FD-4D1734A70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16528-C8DB-4B2E-9558-FE31C913A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58F08-B448-4DB8-99C3-26D473228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7AA6E-24EC-49E8-8907-568FD2775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57184-151A-4CF4-A47E-173DCE7E5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B8438-12FE-4C9A-A894-3658B53AE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98A59-74FC-4DA2-93C6-A6229CEB38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1890A-B9A0-48DE-A387-597FD34BB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E36AE-817F-4177-BC3B-536D8C44E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FADDA6-D9A7-49BB-85FF-BEEB1C3FCE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5D6E9F-B3DD-40C5-A618-2A2DF1E13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E1CCC-AF7B-4A15-879B-4E06CC0A4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709F6B-603A-4919-BE1C-C5BFFA829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DFE7F-7176-4C11-9AFA-54B6DB36E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25AEE9-DE2D-4545-B1FF-FF4F41895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1D10C5-312D-4E03-B71A-3A5A13EA3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BE7CE-F227-4A35-8294-8131F16B6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2A099-D338-46B8-9FDF-E691B54732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08EC7-C8A5-4F72-86DA-D5D78F3F2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9D37-B21B-437A-BB5A-F06CBF77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5690F-247E-4091-8E55-D2538EA89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DF5EF-79F9-4824-BA9B-C7EC2FA94D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F2E67B-3338-4873-94D9-E30D246BA0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32292-908B-4230-968F-C31779CFE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C1329C-134E-4155-A040-BE6E81748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B00C5-2E7F-4B61-95F6-4844537E74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5D401-05C3-4BCA-A47E-B2F00BF8F2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BE4FC-9338-47C7-8B5E-CF31F5809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BA5F1-8CC7-4FF6-9260-1499E3654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38A63-5835-4480-9AD8-42E1B8673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ACD3-5C7A-462D-838E-2354D216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B6AFD3-70AF-406D-A85C-48FCCEA33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52AD2-C267-490D-A727-25015D62A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F6F21-421D-4B89-8BBA-FFAFE6490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2E284E-9F7E-4B60-842F-6269F6346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4BC10E-88EC-4818-B3AA-045CB80BEB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DD1571-83FC-4AF3-BB9A-0CD1971947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847838-5895-4934-9ABD-6F2F6FCAB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27F401-9864-4821-9375-E932FAFDC2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928F4-E29D-40D8-ADFD-450C9E55F9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DBF5A3-4FA3-4DB0-9CB3-035DF9B29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F397-1596-4BD4-9831-BD7CF72E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95319-A749-42EF-8C5D-040134AEF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9347E-BCCD-4452-8E60-2A9899DE2F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9EC88-A57E-41B3-9925-C94495FF4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C7AF4-0C35-4FFD-B223-5A969B5C7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B6F32-F966-43A5-842F-CE384BD3A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F5CB15-33FB-4C6A-9F69-4D2EA4EE29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94C237-A28F-43F0-99E2-1D8CC1E230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90BBE0-45A3-4E4B-BF7B-2686B1C22F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7C44D-F9F0-4F87-9AA7-3D8DCB30FB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532AD-8F22-4331-8BD4-59F40BB837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35B0-1A83-4220-A3EB-355CDE698C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6"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7" name="Right Triangle 16"/>
          <p:cNvGrpSpPr/>
          <p:nvPr/>
        </p:nvGrpSpPr>
        <p:grpSpPr>
          <a:xfrm>
            <a:off x="-12600" y="5784840"/>
            <a:ext cx="3414600" cy="1092240"/>
            <a:chOff x="-12600" y="5784840"/>
            <a:chExt cx="3414600" cy="1092240"/>
          </a:xfrm>
        </p:grpSpPr>
        <p:pic>
          <p:nvPicPr>
            <p:cNvPr id="418" name="Right Triangle 16" descr=""/>
            <p:cNvPicPr/>
            <p:nvPr/>
          </p:nvPicPr>
          <p:blipFill>
            <a:blip r:embed="rId3"/>
            <a:stretch/>
          </p:blipFill>
          <p:spPr>
            <a:xfrm>
              <a:off x="-12600" y="5784840"/>
              <a:ext cx="3414600" cy="1092240"/>
            </a:xfrm>
            <a:prstGeom prst="rect">
              <a:avLst/>
            </a:prstGeom>
            <a:ln w="0">
              <a:noFill/>
            </a:ln>
          </p:spPr>
        </p:pic>
        <p:sp>
          <p:nvSpPr>
            <p:cNvPr id="4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20" name="Straight Connector 18" descr=""/>
          <p:cNvPicPr/>
          <p:nvPr/>
        </p:nvPicPr>
        <p:blipFill>
          <a:blip r:embed="rId4"/>
          <a:stretch/>
        </p:blipFill>
        <p:spPr>
          <a:xfrm>
            <a:off x="-19080" y="5772240"/>
            <a:ext cx="3421080" cy="1109520"/>
          </a:xfrm>
          <a:prstGeom prst="rect">
            <a:avLst/>
          </a:prstGeom>
          <a:ln w="0">
            <a:noFill/>
          </a:ln>
        </p:spPr>
      </p:pic>
      <p:sp>
        <p:nvSpPr>
          <p:cNvPr id="42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032D-D796-4245-AFD8-D68EF54875CF}"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9F82-47C6-420E-B60C-F7A350F5890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66" name="Right Triangle 13"/>
          <p:cNvGrpSpPr/>
          <p:nvPr/>
        </p:nvGrpSpPr>
        <p:grpSpPr>
          <a:xfrm>
            <a:off x="-12600" y="5784840"/>
            <a:ext cx="3414600" cy="1092240"/>
            <a:chOff x="-12600" y="5784840"/>
            <a:chExt cx="3414600" cy="1092240"/>
          </a:xfrm>
        </p:grpSpPr>
        <p:pic>
          <p:nvPicPr>
            <p:cNvPr id="467" name="Right Triangle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69" name="Straight Connector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1DAE-8664-4793-A617-35F5B79F2BE0}"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5FCF-2A2F-47FC-B903-BB2AAC1B23C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3" name="Right Triangle 13"/>
          <p:cNvGrpSpPr/>
          <p:nvPr/>
        </p:nvGrpSpPr>
        <p:grpSpPr>
          <a:xfrm>
            <a:off x="-12600" y="5784840"/>
            <a:ext cx="3414600" cy="1092240"/>
            <a:chOff x="-12600" y="5784840"/>
            <a:chExt cx="3414600" cy="1092240"/>
          </a:xfrm>
        </p:grpSpPr>
        <p:pic>
          <p:nvPicPr>
            <p:cNvPr id="514" name="Right Triangle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16" name="Straight Connector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C3B0-CBBB-43FB-8D4D-68E0D73E7C75}"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52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6DDE-C5CD-457C-9ADF-20F238CB78DD}"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EA72-73DE-4E4F-9B0F-E4A2FB0CDC38}"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B18A-9DA0-4AA4-9041-A78E9EE9277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3CB8-B4A9-4844-B02D-037A3A85E851}"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2963-D839-4E8C-B2BE-077A44D3FC03}"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Right Triangle 13"/>
          <p:cNvGrpSpPr/>
          <p:nvPr/>
        </p:nvGrpSpPr>
        <p:grpSpPr>
          <a:xfrm>
            <a:off x="-12600" y="5784840"/>
            <a:ext cx="3414600" cy="1092240"/>
            <a:chOff x="-12600" y="5784840"/>
            <a:chExt cx="3414600" cy="1092240"/>
          </a:xfrm>
        </p:grpSpPr>
        <p:pic>
          <p:nvPicPr>
            <p:cNvPr id="146" name="Right Triangle 13"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8" name="Straight Connector 14" descr=""/>
          <p:cNvPicPr/>
          <p:nvPr/>
        </p:nvPicPr>
        <p:blipFill>
          <a:blip r:embed="rId4"/>
          <a:stretch/>
        </p:blipFill>
        <p:spPr>
          <a:xfrm>
            <a:off x="-19080" y="5772240"/>
            <a:ext cx="3421080" cy="1109520"/>
          </a:xfrm>
          <a:prstGeom prst="rect">
            <a:avLst/>
          </a:prstGeom>
          <a:ln w="0">
            <a:noFill/>
          </a:ln>
        </p:spPr>
      </p:pic>
      <p:sp>
        <p:nvSpPr>
          <p:cNvPr id="14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D9FC-EF10-4F30-9E09-24B91D6B67A0}"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5E69-BBF7-481C-B3A9-1C9CC0BE6122}"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3"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4" name="Right Triangle 13"/>
          <p:cNvGrpSpPr/>
          <p:nvPr/>
        </p:nvGrpSpPr>
        <p:grpSpPr>
          <a:xfrm>
            <a:off x="-12600" y="5784840"/>
            <a:ext cx="3414600" cy="1092240"/>
            <a:chOff x="-12600" y="5784840"/>
            <a:chExt cx="3414600" cy="1092240"/>
          </a:xfrm>
        </p:grpSpPr>
        <p:pic>
          <p:nvPicPr>
            <p:cNvPr id="195" name="Right Triangle 13"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7" name="Straight Connector 14" descr=""/>
          <p:cNvPicPr/>
          <p:nvPr/>
        </p:nvPicPr>
        <p:blipFill>
          <a:blip r:embed="rId4"/>
          <a:stretch/>
        </p:blipFill>
        <p:spPr>
          <a:xfrm>
            <a:off x="-19080" y="5772240"/>
            <a:ext cx="3421080" cy="11095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5686-A485-4446-9291-612E3910FCBA}"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EA13-33CB-40E8-B688-97D540EDEB0D}"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6912-2BB1-4FED-893F-0885B6B2E61D}"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91C0-0A19-47A6-A481-188AD5B876C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8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82" name="Right Triangle 13"/>
          <p:cNvGrpSpPr/>
          <p:nvPr/>
        </p:nvGrpSpPr>
        <p:grpSpPr>
          <a:xfrm>
            <a:off x="-12600" y="5784840"/>
            <a:ext cx="3414600" cy="1092240"/>
            <a:chOff x="-12600" y="5784840"/>
            <a:chExt cx="3414600" cy="1092240"/>
          </a:xfrm>
        </p:grpSpPr>
        <p:pic>
          <p:nvPicPr>
            <p:cNvPr id="283" name="Right Triangle 13" descr=""/>
            <p:cNvPicPr/>
            <p:nvPr/>
          </p:nvPicPr>
          <p:blipFill>
            <a:blip r:embed="rId3"/>
            <a:stretch/>
          </p:blipFill>
          <p:spPr>
            <a:xfrm>
              <a:off x="-12600" y="5784840"/>
              <a:ext cx="3414600" cy="109224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85" name="Straight Connector 14" descr=""/>
          <p:cNvPicPr/>
          <p:nvPr/>
        </p:nvPicPr>
        <p:blipFill>
          <a:blip r:embed="rId4"/>
          <a:stretch/>
        </p:blipFill>
        <p:spPr>
          <a:xfrm>
            <a:off x="-19080" y="5772240"/>
            <a:ext cx="3421080" cy="1109520"/>
          </a:xfrm>
          <a:prstGeom prst="rect">
            <a:avLst/>
          </a:prstGeom>
          <a:ln w="0">
            <a:noFill/>
          </a:ln>
        </p:spPr>
      </p:pic>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733F-6B07-46D0-A17A-B861CFA65C2E}"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A041-731D-4E8D-9175-AE219332EE7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8"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2"/>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2" name="Straight Connector 14" descr=""/>
          <p:cNvPicPr/>
          <p:nvPr/>
        </p:nvPicPr>
        <p:blipFill>
          <a:blip r:embed="rId3"/>
          <a:stretch/>
        </p:blipFill>
        <p:spPr>
          <a:xfrm>
            <a:off x="-19080" y="5772240"/>
            <a:ext cx="3421080" cy="11095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ED29-3B24-4216-A8E9-EB571523D519}"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BEB8-B556-41EC-8F8D-6F68A02739F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BF75-7D01-46A5-9201-8445521CFA05}" type="datetime">
              <a:rPr b="0" lang="en-US" sz="1000" spc="-1" strike="noStrike">
                <a:solidFill>
                  <a:srgbClr val="898989"/>
                </a:solidFill>
                <a:latin typeface="Times New Roman"/>
              </a:rPr>
              <a:t>07/29/26</a:t>
            </a:fld>
            <a:endParaRPr b="0" lang="en-US" sz="1000" spc="-1" strike="noStrike">
              <a:solidFill>
                <a:srgbClr val="000000"/>
              </a:solidFill>
              <a:latin typeface="Times New Roman"/>
            </a:endParaRPr>
          </a:p>
        </p:txBody>
      </p:sp>
      <p:sp>
        <p:nvSpPr>
          <p:cNvPr id="377"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F4E9-43B5-4C39-AF9B-5DD989074DB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630360" y="1600200"/>
            <a:ext cx="8001000" cy="1648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mpact of Accounting Information System in Planning, Controlling and Decision-Making Processes Jodhpur Hotels</a:t>
            </a: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Lucida Sans Unicode"/>
            </a:endParaRPr>
          </a:p>
        </p:txBody>
      </p:sp>
      <p:sp>
        <p:nvSpPr>
          <p:cNvPr id="566" name="Rectangle 6"/>
          <p:cNvSpPr/>
          <p:nvPr/>
        </p:nvSpPr>
        <p:spPr>
          <a:xfrm>
            <a:off x="2286000" y="3121200"/>
            <a:ext cx="4419720" cy="325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LEH:</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Gusnar Yaring  - 222 121 403</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OSEN : DR. ISTIANINGSIH, Ak, MM</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567" name="Picture 2" descr=""/>
          <p:cNvPicPr/>
          <p:nvPr/>
        </p:nvPicPr>
        <p:blipFill>
          <a:blip r:embed="rId1"/>
          <a:stretch/>
        </p:blipFill>
        <p:spPr>
          <a:xfrm>
            <a:off x="3876840" y="380880"/>
            <a:ext cx="1380960" cy="1092240"/>
          </a:xfrm>
          <a:prstGeom prst="rect">
            <a:avLst/>
          </a:prstGeom>
          <a:ln w="0">
            <a:noFill/>
          </a:ln>
        </p:spPr>
      </p:pic>
      <p:sp>
        <p:nvSpPr>
          <p:cNvPr id="568" name="Rectangle 7"/>
          <p:cNvSpPr/>
          <p:nvPr/>
        </p:nvSpPr>
        <p:spPr>
          <a:xfrm>
            <a:off x="2286000" y="4429080"/>
            <a:ext cx="45720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GRAM PASCASARJANA</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DOKTOR ILMU AKUNTANS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AKULTAS EKONOM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NIVERSITAS TRISAKTI</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014</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04920" y="1295280"/>
            <a:ext cx="8686800" cy="5181840"/>
          </a:xfrm>
          <a:prstGeom prst="rect">
            <a:avLst/>
          </a:prstGeom>
          <a:noFill/>
          <a:ln w="0">
            <a:noFill/>
          </a:ln>
        </p:spPr>
        <p:txBody>
          <a:bodyPr lIns="90000" rIns="90000" tIns="46800" bIns="46800" anchor="t">
            <a:normAutofit/>
          </a:bodyPr>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uncul beberapa temuan hotel di Jodhpur tidak menggunakan metoda sistem informasi akuntansi dalam perencanaan, pengambilan keputusan dan pengedali memproses.</a:t>
            </a:r>
            <a:endParaRPr b="0" lang="en-US" sz="2500" spc="-1" strike="noStrike">
              <a:solidFill>
                <a:srgbClr val="000000"/>
              </a:solidFill>
              <a:latin typeface="Lucida Sans Unicode"/>
            </a:endParaRPr>
          </a:p>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enelitian ini mengelompokkan semua barang-barang menjadi satu (1.77, dan 0.00), (1.85 dan 0.00), (1.98 dan 0.00) (p-value), sehingga hipotesa ditolak. Karena tidak ada hubungan antara perencanaan dan sistem informasi akuntansi, pengendalian, dan pengambilan keputusan di hotel berbintan empat dan lima di Jodhpur</a:t>
            </a:r>
            <a:endParaRPr b="0" lang="en-US" sz="2500" spc="-1" strike="noStrike">
              <a:solidFill>
                <a:srgbClr val="000000"/>
              </a:solidFill>
              <a:latin typeface="Lucida Sans Unicode"/>
            </a:endParaRPr>
          </a:p>
          <a:p>
            <a:pPr marL="254160" indent="-25416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254160" indent="-254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ritik review:</a:t>
            </a:r>
            <a:endParaRPr b="0" lang="en-US" sz="2500" spc="-1" strike="noStrike">
              <a:solidFill>
                <a:srgbClr val="000000"/>
              </a:solidFill>
              <a:latin typeface="Lucida Sans Unicode"/>
            </a:endParaRPr>
          </a:p>
          <a:p>
            <a:pPr marL="254160" indent="-25416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70" name="Title 1" descr=""/>
          <p:cNvPicPr/>
          <p:nvPr/>
        </p:nvPicPr>
        <p:blipFill>
          <a:blip r:embed="rId1"/>
          <a:stretch/>
        </p:blipFill>
        <p:spPr>
          <a:xfrm>
            <a:off x="225360" y="-6480"/>
            <a:ext cx="8467920" cy="119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Mengubah teknologi globalisasi, bagian dari ini yang berubah adalah  sistem informasi akuntansi, perubahan  bergantung pada informasi dan data, untuk memperbaiki sistem informasi akuntansi internasional yang bermutu tinggi, tentang usaha  cara merencanakan, pengendalian dan membuat keputusan yang benar. Sesuai  (AIS) Sistim Informasi Akuntansi adalah penting bagi semua organisasi ( Borthick dan Clark, 1990; Curtis, 1995; Rahman et Al., 1988; Wilkinson, 1993; Wilkinson et Al., 2000).</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r>
              <a:rPr b="0" lang="en-US" sz="1700" spc="-1" strike="noStrike">
                <a:solidFill>
                  <a:srgbClr val="000000"/>
                </a:solidFill>
                <a:latin typeface="Lucida Sans Unicode"/>
              </a:rPr>
              <a:t>Informasi akuntansi dapat digunakan untuk menerjemahkan dimensi-dimensi berbeda ke dalam satu dimensi keuangan.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Bagaimanapun, informasi akuntansi adalah satu penyajian tidak sempurna didasari pada masalah keputusan, dapat terukur dengan angka-angka keuangan (Galbraith, 1973).</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nformasi akuntansi membantu para manajer untuk memahami tugas-tugas mereka lebih jelas dan mengurangi ketidak-pastian sebelum membuat (Chong, 1996) keputusan-keputusan. </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ritical Review:</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572"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7524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eneliti ini mengarahkan untuk menyelidiki sistem informasi akuntansi di hotel bintang empat dan lima kota Jodhpur dalam arti perencanaan, pengendalian dan pengambilan keputusan. tambahan sebagai beriku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hubungan antara Sistim Informasi Akuntansi dan Mengendalikan  di hotel-hotel  berbintang empat dan  lima Jodhpur </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gidentifikasi  dampak dari Sistim Informasi Akuntansi dan Merencanaka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kesulitan di hotel-hotel yang terkait dengan aplikasi dari sistem informasi akuntansi.</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Lucida Sans Unicode"/>
              </a:rPr>
              <a:t>Untuk menemukan adanya hubungan antara Pengambilan keputusan dan Sistim Informasi Akuntansi.</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ritical Review: N/A</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57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Lucida Sans Unicode"/>
              </a:rPr>
              <a:t>Sistem informasi akuntansi itu mempunyai satu peran yang besar di banyak keputusan. Karena itu dengan perencanaan, pengendalian dan pengambilan keputusan sistem ini di hotel-hotel wisatawan Jodhpur dan hubungan nya dengan teknologi akan berperan untuk koreksi tentang segala kesalahan, terutama jika disebabkan oleh kekurangan dari akses teknologi tersedia, Dari sudut kompetisi keputusan lebih sengitdan masuk akal di  sektor hotel bintang empat dan lima di  kota Jodhpur</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76" name="Title 1" descr=""/>
          <p:cNvPicPr/>
          <p:nvPr/>
        </p:nvPicPr>
        <p:blipFill>
          <a:blip r:embed="rId1"/>
          <a:stretch/>
        </p:blipFill>
        <p:spPr>
          <a:xfrm>
            <a:off x="365040" y="420840"/>
            <a:ext cx="8328240" cy="77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356840"/>
            <a:ext cx="8229600" cy="4768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6.1 Koleksi Data</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 </a:t>
            </a:r>
            <a:r>
              <a:rPr b="0" lang="en-US" sz="1100" spc="-1" strike="noStrike">
                <a:solidFill>
                  <a:srgbClr val="000000"/>
                </a:solidFill>
                <a:latin typeface="Lucida Sans Unicode"/>
              </a:rPr>
              <a:t>Rriset ini,menggunakan  dua data  primer dan data sekunde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Data primer dikumpulkan lewat jawaban-jawaban dari manajer hotel di 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Data sekunder adalah laporan tahunan keuangan dari Hotel State dari India, Buku-buku, Jurnal-jurnal, Secara berkala dan database komputer.</a:t>
            </a:r>
            <a:endParaRPr b="0" lang="en-US" sz="1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 </a:t>
            </a:r>
            <a:r>
              <a:rPr b="0" i="1" lang="en-US" sz="1100" spc="-1" strike="noStrike">
                <a:solidFill>
                  <a:srgbClr val="000000"/>
                </a:solidFill>
                <a:latin typeface="Lucida Sans Unicode"/>
              </a:rPr>
              <a:t>6.2 Hipotesis dari Study</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H1: Ada hubungan antara Sistim Informasi Akuntansi dan Perencanakan di hotel bintang empat dan lima di 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da hubungan antara Sistim Informasi Akuntansi dan pengendalian di hotel bintang empat dan limaJodhpur.</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da hubungan antara Pengambilan keputusan dan Sistim Informasi Akuntansi di hotel bintang empat dan lima Jodhpur.</a:t>
            </a:r>
            <a:endParaRPr b="0" lang="en-US" sz="1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ucida Sans Unicode"/>
              </a:rPr>
              <a:t> </a:t>
            </a:r>
            <a:r>
              <a:rPr b="0" i="1" lang="en-US" sz="1100" spc="-1" strike="noStrike">
                <a:solidFill>
                  <a:srgbClr val="000000"/>
                </a:solidFill>
                <a:latin typeface="Lucida Sans Unicode"/>
              </a:rPr>
              <a:t>6.3 Analisis Data</a:t>
            </a: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 </a:t>
            </a:r>
            <a:r>
              <a:rPr b="0" lang="en-US" sz="1100" spc="-1" strike="noStrike">
                <a:solidFill>
                  <a:srgbClr val="000000"/>
                </a:solidFill>
                <a:latin typeface="Lucida Sans Unicode"/>
              </a:rPr>
              <a:t>Di riset ini, menggunakan Statistik untuk (SPSS) Ilmu-ilmu Sosial digunakan untuk entri data (seperti) juga untuk menguji data kemudian. Statistik deskriptif, karakteristik, termasuk informasi demografis, seperti usia, jenis kelamin. Lebih lanjut, statistik inferensial biasa digunakan untuk menguji hipotesis untuk menentukan hubungan antara variabel-variabel. Secara khusus, </a:t>
            </a:r>
            <a:r>
              <a:rPr b="1" i="1" lang="en-US" sz="1100" spc="-1" strike="noStrike">
                <a:solidFill>
                  <a:srgbClr val="000000"/>
                </a:solidFill>
                <a:latin typeface="Lucida Sans Unicode"/>
              </a:rPr>
              <a:t>Pearson</a:t>
            </a:r>
            <a:r>
              <a:rPr b="0" lang="en-US" sz="1100" spc="-1" strike="noStrike">
                <a:solidFill>
                  <a:srgbClr val="000000"/>
                </a:solidFill>
                <a:latin typeface="Lucida Sans Unicode"/>
              </a:rPr>
              <a:t> Korelasi biasa digunakan untuk memverifikasi asosiasi dari interval mengukur kepada rekaan, Chi-square biasa digunakan untuk mengesahkan asosiasi antara variabel-variabel nominal. Cronbach Alfa koefisien digunakan untuk test-test keandalan. Alat analisa variabel ini (ANOVA) analisis ragam, biasa digunakan untuk menentukan Dampak Sistim Informasi Akuntansi dalam Perencanaan, Pengendalian dan</a:t>
            </a:r>
            <a:r>
              <a:rPr b="0" lang="en-US" sz="900" spc="-1" strike="noStrike">
                <a:solidFill>
                  <a:srgbClr val="000000"/>
                </a:solidFill>
                <a:latin typeface="Lucida Sans Unicode"/>
              </a:rPr>
              <a:t> Pengambilan keputusan Memproses di Jodhpur Hotels</a:t>
            </a: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Critical review: N/A</a:t>
            </a:r>
            <a:endParaRPr b="0" lang="en-US" sz="900" spc="-1" strike="noStrike">
              <a:solidFill>
                <a:srgbClr val="000000"/>
              </a:solidFill>
              <a:latin typeface="Lucida Sans Unicode"/>
            </a:endParaRPr>
          </a:p>
        </p:txBody>
      </p:sp>
      <p:pic>
        <p:nvPicPr>
          <p:cNvPr id="578" name="Title 1" descr=""/>
          <p:cNvPicPr/>
          <p:nvPr/>
        </p:nvPicPr>
        <p:blipFill>
          <a:blip r:embed="rId1"/>
          <a:stretch/>
        </p:blipFill>
        <p:spPr>
          <a:xfrm>
            <a:off x="225360" y="298440"/>
            <a:ext cx="8467920" cy="89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H1: Ceteris paribus, ada hubungan positif antara ukuran perusahaan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2: Ceteris paribus, ada hubungan positif antara intensitas persediaan </a:t>
            </a:r>
            <a:br>
              <a:rPr sz="1500"/>
            </a:br>
            <a:r>
              <a:rPr b="0" lang="en-US" sz="1500" spc="-1" strike="noStrike">
                <a:solidFill>
                  <a:srgbClr val="000000"/>
                </a:solidFill>
                <a:latin typeface="Lucida Sans Unicode"/>
              </a:rPr>
              <a:t>(Persediaan dibagi total aktiva) dan keputusan untuk mengadopsi XBRL sukarela.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3: Ceteris paribus, ada hubungan negatif antara intensitas PPE </a:t>
            </a:r>
            <a:br>
              <a:rPr sz="1500"/>
            </a:br>
            <a:r>
              <a:rPr b="0" lang="en-US" sz="1500" spc="-1" strike="noStrike">
                <a:solidFill>
                  <a:srgbClr val="000000"/>
                </a:solidFill>
                <a:latin typeface="Lucida Sans Unicode"/>
              </a:rPr>
              <a:t>terhadap total aset rat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4: Ceteris paribus, ada hubungan antara perusahaan jenis auditor (Big 4 atau </a:t>
            </a:r>
            <a:br>
              <a:rPr sz="1500"/>
            </a:br>
            <a:r>
              <a:rPr b="0" lang="en-US" sz="1500" spc="-1" strike="noStrike">
                <a:solidFill>
                  <a:srgbClr val="000000"/>
                </a:solidFill>
                <a:latin typeface="Lucida Sans Unicode"/>
              </a:rPr>
              <a:t>tidak)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5: Ceteris paribus, ada hubungan positif antara besarnya utang ras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6: Ceteris paribus, ada hubungan positif antara PE ratio perusahaan dan </a:t>
            </a:r>
            <a:br>
              <a:rPr sz="1500"/>
            </a:br>
            <a:r>
              <a:rPr b="0" lang="en-US" sz="1500" spc="-1" strike="noStrike">
                <a:solidFill>
                  <a:srgbClr val="000000"/>
                </a:solidFill>
                <a:latin typeface="Lucida Sans Unicode"/>
              </a:rPr>
              <a:t>keputusan untuk mengadopsi XBRL sukarela.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H7: Ceteris paribus, ada hubungan positif antara intangible asset suatu perusahaan </a:t>
            </a:r>
            <a:br>
              <a:rPr sz="1500"/>
            </a:br>
            <a:r>
              <a:rPr b="0" lang="en-US" sz="1500" spc="-1" strike="noStrike">
                <a:solidFill>
                  <a:srgbClr val="000000"/>
                </a:solidFill>
                <a:latin typeface="Lucida Sans Unicode"/>
              </a:rPr>
              <a:t> terhadap total rasio dan keputusan untuk mengadopsi XBRL sukarela.</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ritical Review;</a:t>
            </a:r>
            <a:endParaRPr b="0" lang="en-US" sz="1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N/A</a:t>
            </a:r>
            <a:endParaRPr b="0" lang="en-US" sz="1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p:txBody>
      </p:sp>
      <p:pic>
        <p:nvPicPr>
          <p:cNvPr id="580"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Lucida Sans Unicode"/>
              </a:rPr>
              <a:t>Tidak ada hubungan antara Sistim Informasi Akuntansi dan Merencanakan di hotel bintang empat dan lima Jodhpur. di mana hotel-hotel itu  tidak bergantung pada pendapatan dalam perencanaan untuk dijual &amp; menguangkan koleksi-koleksi, dan untuk membeli &amp; menguangkan distribusi-distribusi, AIS tidak menghasilkan sistim hotel oleh informasi tentang Produksi, penetapan harga produk &amp; manajemen biaya, SDM, untuk perkembangan teknologi, dalam perencanaan untuk sistem gaji masa depan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Tidak ada hubungan antara Sistim Informasi Akuntansi dan Mengendalikan di hotel bintang empat dan lima Jodhpur Hotels. Di mana Hotel-hotel tidak bergantung pada informasi kendali yang harus relevan, tidak juga di informasi dikendali yang menjadi keefektifan biaya, AIS Tidak menyediakan Sistim Hotel-hotel tentang informasi kendali yang menjadi penelitian</a:t>
            </a:r>
            <a:endParaRPr b="0" lang="en-US" sz="2100" spc="-1" strike="noStrike">
              <a:solidFill>
                <a:srgbClr val="000000"/>
              </a:solidFill>
              <a:latin typeface="Lucida Sans Unicode"/>
            </a:endParaRPr>
          </a:p>
        </p:txBody>
      </p:sp>
      <p:pic>
        <p:nvPicPr>
          <p:cNvPr id="582" name="Title 1" descr=""/>
          <p:cNvPicPr/>
          <p:nvPr/>
        </p:nvPicPr>
        <p:blipFill>
          <a:blip r:embed="rId1"/>
          <a:stretch/>
        </p:blipFill>
        <p:spPr>
          <a:xfrm>
            <a:off x="225360" y="122400"/>
            <a:ext cx="8467920" cy="130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8T07:59:42Z</dcterms:created>
  <dc:creator>Heliantono</dc:creator>
  <dc:description/>
  <dc:language>en-US</dc:language>
  <cp:lastModifiedBy>Owner</cp:lastModifiedBy>
  <dcterms:modified xsi:type="dcterms:W3CDTF">2014-05-21T14:55:19Z</dcterms:modified>
  <cp:revision>81</cp:revision>
  <dc:subject/>
  <dc:title>PowerPoint Presentation</dc:title>
</cp:coreProperties>
</file>