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674-FFEC-45CE-9E97-AEB40706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31E-0A32-413F-9F1C-F4E731E3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EE1D-3A81-4F72-B5C7-E9AC1E25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B86-4E9F-4AE1-98F6-9245AB96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E2D-3E9E-4B8D-8322-B28A3DFF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5B0-1F0B-4B49-8E56-674B856E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50A-2F2B-4F0B-BA24-45D4E139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773-EB0E-43F9-B7AE-71F12BCD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7A6-17FA-49DE-8C7F-148C262B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5FD-9E4E-43F0-8AAB-B61B14C4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9DF-624C-4040-8FE8-1706AD7A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154F-0E1B-4646-8118-DBDC49C7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6605-4EB5-4967-88FC-F8C22C197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Sobre o Problema de Pesquisa</a:t>
            </a:r>
            <a:br>
              <a:rPr sz="3200"/>
            </a:b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Sérgio Vasconcelos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89000"/>
            <a:ext cx="91440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autor faz duas afirmações inicia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currículos dos cursos de mestrado e doutorado deveriam substituir créditos por atividades de pesquisa, do contrário o seu conteúdo servirá  apenas como roteiro para  atividades de pesquis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odologia de pesquisa não passa de formalização didática da atividade de pesquisa. Na verdade, a realidade a ser pesquisada é infinitamente maior, mais complexa e mais diversificada do que essa formaliz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vista Chronos, Caxias do Sul, 26, n. 1 e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708-4A02-4B33-9E28-20F35C7BD1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squisar impl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ormulação de um problema de pesquisa, isto é, um conjunto de perguntas que pretende responder, que se mostre novo e relevante teórica e socialmen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terminação das informações necessárias para encaminhar as respostas às perguntas feit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 conjunto de ações que produzam essas informaç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 sistema teórico para interpretação del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dução de respostas às perguntas formuladas pelo probl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ndicação do grau de confiabilidade das respostas obtidas, isto é, por que aquelas respostas são as melhores respostas possíve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AD1-7636-4221-B920-F7B980E32A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ma não é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828800"/>
            <a:ext cx="91440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cientes mentais (sujeitos) ou Escola de primeiro grau (instituição) ou relações sociais dentro da empresa (área) = te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título - raramente se constitui numa boa formulação do problema de pesquisa. Ex: Estado, Sociedade e Marginalidade = ótimo título mas não se constitui numa boa formulação de proble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m, nem o tema, nem o título podem ser considerados um problema de pesqui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E95C-26DD-428F-A9D9-27A2925B1D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blem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52640"/>
            <a:ext cx="91440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blema é de natureza científica quando envolve variáveis que podem ser tidas como testáve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transformações ocorreram no conceito de deficiência mental desde que ele foi cunhado e quais as possíveis implicações delas para as práticas de cuidado com o deficiente m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á diferença entre o relato de um professor sobre as dificuldades de um aluno e as dificuldades constatadas a partir do desempenho efetivo do alu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 que medida a escolaridade determina a preferência político-partidá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im, os problemas formulados representam um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limitaçã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lara na intenção do pesquisador, em oposição a temas e áreas genéricos e abrangen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8A9-3D53-41A1-867E-953B034137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 Detalhamento do Problema de Pesqu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o maior a clarez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formulação de um problema, mais adequadas serão as decisões em relação ao proje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detalhamento de um problema de pesquisa se for relativamente aberto o pesquisador será tentado em alterá-lo  em meio a coleta de da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areza da formulação do problema e da sua delimitação visa à obtenção de parâmetros claros para as decisões metodológic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problema formulado constitui um conjunto de perguntas às quais o pesquisador pretende responder ao final do trabalh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isso precisa levantar um conjunto de informações, que uma vez analisadas, encaminhem as respostas pretendid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CF6-0F9A-49D1-B272-DBD1B93B0C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 Detalhamento do Problema de Pesqu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676520"/>
            <a:ext cx="9144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a pesquisa não pode prescindir de um completo trabalho de revisão de literatura pertinente ao probl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pos de fontes de inform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observação direta, observação indireta, relato verbal direto ou indireto (oral ou escrito), docu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compreensão da leitura poderá ser facilitada se o texto a ser lido/estudado for acompanhado de questões de estu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7A8-9B76-4379-B799-970F54ABEA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Conceitos e pesquisa: uma ilustr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instein ilustrou o papel dos conceito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6094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860560"/>
            <a:ext cx="72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9900"/>
                </a:solidFill>
                <a:latin typeface="Times New Roman"/>
              </a:rPr>
              <a:t>O pesquisador é, às vezes, como um homem que desejaria conhecer o mecanismo de um relógio que não pode abrir. Apenas a partir dos elementos que vê ou escuta (as agulhas giram, o tic-tac) pode procurar uma explicação elucidando, e do modo mais simples, numerosos fatos, inclusive, até, invisíveis. São os conceitos de movimento, de roda, de engrenagem que permitem compreender, sem o ver, o mecanismo do relóg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3:41:39Z</dcterms:created>
  <dc:creator>CI</dc:creator>
  <dc:description/>
  <dc:language>en-US</dc:language>
  <cp:lastModifiedBy>ADM</cp:lastModifiedBy>
  <cp:lastPrinted>2006-04-27T18:26:08Z</cp:lastPrinted>
  <dcterms:modified xsi:type="dcterms:W3CDTF">2009-10-01T00:50:19Z</dcterms:modified>
  <cp:revision>11</cp:revision>
  <dc:subject/>
  <dc:title>Sobre o Problema de Pesquisa Sérgio Vasconselos de Luna</dc:title>
</cp:coreProperties>
</file>