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A%20Namorada%20Que%20Sonhei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34D-FFB4-4BC1-A84F-C446308D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0EF-AFF1-4BE6-9147-F51385B1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D0D-1804-4C6F-BC26-3E25D4D6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2EF-A3A2-4E73-8CBA-CD59570C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324-610C-4DE9-8563-0010D53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41B-4392-43E1-8062-67561F6A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1E8-A02E-4F9E-AB48-DFCE007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845-14B0-4D36-8569-C43A084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B44-8FA6-4CF2-BD3C-26B8C35E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1D5-2615-46E1-9370-1F92147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06C-BAEE-4662-892C-8E03988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7C4-6853-4249-B36E-A9DFE533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BB51-009B-487A-99CF-8FA11DCB4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audio" Target="../media/A%20Namorada%20Que%20Sonhei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mailto:mmila@terra.com.br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333360"/>
            <a:ext cx="828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 NAMORADA QUE SONHE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867280" y="5445000"/>
            <a:ext cx="3086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0c1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Nilton Cesar</a:t>
            </a:r>
            <a:endParaRPr b="0" lang="en-US" sz="1800" spc="1" strike="noStrike">
              <a:ln w="9360">
                <a:solidFill>
                  <a:srgbClr val="e0c1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15772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Lucida Calligraphy"/>
              </a:rPr>
              <a:t>um dia no futuro então casados</a:t>
            </a: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Lucida Calligraphy"/>
              </a:rPr>
              <a:t>mas eternos namorados</a:t>
            </a:r>
            <a:r>
              <a:rPr b="0" lang="en-US" sz="3200" spc="-1" strike="noStrike">
                <a:solidFill>
                  <a:srgbClr val="66ff66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flores lindas,eu ainda vou te dar...</a:t>
            </a: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xit" presetID="2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2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xit" presetID="2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805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c1ff"/>
                </a:solidFill>
                <a:latin typeface="Lucida Calligraphy"/>
              </a:rPr>
              <a:t>e a Deus mais nada pedirei</a:t>
            </a:r>
            <a:r>
              <a:rPr b="0" lang="en-US" sz="3200" spc="-1" strike="noStrike">
                <a:solidFill>
                  <a:srgbClr val="e0c1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c1ff"/>
                </a:solidFill>
                <a:latin typeface="Lucida Calligraphy"/>
              </a:rPr>
              <a:t>Que seja assim por toda vida</a:t>
            </a:r>
            <a:r>
              <a:rPr b="0" lang="en-US" sz="3200" spc="-1" strike="noStrike">
                <a:solidFill>
                  <a:srgbClr val="e0c1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Calligraphy"/>
              </a:rPr>
              <a:t>Querida, mil vezes querida</a:t>
            </a:r>
            <a:r>
              <a:rPr b="0" lang="en-US" sz="3200" spc="-1" strike="noStrike">
                <a:solidFill>
                  <a:srgbClr val="e0c1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Calligraphy"/>
              </a:rPr>
              <a:t>Deusa na terra nascida</a:t>
            </a:r>
            <a:r>
              <a:rPr b="0" lang="en-US" sz="3200" spc="-1" strike="noStrike">
                <a:solidFill>
                  <a:srgbClr val="ffff66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62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c1ff"/>
                </a:solidFill>
                <a:latin typeface="Lucida Calligraphy"/>
              </a:rPr>
              <a:t>A namorada que sonhei..</a:t>
            </a:r>
            <a:r>
              <a:rPr b="0" lang="en-US" sz="3200" spc="-1" strike="noStrike">
                <a:solidFill>
                  <a:srgbClr val="e0c1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924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c1ff"/>
                </a:solidFill>
                <a:latin typeface="Lucida Calligraphy"/>
              </a:rPr>
              <a:t>A namorada que sonhei..</a:t>
            </a:r>
            <a:r>
              <a:rPr b="0" lang="en-US" sz="3200" spc="-1" strike="noStrike">
                <a:solidFill>
                  <a:srgbClr val="e0c1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55166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c1ff"/>
                </a:solidFill>
                <a:latin typeface="Lucida Calligraphy"/>
              </a:rPr>
              <a:t>A namorada que sonhei..</a:t>
            </a:r>
            <a:r>
              <a:rPr b="0" lang="en-US" sz="3200" spc="-1" strike="noStrike">
                <a:solidFill>
                  <a:srgbClr val="e0c1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60280"/>
            <a:ext cx="6480360" cy="33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Lucida Calligraphy"/>
              </a:rPr>
              <a:t>Imagens: arquivo e recebida por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Lucida Calligraphy"/>
              </a:rPr>
              <a:t>Format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Calligraphy"/>
                <a:hlinkClick r:id="rId3"/>
              </a:rPr>
              <a:t>mmila@terra.com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Lucida Calligraphy"/>
              </a:rPr>
              <a:t>24/maio/2008</a:t>
            </a: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5805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5db"/>
                </a:solidFill>
                <a:latin typeface="Lucida Calligraphy"/>
              </a:rPr>
              <a:t>e em cada flor um beijo meu</a:t>
            </a:r>
            <a:r>
              <a:rPr b="0" lang="en-US" sz="3200" spc="-1" strike="noStrike">
                <a:solidFill>
                  <a:srgbClr val="ff75db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46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Receba as flores que lhe dou</a:t>
            </a: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Lucida Calligraphy"/>
              </a:rPr>
              <a:t>São flores lindas que lhe dou</a:t>
            </a:r>
            <a:r>
              <a:rPr b="0" lang="en-US" sz="3200" spc="-1" strike="noStrike">
                <a:solidFill>
                  <a:srgbClr val="bbe0e3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60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Rosas vermelhas com amor</a:t>
            </a: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33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5db"/>
                </a:solidFill>
                <a:latin typeface="Lucida Calligraphy"/>
              </a:rPr>
              <a:t>amor que por você nasceu</a:t>
            </a: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57340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Calligraphy"/>
              </a:rPr>
              <a:t>e a Deus mais nada pedirei</a:t>
            </a:r>
            <a:r>
              <a:rPr b="0" lang="en-US" sz="3200" spc="-1" strike="noStrike">
                <a:solidFill>
                  <a:srgbClr val="ffff66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046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Calligraphy"/>
              </a:rPr>
              <a:t>Que seja assim por toda vida</a:t>
            </a:r>
            <a:r>
              <a:rPr b="0" lang="en-US" sz="3200" spc="-1" strike="noStrike">
                <a:solidFill>
                  <a:srgbClr val="ffff66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60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Lucida Calligraphy"/>
              </a:rPr>
              <a:t>Querida, mil vezes querida</a:t>
            </a:r>
            <a:r>
              <a:rPr b="0" lang="en-US" sz="3200" spc="-1" strike="noStrike">
                <a:solidFill>
                  <a:srgbClr val="bbe0e3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5445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Lucida Calligraphy"/>
              </a:rPr>
              <a:t>Deusa na terra nascida</a:t>
            </a:r>
            <a:r>
              <a:rPr b="0" lang="en-US" sz="3200" spc="-1" strike="noStrike">
                <a:solidFill>
                  <a:srgbClr val="bbe0e3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046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3a3"/>
                </a:solidFill>
                <a:latin typeface="Lucida Calligraphy"/>
              </a:rPr>
              <a:t>A namorada que sonhei..</a:t>
            </a:r>
            <a:r>
              <a:rPr b="0" lang="en-US" sz="3200" spc="-1" strike="noStrike">
                <a:solidFill>
                  <a:srgbClr val="ffa3a3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76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c1ff"/>
                </a:solidFill>
                <a:latin typeface="Lucida Calligraphy"/>
              </a:rPr>
              <a:t>No dia consagrado aos namorados</a:t>
            </a:r>
            <a:r>
              <a:rPr b="0" lang="en-US" sz="3200" spc="-1" strike="noStrike">
                <a:solidFill>
                  <a:srgbClr val="e0c1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530064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5a00"/>
                </a:solidFill>
                <a:latin typeface="Lucida Calligraphy"/>
              </a:rPr>
              <a:t>sairemos abraçados por ai a passear</a:t>
            </a:r>
            <a:r>
              <a:rPr b="0" lang="en-US" sz="3200" spc="-1" strike="noStrike">
                <a:solidFill>
                  <a:srgbClr val="de5a0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9:21:12Z</dcterms:created>
  <dc:creator>Mila Marques</dc:creator>
  <dc:description/>
  <dc:language>en-US</dc:language>
  <cp:lastModifiedBy>USUÁRIO</cp:lastModifiedBy>
  <dcterms:modified xsi:type="dcterms:W3CDTF">2008-05-24T22:03:05Z</dcterms:modified>
  <cp:revision>7</cp:revision>
  <dc:subject/>
  <dc:title>Slide 1</dc:title>
</cp:coreProperties>
</file>