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4.jpeg" ContentType="image/jpeg"/>
  <Override PartName="/ppt/media/%D7%90%D7%9E%D7%94%20%D7%A9%D7%A4%D7%9C%D7%9F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F14-8C96-455A-8199-BFC78BD9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A4B-E4E6-4EE1-972C-6F7E1810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DDD-1156-402F-896C-A5919BA1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EBE-0514-4C4A-96BA-D8032652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C4F6-420B-4A02-8AA4-5F4B493F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E98E-0FA5-4F06-A903-782EBF12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3D4D-24CD-45AF-9E65-DCBC446E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B605-EF02-4640-B596-99E2C7D4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B66F-862D-4143-A65B-55E64DF6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3D4B-E384-476F-9599-6E3C5398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C13F-F7AD-4725-A67D-CDB9CF19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A0C-E80D-4ACF-AD8D-94BEA91E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4F8B-CED6-4C88-A085-36791757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7F4E-7823-49F6-A409-C0B8DF20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9F0B-2967-4227-B21E-FED5D244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578B-D3C8-4C4A-917A-995492CE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B2D2-119C-4B3D-B59E-BBBE4C57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A71-A447-4C76-A25F-68EA2699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7E4-FF7C-45C5-B310-9B08942D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E6D-DD54-4E36-8196-A0C359F1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659-C3F2-4863-B7DA-DC6E6126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DD2-0890-4233-96FE-A5F41175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487-0D91-4D38-8D80-C4DE749B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6F7-EEFC-4EAD-BEE2-117AAC27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6EBF-DA38-4360-ADB0-4C33A6B9C4E1}" type="slidenum">
              <a:rPr b="0" lang="he-I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8A0F-018E-44EC-85B1-7847306F8682}" type="slidenum">
              <a:rPr b="0" lang="he-I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&#1488;&#1502;&#1492;%20&#1513;&#1508;&#1500;&#1503;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0" y="339840"/>
            <a:ext cx="9144000" cy="611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50920" y="5013360"/>
            <a:ext cx="30258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uttman Frank"/>
              </a:rPr>
              <a:t>רוקמת התחרה אומנית מופלא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uttman Frank"/>
              <a:ea typeface="Guttman Fran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uttman Frank"/>
              </a:rPr>
              <a:t>זמרת אמה שפל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uttman Frank"/>
              <a:ea typeface="Guttman Frank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51592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ust see the works of Cal Lane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zoom dir="out"/>
    <p:sndAc>
      <p:stSnd>
        <p:snd r:embed="rId3" name="%D7%90%D7%9E%D7%94%20%D7%A9%D7%A4%D7%9C%D7%9F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The Most!&#13;&#10; Beautiful Smith in the World (32 pics)"/>
          <p:cNvPicPr/>
          <p:nvPr/>
        </p:nvPicPr>
        <p:blipFill>
          <a:blip r:embed="rId2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1536840" y="0"/>
            <a:ext cx="62038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0" y="1071720"/>
            <a:ext cx="9144000" cy="471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1042920" y="-15840"/>
            <a:ext cx="7058160" cy="6889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2190600" y="-123840"/>
            <a:ext cx="4762800" cy="7105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539640" y="7920"/>
            <a:ext cx="8064720" cy="6842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1832040" y="0"/>
            <a:ext cx="5479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1238400" y="1185840"/>
            <a:ext cx="6667200" cy="4486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1952640" y="-61920"/>
            <a:ext cx="5238720" cy="6981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0" y="-39600"/>
            <a:ext cx="9144000" cy="6937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900000" y="-11160"/>
            <a:ext cx="7365960" cy="6859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1851120" y="0"/>
            <a:ext cx="5441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1789200" y="0"/>
            <a:ext cx="5565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1897200" y="0"/>
            <a:ext cx="5349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2190600" y="0"/>
            <a:ext cx="4854600" cy="6729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2340000" y="0"/>
            <a:ext cx="4946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0" y="339840"/>
            <a:ext cx="9144000" cy="6113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1816200" y="0"/>
            <a:ext cx="5511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268360" y="2133720"/>
            <a:ext cx="42483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oudy Old Style"/>
              </a:rPr>
              <a:t>סו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oudy Old Style"/>
              <a:ea typeface="Goudy Old Style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5047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Tahoma"/>
                <a:cs typeface="Guttman Frnew"/>
              </a:rPr>
              <a:t>צלם לא ידוע , עריכת המצגת יענקלה ט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6237360"/>
            <a:ext cx="29052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לסיום לחץ על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The Most Beautiful Smith in the !&#13;&#10;World (32 pics)"/>
          <p:cNvPicPr/>
          <p:nvPr/>
        </p:nvPicPr>
        <p:blipFill>
          <a:blip r:embed="rId2"/>
          <a:stretch/>
        </p:blipFill>
        <p:spPr>
          <a:xfrm>
            <a:off x="0" y="411120"/>
            <a:ext cx="9144000" cy="6113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The Most Beautiful Smith in the !&#13;&#10;World (32 pics)"/>
          <p:cNvPicPr/>
          <p:nvPr/>
        </p:nvPicPr>
        <p:blipFill>
          <a:blip r:embed="rId2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The Most Beautiful Smith in the !&#13;&#10;World (32 pics)"/>
          <p:cNvPicPr/>
          <p:nvPr/>
        </p:nvPicPr>
        <p:blipFill>
          <a:blip r:embed="rId2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250920" y="1440"/>
            <a:ext cx="871380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The Most Beautiful Smith in the World (32 pics)"/>
          <p:cNvPicPr/>
          <p:nvPr/>
        </p:nvPicPr>
        <p:blipFill>
          <a:blip r:embed="rId2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4:11:21Z</dcterms:created>
  <dc:creator>טל</dc:creator>
  <dc:description/>
  <dc:language>en-US</dc:language>
  <cp:lastModifiedBy>טל</cp:lastModifiedBy>
  <dcterms:modified xsi:type="dcterms:W3CDTF">2010-01-09T17:52:17Z</dcterms:modified>
  <cp:revision>3</cp:revision>
  <dc:subject/>
  <dc:title>שקופית 1</dc:title>
</cp:coreProperties>
</file>