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7F5-F64E-486D-80E5-F5B15240807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7EEF-B9E3-404A-8950-C1CBC8658A0A}" type="slidenum">
              <a:rPr b="0" lang="pt-P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C9C-17C1-49D0-92EA-52CC8796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86A-4435-47C8-9BEB-14F9C488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9AD-8DAD-43ED-A34A-295D75E3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BE3-E336-43F6-9A94-896A2607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6B06-52BC-44C1-B78F-B6FECBD3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B95F-D145-4ECE-9DCB-E0B74AF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FEB3-9C0C-4E73-B7D0-79DAB9A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4F1B-554A-470C-9A75-5425212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0CE4-529E-4533-9D30-BFF61D2E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838188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0BA-4238-4B7A-A983-91EBABB7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12B-3A16-441E-B7E4-D322D96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CDF-DA1B-422F-8931-145BE35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5CCE-7870-4261-9DF9-5A91472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FEB-57C9-4D0F-B0B1-7C96112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AE8E-6E41-420A-844F-685BBD5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1EA4-7577-4EC0-A0A8-0A06E374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551-63C1-41F9-87CB-4CD169A5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2E1-5B73-4901-B422-6995DCE0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AE1-319A-452A-BD43-14EEA0C1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05F-7F74-434C-BCF5-BF64FCCE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838188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9B3-E495-4116-B5E0-73CC3B8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073-F9B4-4B6B-8A99-85BE27DF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1EC-860D-4D80-810C-E650F30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FA2-21F7-4D98-95C8-AF35064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024-EBFC-416A-88EA-996001B50E9B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8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9685-C2BF-4FDC-A8CF-67586DEC2314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38188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66"/>
                </a:solidFill>
                <a:latin typeface="Andalus"/>
                <a:ea typeface="Andalus"/>
              </a:rPr>
              <a:t>...e as coisas que há e que estão para haver são demais de muitas, muito maiores diferentes, e que a gente tem de necessitar de aumentar a cabeça, para o total. Todos os sucedidos acontecendo, o sentir forte da gente - o que produz os ventos... (Guimarães Rosa</a:t>
            </a:r>
            <a:r>
              <a:rPr b="0" lang="pt-BR" sz="12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95280" y="1077480"/>
            <a:ext cx="849780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2f2f2"/>
                </a:solidFill>
                <a:latin typeface="Bradley Hand ITC"/>
                <a:ea typeface="Calibri"/>
              </a:rPr>
              <a:t>A poeira faz vento e o vento é forte, tão forte que nos leva a celebração e sempre a acreditar no novo, no possível e no tangível. Assim é a SOBÁ LIVRARIA E CAFÉ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2f2f2"/>
                </a:solidFill>
                <a:latin typeface="Book Antiqua"/>
                <a:ea typeface="Calibri"/>
              </a:rPr>
              <a:t>E nesse processo vamos juntos lançar o </a:t>
            </a:r>
            <a:r>
              <a:rPr b="1" lang="pt-BR" sz="1400" spc="-1" strike="noStrike">
                <a:solidFill>
                  <a:srgbClr val="f2f2f2"/>
                </a:solidFill>
                <a:latin typeface="Book Antiqua"/>
                <a:ea typeface="Times New Roman"/>
              </a:rPr>
              <a:t>Projeto: “Promoção das Ações Políticas, religiosas, Culturais, Sociais, Literárias e de Empreendedorismo para a População de Belo Horizonte na Perspectiva Étnico-Racia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2f2f2"/>
                </a:solidFill>
                <a:latin typeface="Book Antiqua"/>
                <a:ea typeface="Calibri"/>
              </a:rPr>
              <a:t>Por que acreditamos que tudo é possível partindo de qualquer ponto, inclusive do caos construtivo e transformador. Este projeto é uma parceria do Ilê Axé Alafim Odé e Sobá Livraria &amp; Café, com o Patrocínio da Prefeitura de Belo Horizonte/ Secretaria Municipal de Políticas Sociais/ Coordenadoria de Assuntos da Comunidade Negra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2f2f2"/>
                </a:solidFill>
                <a:latin typeface="Book Antiqua"/>
                <a:ea typeface="Calibri"/>
              </a:rPr>
              <a:t>Não perca a oportunidade de mais uma vez estarmos tod@s  junt@s  celebrando com  muita festa, música e boa  companh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Dia:</a:t>
            </a:r>
            <a:r>
              <a:rPr b="1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 27/08/2010 (sexta-feira)</a:t>
            </a:r>
            <a:br>
              <a:rPr sz="1200"/>
            </a:br>
            <a:r>
              <a:rPr b="0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Horário: </a:t>
            </a:r>
            <a:r>
              <a:rPr b="1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19 horas</a:t>
            </a:r>
            <a:br>
              <a:rPr sz="1200"/>
            </a:br>
            <a:r>
              <a:rPr b="0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Local:</a:t>
            </a:r>
            <a:r>
              <a:rPr b="1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 Sobá Livraria &amp; Café</a:t>
            </a:r>
            <a:br>
              <a:rPr sz="1200"/>
            </a:br>
            <a:r>
              <a:rPr b="1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         Rua Rio de Janeiro, 1278 - Lourdes</a:t>
            </a:r>
            <a:br>
              <a:rPr sz="1200"/>
            </a:br>
            <a:r>
              <a:rPr b="1" lang="pt-BR" sz="1200" spc="-1" strike="noStrike">
                <a:solidFill>
                  <a:srgbClr val="f2f2f2"/>
                </a:solidFill>
                <a:latin typeface="Book Antiqua"/>
                <a:ea typeface="Calibri"/>
              </a:rPr>
              <a:t>         contato: 3213-055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36:40Z</dcterms:created>
  <dc:creator>Particular</dc:creator>
  <dc:description/>
  <dc:language>en-US</dc:language>
  <cp:lastModifiedBy>cenarab8</cp:lastModifiedBy>
  <dcterms:modified xsi:type="dcterms:W3CDTF">2010-08-25T19:52:12Z</dcterms:modified>
  <cp:revision>9</cp:revision>
  <dc:subject/>
  <dc:title>Era uma vez um casal que fazia bodas de prata e estava também celebrando os seus 60 anos de idade.</dc:title>
</cp:coreProperties>
</file>