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3.jpeg" ContentType="image/jpeg"/>
  <Override PartName="/ppt/media/image22.jpeg" ContentType="image/jpeg"/>
  <Override PartName="/ppt/media/F%C3%B3gos1110.wav" ContentType="audio/x-wav"/>
  <Override PartName="/ppt/media/image1.jpeg" ContentType="image/jpeg"/>
  <Override PartName="/ppt/media/image14.jpeg" ContentType="image/jpeg"/>
  <Override PartName="/ppt/media/Marcas_do_Que_Se_Foi%5B1%5D109.wav" ContentType="audio/x-wav"/>
  <Override PartName="/ppt/media/image26.jpeg" ContentType="image/jpeg"/>
  <Override PartName="/ppt/media/image2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7.gif" ContentType="image/gif"/>
  <Override PartName="/ppt/media/image2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42.gif" ContentType="image/gif"/>
  <Override PartName="/ppt/media/image6.jpeg" ContentType="image/jpeg"/>
  <Override PartName="/ppt/media/image27.jpeg" ContentType="image/jpeg"/>
  <Override PartName="/ppt/media/image33.jpeg" ContentType="image/jpeg"/>
  <Override PartName="/ppt/media/image34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40.gif" ContentType="image/gif"/>
  <Override PartName="/ppt/media/image43.gif" ContentType="image/gif"/>
  <Override PartName="/ppt/media/image44.gif" ContentType="image/gif"/>
  <Override PartName="/ppt/media/image41.gif" ContentType="image/gif"/>
  <Override PartName="/ppt/media/image12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D4B-E444-4A8A-AA1D-71834D38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379-A7F2-42FE-91BA-EF8FE522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7CA0-1153-4C36-8C23-53033133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7F0-8A47-45F5-91E1-4DAD5797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19C-823C-4BC5-907F-7F408563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C07-1ED0-4E88-8468-CB24B505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982-D7F0-4835-97EB-C918AF92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FE8C-AC68-4D17-A968-9EECAB03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A62-84FB-4304-A030-33907902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42AC-07E2-4F01-A3F1-CB1DD83B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E63-4B43-435A-88C6-A13710A5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3B8-3599-4E95-9195-A4A770C3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3B1C-4902-4164-BB66-556BC1DBD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arcas_do_Que_Se_Foi%5B1%5D109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image" Target="../media/image38.gif"/><Relationship Id="rId6" Type="http://schemas.openxmlformats.org/officeDocument/2006/relationships/image" Target="../media/image39.gif"/><Relationship Id="rId7" Type="http://schemas.openxmlformats.org/officeDocument/2006/relationships/image" Target="../media/image40.gif"/><Relationship Id="rId8" Type="http://schemas.openxmlformats.org/officeDocument/2006/relationships/image" Target="../media/image41.gif"/><Relationship Id="rId9" Type="http://schemas.openxmlformats.org/officeDocument/2006/relationships/image" Target="../media/image42.gif"/><Relationship Id="rId10" Type="http://schemas.openxmlformats.org/officeDocument/2006/relationships/image" Target="../media/image43.gif"/><Relationship Id="rId11" Type="http://schemas.openxmlformats.org/officeDocument/2006/relationships/image" Target="../media/image44.gif"/><Relationship Id="rId12" Type="http://schemas.openxmlformats.org/officeDocument/2006/relationships/audio" Target="../media/F&#243;gos1110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03840" y="5789520"/>
            <a:ext cx="50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ustralian Sunrise"/>
              </a:rPr>
              <a:t>Mais um ano que termin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7"/>
          <p:cNvSpPr/>
          <p:nvPr/>
        </p:nvSpPr>
        <p:spPr>
          <a:xfrm>
            <a:off x="0" y="189000"/>
            <a:ext cx="64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Berlin Sans FB"/>
              </a:rPr>
              <a:t>Depois do pôr do sol do dia 31 de dezembro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Marcas_do_Que_Se_Foi%5B1%5D109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560" y="38160"/>
            <a:ext cx="9144000" cy="6802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403280" y="566100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E acredite sempre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200960" y="30240"/>
            <a:ext cx="52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ustralian Sunrise"/>
              </a:rPr>
              <a:t>Há uma luz no fim do túnel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2417040" y="5950080"/>
            <a:ext cx="63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ustralian Sunrise"/>
              </a:rPr>
              <a:t>...um pote de ouro no fim do arco-í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684360" y="49417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cc"/>
                </a:solidFill>
                <a:latin typeface="Arial Rounded MT Bold"/>
              </a:rPr>
              <a:t>... E que o arco-íris pode estar em qualquer lug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227640" y="162864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Mesmo que discretamen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-276120" y="0"/>
            <a:ext cx="43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de Latin"/>
              </a:rPr>
              <a:t>Em 2011, reúna os amig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0" y="0"/>
            <a:ext cx="37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ustralian Sunrise"/>
              </a:rPr>
              <a:t>...para uma cervejinh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401400" y="95400"/>
            <a:ext cx="35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ustralian Sunrise"/>
              </a:rPr>
              <a:t>...ou uma pesca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0" y="981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 para qualquer programa que você ache emocionante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611280" y="47628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ou não, mas reúna os amigo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79280" y="14436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Arial Rounded MT Bold"/>
              </a:rPr>
              <a:t>Estaremos no comando de um ano novinh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11880" y="587700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ustralian Sunrise"/>
              </a:rPr>
              <a:t>Viaje para cas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13200" y="239760"/>
            <a:ext cx="36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ustralian Sunrise"/>
              </a:rPr>
              <a:t>...viaje para long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75600" y="189000"/>
            <a:ext cx="32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Australian Sunrise"/>
              </a:rPr>
              <a:t>...bem longe!!!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-88920" y="260280"/>
            <a:ext cx="32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ustralian Sunrise"/>
              </a:rPr>
              <a:t>Seja organizad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395280" y="33336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 Rounded MT Bold"/>
              </a:rPr>
              <a:t>Da forma que você achar melh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375840" y="14616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balhe dur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684360" y="765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balhe “pesado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75240" y="168120"/>
            <a:ext cx="69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ustralian Sunrise"/>
              </a:rPr>
              <a:t>...mas arranje tempo para se diverti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4719240" y="333360"/>
            <a:ext cx="41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ustralian Sunrise"/>
              </a:rPr>
              <a:t>...fazer uma bagunç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59200" y="29196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ustralian Sunrise"/>
              </a:rPr>
              <a:t>...curtir o sol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-66960" y="115920"/>
            <a:ext cx="33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ustralian Sunrise"/>
              </a:rPr>
              <a:t>Onde certam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ustralian Sunrise"/>
              </a:rPr>
              <a:t>enfrentaremo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506160" y="95400"/>
            <a:ext cx="164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ustralian Sunrise"/>
              </a:rPr>
              <a:t>...a lu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40040" y="3573360"/>
            <a:ext cx="18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ustralian Sunrise"/>
              </a:rPr>
              <a:t>...o ma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360000" y="23976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cc33"/>
                </a:solidFill>
                <a:latin typeface="Australian Sunrise"/>
              </a:rPr>
              <a:t>...o céu!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08000" y="23760"/>
            <a:ext cx="664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Enfim, que em 2011 tenha 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paz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, </a:t>
            </a:r>
            <a:r>
              <a:rPr b="0" lang="en-US" sz="2800" spc="-1" strike="noStrike">
                <a:solidFill>
                  <a:srgbClr val="008000"/>
                </a:solidFill>
                <a:latin typeface="Berlin Sans FB"/>
              </a:rPr>
              <a:t>saúde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Berlin Sans FB"/>
              </a:rPr>
              <a:t>amor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e trabalho, ...o resto é conseqüência e conquis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8" descr="artifices-17"/>
          <p:cNvPicPr/>
          <p:nvPr/>
        </p:nvPicPr>
        <p:blipFill>
          <a:blip r:embed="rId1"/>
          <a:stretch/>
        </p:blipFill>
        <p:spPr>
          <a:xfrm>
            <a:off x="7380360" y="1916280"/>
            <a:ext cx="1512720" cy="243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champa01me2"/>
          <p:cNvPicPr/>
          <p:nvPr/>
        </p:nvPicPr>
        <p:blipFill>
          <a:blip r:embed="rId2"/>
          <a:stretch/>
        </p:blipFill>
        <p:spPr>
          <a:xfrm>
            <a:off x="0" y="2889360"/>
            <a:ext cx="6443640" cy="396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_cid_feliz_feliz_ano_novo"/>
          <p:cNvPicPr/>
          <p:nvPr/>
        </p:nvPicPr>
        <p:blipFill>
          <a:blip r:embed="rId3"/>
          <a:stretch/>
        </p:blipFill>
        <p:spPr>
          <a:xfrm>
            <a:off x="1979640" y="1484280"/>
            <a:ext cx="5327640" cy="1757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artifices-01"/>
          <p:cNvPicPr/>
          <p:nvPr/>
        </p:nvPicPr>
        <p:blipFill>
          <a:blip r:embed="rId4"/>
          <a:stretch/>
        </p:blipFill>
        <p:spPr>
          <a:xfrm>
            <a:off x="755640" y="76500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artifices-08"/>
          <p:cNvPicPr/>
          <p:nvPr/>
        </p:nvPicPr>
        <p:blipFill>
          <a:blip r:embed="rId5"/>
          <a:stretch/>
        </p:blipFill>
        <p:spPr>
          <a:xfrm>
            <a:off x="3276720" y="18900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Fogos se cruzando22"/>
          <p:cNvPicPr/>
          <p:nvPr/>
        </p:nvPicPr>
        <p:blipFill>
          <a:blip r:embed="rId6"/>
          <a:stretch/>
        </p:blipFill>
        <p:spPr>
          <a:xfrm>
            <a:off x="6443640" y="404640"/>
            <a:ext cx="889200" cy="889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Fogos  tipo bolas11"/>
          <p:cNvPicPr/>
          <p:nvPr/>
        </p:nvPicPr>
        <p:blipFill>
          <a:blip r:embed="rId7"/>
          <a:stretch/>
        </p:blipFill>
        <p:spPr>
          <a:xfrm>
            <a:off x="4716360" y="189000"/>
            <a:ext cx="1098720" cy="109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artifices-06"/>
          <p:cNvPicPr/>
          <p:nvPr/>
        </p:nvPicPr>
        <p:blipFill>
          <a:blip r:embed="rId8"/>
          <a:stretch/>
        </p:blipFill>
        <p:spPr>
          <a:xfrm>
            <a:off x="2124000" y="0"/>
            <a:ext cx="949320" cy="851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fogoss02"/>
          <p:cNvPicPr/>
          <p:nvPr/>
        </p:nvPicPr>
        <p:blipFill>
          <a:blip r:embed="rId9"/>
          <a:stretch/>
        </p:blipFill>
        <p:spPr>
          <a:xfrm>
            <a:off x="7772400" y="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001"/>
          <p:cNvPicPr/>
          <p:nvPr/>
        </p:nvPicPr>
        <p:blipFill>
          <a:blip r:embed="rId10"/>
          <a:stretch/>
        </p:blipFill>
        <p:spPr>
          <a:xfrm>
            <a:off x="2124000" y="476280"/>
            <a:ext cx="2324160" cy="222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artifices-11"/>
          <p:cNvPicPr/>
          <p:nvPr/>
        </p:nvPicPr>
        <p:blipFill>
          <a:blip r:embed="rId11"/>
          <a:stretch/>
        </p:blipFill>
        <p:spPr>
          <a:xfrm>
            <a:off x="7077240" y="1052640"/>
            <a:ext cx="206676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5292720" y="549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 Rounded MT Bold"/>
              </a:rPr>
              <a:t>Tempestades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144000" cy="6802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3793320" y="5516640"/>
            <a:ext cx="501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ustralian Sunrise"/>
              </a:rPr>
              <a:t>Situações que nos deixar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ustralian Sunrise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ustralian Sunrise"/>
              </a:rPr>
              <a:t>de ponta cabeç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050920" y="6165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Rounded MT Bold"/>
              </a:rPr>
              <a:t>... Ou de cabeça para baix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033560" y="30240"/>
            <a:ext cx="80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ustralian Sunrise"/>
              </a:rPr>
              <a:t>...onde não saberemos para que lado corr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1403280" y="3789360"/>
            <a:ext cx="4103640" cy="1944720"/>
          </a:xfrm>
          <a:prstGeom prst="pie">
            <a:avLst/>
          </a:prstGeom>
          <a:noFill/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-70920" y="115920"/>
            <a:ext cx="429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ustralian Sunrise"/>
              </a:rPr>
              <a:t>...ou que simples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ustralian Sunrise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ustralian Sunrise"/>
              </a:rPr>
              <a:t>as coisas n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ustralian Sunrise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ustralian Sunrise"/>
              </a:rPr>
              <a:t>vão funcionar!!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4500720" y="9540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Britannic Bold"/>
              </a:rPr>
              <a:t>Não desista, tenha fé,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22:50:42Z</dcterms:created>
  <dc:creator/>
  <dc:description/>
  <dc:language>en-US</dc:language>
  <cp:lastModifiedBy>DEPOL </cp:lastModifiedBy>
  <dcterms:modified xsi:type="dcterms:W3CDTF">2010-11-29T18:18:18Z</dcterms:modified>
  <cp:revision>34</cp:revision>
  <dc:subject/>
  <dc:title>Slide 1</dc:title>
</cp:coreProperties>
</file>