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he%20Scientis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795-E6C5-49EB-8AB2-E10E2606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17D-EE20-4F50-8F3C-F85301B9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A01-002A-41CD-A514-54A0EAAA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B6E-5069-4219-9FAC-43E83A53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98A-4F44-44E6-9AA6-E4BE6893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A61-E052-4E85-9127-35D79D75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FFA-C544-4C57-B84B-244C0A66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5DC-0555-4A2D-93D0-F8F19F6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4A0-DCC8-4F2D-8265-6FF1C655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C7A-D41F-40FE-A192-A8C6939D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F07-C942-44C9-AC33-871771A4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A78-BEB3-4969-B04E-FC63BBF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5F94-A8CE-42AD-A28F-D16190EDC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he%20Scientis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4267080"/>
            <a:ext cx="5410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91d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3a391d"/>
                </a:solidFill>
                <a:latin typeface="Times New Roman"/>
              </a:rPr>
              <a:t>A BORBOLETA E O CAVALIN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457200"/>
            <a:ext cx="5333760" cy="74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Logo em seguida um elefante se aproximou e lhe perguntou quem era ele e o que fazia por ali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Eu sou o cavalinho do cabresto e estou a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procura de uma borboleta que sumiu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Ah, é você então o famoso cavalinho?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Famoso, eu?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90720"/>
            <a:ext cx="510552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É que eu tive uma grande amiga que me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disse que também era sua amiga e falava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uito bem de você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as afinal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qual borboleta que você está procurando?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609480"/>
            <a:ext cx="5867280" cy="75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É uma borboleta colorida, alegre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que sobrevoa a floresta todos os dias visitando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todos os animais amigos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Nossa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as era justamente dela que eu estava falando.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Não ficou sabendo?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la morreu e já faz muito tempo.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838080"/>
            <a:ext cx="53337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 Morreu? Como foi isso?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Dizem que ela conhecia, aqui na floresta, um cavalinh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sim como você e todos os dias quando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la ia visitá-l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le dava-lhe um coice.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4648320"/>
            <a:ext cx="81536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la sempre voltava com marcas horríveis e todos perguntavam a ela quem havia feito aquil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as ela jamais contou a ninguém.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85800"/>
            <a:ext cx="632448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Insistíamos muito para saber quem era o autor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daquela malvadeza e ela respondia que só ia falar das visitas boas que tinha feito naquela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anhã e era aí que ela falava com a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aior alegria de você.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990720"/>
            <a:ext cx="472428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Nesse momento o cavalinho já estava derramando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uitas lágrimas de tristeza e de arrependimento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 Não chore meu amig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sei o quanto você deve estar sofrendo.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4952880" cy="87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la sempre me disse que você era um grande amig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as entenda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foram tantos os coices que ela recebeu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desse outro cavalinh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que ela acabou perdendo as asinhas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depois ficou muito doente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triste e sucumbiu e morreu.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90720"/>
            <a:ext cx="52578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E ela não mandou me chamar nos seus últimos dias?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- Não, todos os animais da floresta quiseram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lhe avisar, mas ela disse o seguinte: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80880"/>
            <a:ext cx="54864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1" lang="en-US" sz="36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"Não perturbem meu amigo com coisas pequenas,</a:t>
            </a:r>
            <a:r>
              <a:rPr b="0" lang="en-US" sz="36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le tem um grande problema que eu nunca</a:t>
            </a:r>
            <a:r>
              <a:rPr b="0" lang="en-US" sz="36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pude ajudá-lo a resolver.</a:t>
            </a:r>
            <a:r>
              <a:rPr b="0" lang="en-US" sz="36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628640"/>
            <a:ext cx="52578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sta é a história de duas criaturas de Deus que viviam numa floresta distante há muitos anos atrás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ram elas, um cavalinho e uma borboleta</a:t>
            </a:r>
            <a:r>
              <a:rPr b="0" lang="en-US" sz="2000" spc="-1" strike="noStrike">
                <a:solidFill>
                  <a:srgbClr val="3a391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495288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arrega no seu dorso um cabresto,</a:t>
            </a:r>
            <a:r>
              <a:rPr b="0" lang="en-US" sz="40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ntão será cansativo demais pra ele vir até aqui."</a:t>
            </a:r>
            <a:r>
              <a:rPr b="0" lang="en-US" sz="40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685800"/>
            <a:ext cx="5257800" cy="74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Você pode até aceitar os coices que lhe derem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quando eles vierem acompanhados de beijos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as em algum momento da sua vida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 feridas que eles vão lhe causar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não serão mais possíveis de serem cicatrizadas.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609480"/>
            <a:ext cx="5486400" cy="90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Quanto ao cabresto que você tiver que carregar</a:t>
            </a:r>
            <a:r>
              <a:rPr b="0" lang="en-US" sz="36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durante a sua existência,</a:t>
            </a:r>
            <a:r>
              <a:rPr b="0" lang="en-US" sz="36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não culpe ninguém por isso,</a:t>
            </a:r>
            <a:r>
              <a:rPr b="0" lang="en-US" sz="36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final muitas vezes,</a:t>
            </a:r>
            <a:r>
              <a:rPr b="0" lang="en-US" sz="36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foi você mesmo que o colocou no seu dorso, OU PERMITIU QUE FOSSE COLOCA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563904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Espero que você possa aceitar as coisas como elas são...</a:t>
            </a:r>
            <a:br>
              <a:rPr sz="3200"/>
            </a:b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Sem pensar que tudo conspira contra você...</a:t>
            </a:r>
            <a:br>
              <a:rPr sz="3200"/>
            </a:b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Porque parte de nós é entendimento... a outra parte é aprendizado..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2057400"/>
            <a:ext cx="556272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Que você possa ter forças para vencer todos os seus medos...</a:t>
            </a:r>
            <a:br>
              <a:rPr sz="3200"/>
            </a:b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Que no final possa alcançar todos os seus objetivos...</a:t>
            </a:r>
            <a:br>
              <a:rPr sz="3200"/>
            </a:b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Que tudo aquilo que você vê e escuta possa lhe trazer conhecimento....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197000"/>
            <a:ext cx="563868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Que essa escola possa ser longa e feliz...pois parte de nós é o que vivemos, a outra parte é o que esperamos...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1341360"/>
            <a:ext cx="54100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Que durante a sua vida você possa construir sentimentos verdadeiros...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990720"/>
            <a:ext cx="571500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Que você possa aceitar que só quem soube da sombra, pode saber da luz...”</a:t>
            </a: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600200"/>
            <a:ext cx="51055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0a7a"/>
                </a:solidFill>
                <a:latin typeface="Times New Roman"/>
                <a:ea typeface="Times New Roman"/>
              </a:rPr>
              <a:t>Para ser feliz não existe poção mágica.</a:t>
            </a:r>
            <a:br>
              <a:rPr sz="3200"/>
            </a:br>
            <a:r>
              <a:rPr b="1" i="1" lang="en-US" sz="3200" spc="-1" strike="noStrike">
                <a:solidFill>
                  <a:srgbClr val="0a0a7a"/>
                </a:solidFill>
                <a:latin typeface="Times New Roman"/>
                <a:ea typeface="Times New Roman"/>
              </a:rPr>
              <a:t>É preciso somente que tenha a alma limpa e desprovida de mágoas e rancore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838080"/>
            <a:ext cx="525780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0a7a"/>
                </a:solidFill>
                <a:latin typeface="Times New Roman"/>
                <a:ea typeface="Times New Roman"/>
              </a:rPr>
              <a:t>Quanto mais tempo ficarmos remoendo as dores mais tempo levaremos para cicatrizar as feridas.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609480"/>
            <a:ext cx="6324480" cy="10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Na verdade,</a:t>
            </a:r>
            <a:r>
              <a:rPr b="0" lang="en-US" sz="32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não tinham praticamente nada em comum,</a:t>
            </a:r>
            <a:r>
              <a:rPr b="0" lang="en-US" sz="32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as em certo momento de suas vidas se</a:t>
            </a:r>
            <a:r>
              <a:rPr b="0" lang="en-US" sz="32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proximaram e criaram um elo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 borboleta era livre,</a:t>
            </a:r>
            <a:r>
              <a:rPr b="0" lang="en-US" sz="32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voava por todos os cantos da floresta</a:t>
            </a:r>
            <a:r>
              <a:rPr b="0" lang="en-US" sz="32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nfeitando a paisagem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Já o cavalinho, tinha grandes limitações,</a:t>
            </a:r>
            <a:r>
              <a:rPr b="0" lang="en-US" sz="32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não era bicho solto que pudesse viver</a:t>
            </a:r>
            <a:r>
              <a:rPr b="0" lang="en-US" sz="32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ntregue à natureza.</a:t>
            </a:r>
            <a:r>
              <a:rPr b="0" lang="en-US" sz="2000" spc="-1" strike="noStrike">
                <a:solidFill>
                  <a:srgbClr val="3a391d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391d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685800"/>
            <a:ext cx="53337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Estamos aqui de passagem. Nada trouxemos e nada levaremos.</a:t>
            </a:r>
            <a:br>
              <a:rPr sz="3200"/>
            </a:br>
            <a:r>
              <a:rPr b="1" i="1" lang="pt-BR" sz="32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Cada um é livre para cumprir a sua miss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828800"/>
            <a:ext cx="53337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0a7a"/>
                </a:solidFill>
                <a:latin typeface="Times New Roman"/>
                <a:ea typeface="Times New Roman"/>
              </a:rPr>
              <a:t>Agradeço, Senhor, os verdadeiros amigos, mesmo imperfeitos e limitad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380880"/>
            <a:ext cx="5562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uitas vezes decepciono-me, esquecida(o) de que sou eu quem erra quando espero deles uma perfeição e um perfeito amor o qual somente Vós possui e mesmo aqueles que Vos amam verdadeiramente, são falhos, porque são huma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80880"/>
            <a:ext cx="5486400" cy="44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radeço, Senhor, pela sua compaixão, pela sua graça, pela sua bondade, que estão sempre presentes, sustentando-me nos momentos mais difíceis.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066680"/>
            <a:ext cx="5181840" cy="58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radeço, Senhor, pela pessoa que sou.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 QUE MEUS AMIGOS(AS) PERDOEM-ME POR SER IMPERFEITO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 Assim Seja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700"/>
                            </p:stCondLst>
                            <p:childTnLst>
                              <p:par>
                                <p:cTn id="4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14400"/>
            <a:ext cx="5638680" cy="80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Nele, certa vez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foi colocado um cabresto por alguém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que visitou a floresta e a partir daí sua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liberdade foi cerceada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 borboleta, no entant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mbora tivesse a amizade de muitos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outros animais e a liberdade de voar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por toda a floresta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6400800" cy="75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Gostava de fazer companhia ao cavalinh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gradava-lhe ficar ao seu lado e não era por pena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ra por companheirismo, afeiçã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dedicação e carinho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sim, todos os dias, ia visitá-lo e lá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hegando levava sempre um coice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depois então um sorriso.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609480"/>
            <a:ext cx="61722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ntre um e outro ela optava por esquecer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o coice e guardar dentro do seu coração o sorriso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Sempre o cavalinho insistia com a borboleta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que lhe ajudasse a carregar o seu cabresto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por causa 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seu enorme peso.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457200"/>
            <a:ext cx="5943600" cy="80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la, muito carinhosamente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tentava de todas as formas ajudá-lo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as isso nem sempre era possível por ser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la uma criaturinha tão frágil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Os anos se passaram e numa manhã de verão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 borboleta não apareceu para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visitar o seu companheiro.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90720"/>
            <a:ext cx="5638680" cy="74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le nem percebeu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preocupado que ainda estava em se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livrar do cabresto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 vieram outras manhãs e mais outras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 milhares de outras,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té que chegou o inverno e o cavalinho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sentiu-se só e finalmente percebeu a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usência da borboleta.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609480"/>
            <a:ext cx="556272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solveu então sair do seu canto e procurar por ela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aminhou por toda a floresta a observar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 c</a:t>
            </a: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da cantinho onde ela poderia ter se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escondido e não a encontrou.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ansado se deitou embaixo de uma árvore.</a:t>
            </a:r>
            <a:r>
              <a:rPr b="0" lang="en-US" sz="3200" spc="-1" strike="noStrike">
                <a:solidFill>
                  <a:srgbClr val="3a391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0:41:19Z</dcterms:created>
  <dc:creator>Leila</dc:creator>
  <dc:description/>
  <dc:language>en-US</dc:language>
  <cp:lastModifiedBy>Marcos Meletti</cp:lastModifiedBy>
  <dcterms:modified xsi:type="dcterms:W3CDTF">2006-09-12T01:52:09Z</dcterms:modified>
  <cp:revision>8</cp:revision>
  <dc:subject/>
  <dc:title>Apresentação do PowerPoint</dc:title>
</cp:coreProperties>
</file>