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FCA3-1410-45F7-9869-815C75B2C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5A21-4D40-43B0-BF4A-FC3AD6D6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B183-B1E4-4BB3-A335-844413D6A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B978-915E-45DF-9F97-70A15D07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8D8B-2551-4383-AD3A-66D619F0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74B1-8EA2-49BB-85B1-0127FD02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88DE-546D-4242-BF5A-FC1199E7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8AE2-C346-46A8-A6DF-73D5B031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A969-92DE-4734-9BDF-2ADA339F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6E13-5ABE-4F2E-8BF4-6D8E76F8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3A05-A4DD-4B2B-A432-5CAFC87D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F39C-DF47-4F53-8561-B6DA20A2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1158-E6B1-4D40-9F6D-2AF7A68A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8F9A-5506-4E82-ABBC-1490EC96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B4E1-7AF5-4C61-B9AC-325691C5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AB0C-A47E-4DE6-923C-321C159E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F925-508E-40B0-B2A5-67D6E1D1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36FC3A-1075-4563-8E0C-7F02F80D3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5A3536-F31B-4912-A1A7-82A5C3AB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5158A5-2498-4651-8E49-198FBB82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827A46-0D66-47AA-B412-8EE26A9F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BC910F-84C4-4DA9-A08B-3DD6A4BC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6FCC-3110-4DA8-BA48-B380084C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9AEEBD-870C-4332-A4F6-33CB297D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7487D1-FA7E-49E3-8A5C-6BCDA70C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621CB7-24BF-4A54-A7F8-396A956B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13CCE2-58A7-4B8C-A77B-C292D051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D6DE5D-376D-4143-B5EE-5D766C71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4E9F69-46E0-4783-9EA0-52AECD460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739E46-0744-4275-8995-FBEEFC55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B8651-2416-44CF-8CE6-BB043C30A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D090C-17ED-4C88-B6DA-AEBF65F2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24EA7-75F4-46F6-922E-FBF65AB0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E122-8513-4F1E-B276-DA391FDF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64ABF-193C-4C39-A037-75BA60DE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AF1C7-EC26-4653-9734-9DD70DF2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ECF77-B7ED-4432-B9D1-A145C9D2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01F8D-E52F-41A0-805A-7D99EBCC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08907-D26C-40FF-B803-61F3CCD3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769E7-2A89-4924-A92F-EFAD7179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270FA-7096-4554-80FC-501AB32B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31860-ABB1-48C3-87B5-1EE979336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4180D-CD99-40EB-9C36-D2723E92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27319B-3E56-4451-A2D6-449361881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E101-24A1-4087-9913-5AA66074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7A5828-3F8B-4A81-9A8F-0EF000F0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608CDC-AEA1-4E56-BD18-FE77E6CB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FBEE48-3D6F-4B08-96E9-8F4DE6BA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FA752C-24CC-40ED-B993-AB8A1258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9BD815-7C0E-4243-95D9-57546166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1BC620-C1E1-476D-BE67-7112FB44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9292E8-8C44-489D-9FC2-BC66FC3F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AE2994-317F-489D-B461-512E81C9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2F9040-921F-46E5-982F-5BE72F43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FFCF9B-9B7F-403F-9E0C-FA2B00CF7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7C61-A943-4821-BE6E-8B658244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A1693E-994F-412F-8CD3-790D0706F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DEB26E-2EFF-415E-BE94-B6A3BFBB6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338D54-70FD-4F8C-A50C-80ADF4F7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F22E20-98DE-4DCE-B754-1A47BC6B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E30D3D-7269-499C-A533-12EC8F58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21936C-F989-43D8-A18F-6C20C086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E1D4F4-E718-45F5-9D72-BB5706C4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E38D7B-FDA6-405C-B0A5-C3D2ECA4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8E5A98-F489-4198-A9D7-FA1C57B2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147788-C46B-4E73-AED9-91BE092C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AA12-7C34-491B-AB27-2712F0C4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5F6BBE-0000-4E29-94EC-C0C55F26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2E1A47-7183-4037-B98E-C638310E5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CC0A7F-3509-45D0-94D6-45A8F786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0D6DE1-2BDA-425D-89ED-5B42531E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587303-09AC-4A33-8755-C88F4EDA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63A6BD-702D-4E87-B9FE-FF4AD6F6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D81A60-B3F5-4991-BB51-40FDF622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1343BD-19DF-46D7-B2E9-16FA3603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C31BD3-4D79-4395-BC38-02178BAD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7134FB-EFEB-4A3A-884D-1BBCE0BC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66F0-0791-4A4E-834E-4BE02D7C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7BFA39-360C-4378-8DD7-6F0F28C2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A5E79D-802F-4274-BB96-896D82BC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FAD34F-5C6B-43AD-93C8-7EA010FB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FC4ECF-2C05-4CCF-B1C4-F7BA4232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6E0013-05F5-4A6A-A8E4-7D0E4F4A5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0673-4A3E-4E3C-B632-DFC9F48F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3153-9334-4702-8ADB-64FB9AE71C62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ângulo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tângulo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tângulo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tângu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Conector reto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Conector reto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Conector reto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Conector reto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Conector reto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Conector reto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tângu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Elipse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Elipse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Elipse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Elipse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Elipse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6D52-E07C-4F4E-BD7B-9B4C55FED6FA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EFD4-F90C-4E05-89D7-80A87FE5BFC7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ângulo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tângulo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tângulo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tângulo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Conector reto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Conector reto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Conector reto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Conector reto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Conector reto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tângulo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Elipse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Elipse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Elipse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Elipse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Elipse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Conector reto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C0A8-8C81-4938-9FC6-B5C50C28FBA4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2C9D-5FD4-4BDC-A73C-7006E058FE65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reto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Conector reto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Conector reto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Conector reto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tângulo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Conector reto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Elipse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9816-7CBF-4E31-8A5A-8BB89804DE21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reto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Elipse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Conector reto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tângulo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Conector reto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Conector reto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Conector reto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EC6C-DC42-42E8-9BAF-69C8D1B1E916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575f6d"/>
                </a:solidFill>
                <a:latin typeface="Century Schoolbook"/>
              </a:rPr>
              <a:t>HENRI WALL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575f6d"/>
                </a:solidFill>
                <a:latin typeface="Century Schoolbook"/>
              </a:rPr>
              <a:t>Do ato motor ao ato menta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pt-BR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pt-BR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pt-BR" sz="1800" spc="-1" strike="noStrike">
                <a:solidFill>
                  <a:srgbClr val="575f6d"/>
                </a:solidFill>
                <a:latin typeface="Century Schoolbook"/>
              </a:rPr>
              <a:t>Jacqueline da S. Gonçalv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pt-BR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pt-BR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pt-BR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pt-BR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pt-BR" sz="1800" spc="-1" strike="noStrike">
                <a:solidFill>
                  <a:srgbClr val="575f6d"/>
                </a:solidFill>
                <a:latin typeface="Century Schoolbook"/>
              </a:rPr>
              <a:t>21/09/09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REFERÊNCIA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DANTAS, Heloysa. Do ato motor ao ato mental: 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gênese da inteligência segundo Wallon. In: L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TAILE, Yves et al. </a:t>
            </a:r>
            <a:r>
              <a:rPr b="1" lang="pt-BR" sz="2400" spc="-1" strike="noStrike">
                <a:solidFill>
                  <a:srgbClr val="000000"/>
                </a:solidFill>
                <a:latin typeface="Century Schoolbook"/>
              </a:rPr>
              <a:t>Piaget,  Vygotsky e Wallo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entury Schoolbook"/>
              </a:rPr>
              <a:t>teorias psicogenéticas em discussão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. São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Paulo: Summus, 1992, p. 35-44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WALLON (1879-1962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Parisiense, viveu 83 anos, médico em batalhão na primeira guerra e trabalhou para a resistência na segunda, filiou-se ao partido comunist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Matéria-prima de estudo foram a mais de 200 observações de crianças doentes, casos de retardo, epilepsia, anomalias psicomotoras em geral (1909-1912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PSICOGENÉTICA </a:t>
            </a:r>
            <a:br>
              <a:rPr sz="3000"/>
            </a:b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PRESSUPOSTO PATOLÓG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Descrição das primeiras etapas do desenvolvimento psicomotor, os estágios impulsivo; emocional; sensório-motor e projetiv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Era um médico que considerava a investigação da doença e não apenas a cur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“ 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A utilização da doença como um elemento necessário à compreensão da normalidade fica assentada desde o início” DANTAS, 1992, p.3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56840" y="428760"/>
            <a:ext cx="7467480" cy="60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As funções devem ser estudadas evolutiva e involutivamente (daí o interesse pela velhice e pela cura) partindo das suas bases neurológicas, e comparando-as com as suas equivalentes, em diferentes espécies animais, em diferentes momentos da história individual e coletiv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O equívoco de classificar de organicista sua proposta, resulta da incompreensão de dois fatores: genética (incorporação da psicologia histórica) e o ser humano é organicamente social, pois sua estrutura orgânica depende da intervenção da cultura para se atualiz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Wallon opta pela análise genética, qualitativament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Materialismo histórico, uma solução epistemológ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A MOTRICIDADE DO ATO MOTOR AO ATO MENTAL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Wallon busca os órgãos dos movimentos: a musculatura e os órgãos cerebrais responsáveis pela sua organizaçã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Na atividade muscular identifica duas funçõ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cinética ou clônica: movimento visível, mudança de posição do corpo, ou de segmentos no corpo do espaço; (músculo em movimento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postural ou tônica: manutenção da posição assumida (atitude) e pela mímica. (músculo parado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entury Schoolbook"/>
              </a:rPr>
              <a:t>Função tônica como substrato para função cinét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56840" y="285480"/>
            <a:ext cx="7467480" cy="61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O ato mental se desenvolve a partir do ato motor, e passa a inibí-lo, sem deixar de ser atividade corpóre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A predominância dos gestos instrumentais, práxicos, no cenário do comportamento infantil começa a se estabelecer no segundo semestre e se impõe no final do primeiro ano, quando o amadurecimento cortical torna aptos os sistemas  necessários à exploração direta sensório-motora da realidade: a marcha, a preensão, a capacidade de investigação ocular sistemática em especia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Os movimentos simbólicos ou ideomovimentos, expressão peculiar a Wallon: indica que se trata de movimentos que contêm idéias, assim como a dependência inicial destas em relação àquel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Imobilize-se uma criança de dois anos que fala e gesticula e atrofia-se o fluxo menta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6840" y="571320"/>
            <a:ext cx="746748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O  gesto gráfico, inicialmente condutor da idéia, só depois é conduzido por ela. “ Como posso saber o que eu estou desenhando se eu ainda não terminei?” criança de três a quatro anos. O controle do gesto pela idéia inverte-se ao longo do desenvolviment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FASES DA INTELIGÊNCI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Primeiro ano de vida relações emocionais com o ambiente e o acabamento da embriogênese (constituição do sujeito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Projetiva: os gestos transportam, projetam-se em atos (segundo ano de vida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Sincretismo: presença de diálogos sustentados (cinco anos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456840" y="999720"/>
            <a:ext cx="74674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Para Wallon explicar é determinar  condições de existência, que abarca os mais variados tipos de relações: espaciais, temporais, modais, dinâmicas, além das causais stricto sensu. Ele é consequência da opção epistemológica: walloniana: para sua concepção dialética da natureza, tudo está ligado a tudo, além de estar em permanente devi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A palavra carrega a idéia, como o gesto carrega a intençã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9T23:17:09Z</dcterms:created>
  <dc:creator>Jacqueline</dc:creator>
  <dc:description/>
  <dc:language>en-US</dc:language>
  <cp:lastModifiedBy>FAE</cp:lastModifiedBy>
  <dcterms:modified xsi:type="dcterms:W3CDTF">2009-09-21T21:45:22Z</dcterms:modified>
  <cp:revision>13</cp:revision>
  <dc:subject/>
  <dc:title>Henri wallon</dc:title>
</cp:coreProperties>
</file>