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C51-54B9-47E9-A258-204AAC04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9BD-CAF2-47C5-A664-CB581A6C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B66-85F3-4F1F-9E76-A9982767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8BE-1C3B-4BCA-866D-F906FCC4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5B42-F81E-49B1-A76E-FAC47EBA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235C-7EB3-422C-B60F-611B0419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A6B1-3240-4AB6-B6D5-75EA0C89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3A47-2BA3-4F87-B6FC-B9C3758C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81F1-2EC9-4968-A1BB-13BE3518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31DA-0351-4F72-AA1F-DCB27594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B96B-26A3-4AA3-8E30-FF5C2657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EC0-04B2-4C79-A55C-584F2100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414F-7663-472B-84E1-FAE63816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38DB-BB83-42CE-A9C5-63C32F76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3544-B080-41D6-A805-6C631B30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C47D-A90A-47FF-9954-8ED8D915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3CF6-17D4-4868-9631-A200C4CF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C08-275B-4260-A32A-A4E9BA05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BEC-10E8-41C5-9D22-C90F141C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C0F-15DE-4F6B-AE87-73CFEC7C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236-642A-43CA-BCE7-752FF2C7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B7E-0291-4448-8E66-D24F1982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EEE-B324-4134-8F42-D3407CF7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EDB-CC23-48CD-AA6A-5E7C7515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769E-064D-451F-92B9-2B6127FDC02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9D27-CBBC-473B-B9C1-49AB1439C31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Metodologia da Pesquis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étodo Indutiv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roposto pelos empiristas Bacon, Hobbes, Locke e Hu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O conhecimento é fundamentado na experiência, não levando em conta princípios pré-estabeleci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 generalização deriva de observações de casos da realidade concre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Antônio é mor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João é mor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Paulo é mor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Ora, Antônio, João,..., são homens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imes New Roman"/>
              </a:rPr>
              <a:t>Logo, (todos) os homens são morta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étodo Hipotético-Dedutiv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posto por Popp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.. Quando os conhecimentos disponíveis sobre determinado assunto são insuficientes para a explicação de um fenômeno, surge um problema..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uram-se evidências empíricas para derrubar a hipóte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étodo Dialét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posto por Heg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dições se transcendem dando origem a novas contradições que passam a requerer soluçã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s fatos não podem ser considerados fora de um contexto social, político, econômico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étodo Fenomenoló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posto por Husser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crição direta da experiência tal como ela 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alidade é construída socialmente e entendida como o compreendido, o interpretado, o comunica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istem tantas realidades quantas forem suas interpretações e comunicaçõ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76520" y="922320"/>
            <a:ext cx="6324480" cy="5935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Fases da Pesquisa Científic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 que é pesquis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esquisar é procurar respostas para inquietações, ou para um problema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tividade básica das ciências na sua indagação e descoberta da realidade. É uma atitude e uma prática de constante busca que define um processo intrinsecamente inacabado e permanente” (Minayo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...é um processo formal e sistemático de desenvolvimento do método científico” (Gil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assificações das Pesquis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ponto de vista da sua naturez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ponto de vista da forma de abordagem do proble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ponto de vista de seus objetiv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ponto de vista dos procedimentos técnicos adota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atureza da Pesquis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Pesquisa Básic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gerar conhecimentos novos úteis para o avanço da ciência sem aplicação prática prevista. Envolve verdades e interesses universa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Pesquisa Aplicad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gerar conhecimentos para aplicação prática dirigidos à solução de problemas específicos. Envolve verdades e interesses loca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orma de Abordag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Pesquisa Quantitativ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traduz em números opiniões e informações para classificá-los e organizá-los. Utiliza métodos estatístic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Pesquisa Qualitativ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considera a existência de uma relação dinâmica entre mundo real e sujeito.É descritiva e utiliza o método indutivo. O processo é o foco princip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esquisa Exploratóri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esquisas bibliográficas e estudos de cas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esquisa Descritiv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envolve técnicas padronizadas de coleta de dados, como questionários e observação sistemát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esquisa Explicativ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explica o “porquê” das coisas, visando identificar os fatores que determinam ou contribuem para a ocorrência dos fenômen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cedimentos Técnic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Pesquisa Bibliográfica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– a partir de material já public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Pesquisa Documental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– Assemelha-se à pesquisa bibliográfica, todavia as fontes que a constituem são documentos e não apenas livros publicados e artigos científicos divulgados, como é o caso da pesquisa bibliográfic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Pesquisa Experimental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– consiste em determinar um objeto de estudo e selecionar as variáveis que seriam capazes de influenciá-lo, definindo as formas de controle e de observação dos efeitos que a variável produz no objeto em condições determinad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Levantamento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– interrogação dire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Estudo de Caso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– estudo profundo de um ponto para detalhamento do conhecimento, explorar situação da vida real, descrever a situação do contexto em que está sendo feita determinada investigaç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Pesquisa Ex-post-Facto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– experimento realizado depois dos f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Pesquisa-Ação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– resolução de um problema cole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Pesquisa Participante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– interação entre pesquisadores e membros da situações investig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étodos Científic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31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Dedutiv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Indutiv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Hipotético-Dedutiv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Dialétic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Fenomenológic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étodo Dedutiv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posto pelos racionalistas Descartes, Spinoza e Leibni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ó a razão é capaz de levar ao conhecimento verdadeir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a o silogism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odo homem é mortal (premissa maio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João é homem (premissa meno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Logo, João é mortal (conclusã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4:01:41Z</dcterms:created>
  <dc:creator>thais</dc:creator>
  <dc:description/>
  <dc:language>en-US</dc:language>
  <cp:lastModifiedBy>ADM</cp:lastModifiedBy>
  <dcterms:modified xsi:type="dcterms:W3CDTF">2009-10-01T01:13:47Z</dcterms:modified>
  <cp:revision>16</cp:revision>
  <dc:subject/>
  <dc:title>Metodologia da Pesquisa</dc:title>
</cp:coreProperties>
</file>