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sound001.wav" ContentType="audio/x-wav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271B-11C6-4F42-8695-E769678A2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4803-0314-47BA-B418-3C45CF001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C2FD-4CA2-4B3A-8A2C-DB3B839FF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D1C8-9527-40F2-AA5C-1D7575243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1C8B-F154-4423-8439-26A93898C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943A-6E95-4608-99B2-29E606A0C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9196-0F6C-4D77-9C86-7AD05A1A8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8F2A-303D-4ECC-AAFE-FFA0C3738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4272-5D21-41C7-8C54-552E70CDB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35FC-52E8-4646-A7C8-A1E21117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8029-8CBF-4FF9-9F0A-311565B2E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FB22-B31B-4414-AC78-8F04FB37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FEA5D-B474-4735-8647-191A5EFC41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ound001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62030"/>
              </a:gs>
              <a:gs pos="50000">
                <a:srgbClr val="dbe1f1"/>
              </a:gs>
              <a:gs pos="100000">
                <a:srgbClr val="06203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404640"/>
            <a:ext cx="8496000" cy="6048720"/>
          </a:xfrm>
          <a:prstGeom prst="rect">
            <a:avLst/>
          </a:prstGeom>
          <a:solidFill>
            <a:srgbClr val="000000"/>
          </a:solidFill>
          <a:ln w="139680">
            <a:solidFill>
              <a:srgbClr val="dbe1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68360" y="547560"/>
            <a:ext cx="8207280" cy="5762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32000" y="837720"/>
            <a:ext cx="6696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2030"/>
                </a:solidFill>
                <a:latin typeface="Lucida Sans"/>
              </a:rPr>
              <a:t>QUAL A MELHOR RELIGIÃ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31640" y="5373720"/>
            <a:ext cx="60800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dbe1f1"/>
                </a:solidFill>
                <a:latin typeface="Lucida Sans"/>
              </a:rPr>
              <a:t>Formatação de Julia P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  <p:sndAc>
      <p:stSnd>
        <p:snd r:embed="rId2" name="sound001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292929"/>
              </a:gs>
              <a:gs pos="50000">
                <a:srgbClr val="dddddd"/>
              </a:gs>
              <a:gs pos="100000">
                <a:srgbClr val="29292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solidFill>
            <a:srgbClr val="000000"/>
          </a:solidFill>
          <a:ln w="101520">
            <a:solidFill>
              <a:srgbClr val="eec6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61880" y="476280"/>
            <a:ext cx="8220240" cy="59054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71640" y="4265640"/>
            <a:ext cx="7129440" cy="18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Calei, maravilhado, e até os dias de hoje estou ruminando a sua resposta sábia e irrefutável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292929"/>
              </a:gs>
              <a:gs pos="50000">
                <a:srgbClr val="dddddd"/>
              </a:gs>
              <a:gs pos="100000">
                <a:srgbClr val="29292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solidFill>
            <a:srgbClr val="000000"/>
          </a:solidFill>
          <a:ln w="101520">
            <a:solidFill>
              <a:srgbClr val="eec6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66560" y="485640"/>
            <a:ext cx="8210880" cy="58867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2064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Não me interessa amigo, a tua religião ou mesmo ou mesmo se tem ou não religi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84360" y="5084280"/>
            <a:ext cx="7775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O que realmente importa é a tua conduta perante o teu semelhante, tua família, teu trabalho, tua comunidade, perante o mundo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2b4117"/>
              </a:gs>
              <a:gs pos="50000">
                <a:srgbClr val="dbeeb8"/>
              </a:gs>
              <a:gs pos="100000">
                <a:srgbClr val="2b411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404640"/>
            <a:ext cx="8496000" cy="6120000"/>
          </a:xfrm>
          <a:prstGeom prst="rect">
            <a:avLst/>
          </a:prstGeom>
          <a:solidFill>
            <a:srgbClr val="ffffff"/>
          </a:solidFill>
          <a:ln w="101520">
            <a:solidFill>
              <a:srgbClr val="dbee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33440" y="495360"/>
            <a:ext cx="8277120" cy="58672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20640"/>
            <a:ext cx="77724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4117"/>
                </a:solidFill>
                <a:latin typeface="Lucida Sans"/>
              </a:rPr>
              <a:t>Lembremos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2b4117"/>
                </a:solidFill>
                <a:latin typeface="Lucida Sans"/>
              </a:rPr>
              <a:t>“O Universo é o eco de nossas ações e nossos pensamentos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2b4117"/>
              </a:gs>
              <a:gs pos="50000">
                <a:srgbClr val="dbeeb8"/>
              </a:gs>
              <a:gs pos="100000">
                <a:srgbClr val="2b411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solidFill>
            <a:srgbClr val="ffffff"/>
          </a:solidFill>
          <a:ln w="101520">
            <a:solidFill>
              <a:srgbClr val="acd2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66560" y="495360"/>
            <a:ext cx="8210880" cy="58672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000" y="549360"/>
            <a:ext cx="79182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A Lei da Ação e Reação não é exclusiva da Física. Ela está também nas relações humanas. Se eu ajo com o bem, receberei o bem. Se ajo com o mal, receberei o m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4d4d4d"/>
              </a:gs>
              <a:gs pos="50000">
                <a:srgbClr val="ffffff"/>
              </a:gs>
              <a:gs pos="100000">
                <a:srgbClr val="4d4d4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404640"/>
            <a:ext cx="8496000" cy="6048720"/>
          </a:xfrm>
          <a:prstGeom prst="rect">
            <a:avLst/>
          </a:prstGeom>
          <a:solidFill>
            <a:srgbClr val="4d4d4d"/>
          </a:solidFill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95280" y="504720"/>
            <a:ext cx="8353440" cy="58485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Lucida Sans"/>
              </a:rPr>
              <a:t>Aquilo que nossos avós nos disseram é a mais pura verda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4360" y="5229000"/>
            <a:ext cx="79200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Sans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Lucida Sans"/>
              </a:rPr>
              <a:t>terás sempre em dobro aquilo que desejares aos outros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4d4d4d"/>
              </a:gs>
              <a:gs pos="50000">
                <a:srgbClr val="dddddd"/>
              </a:gs>
              <a:gs pos="100000">
                <a:srgbClr val="4d4d4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404640"/>
            <a:ext cx="8496000" cy="6120000"/>
          </a:xfrm>
          <a:prstGeom prst="rect">
            <a:avLst/>
          </a:prstGeom>
          <a:solidFill>
            <a:srgbClr val="333333"/>
          </a:solidFill>
          <a:ln w="101520">
            <a:solidFill>
              <a:srgbClr val="e86d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66560" y="514440"/>
            <a:ext cx="8210880" cy="5829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55280" y="1555920"/>
            <a:ext cx="683892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Para muitos, ser feliz não é questão de destino. É de escolh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700280" y="5035320"/>
            <a:ext cx="6400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Pense nis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4e6624"/>
              </a:gs>
              <a:gs pos="50000">
                <a:srgbClr val="dde6b0"/>
              </a:gs>
              <a:gs pos="100000">
                <a:srgbClr val="4e662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404640"/>
            <a:ext cx="8496000" cy="6120000"/>
          </a:xfrm>
          <a:prstGeom prst="rect">
            <a:avLst/>
          </a:prstGeom>
          <a:solidFill>
            <a:srgbClr val="000000"/>
          </a:solidFill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280" y="514440"/>
            <a:ext cx="8353440" cy="58291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e2823"/>
                </a:solidFill>
                <a:latin typeface="Lucida Sans"/>
              </a:rPr>
              <a:t>Breve diálogo entre o teólogo Leonardo Boff e Dalai La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403610"/>
              </a:gs>
              <a:gs pos="50000">
                <a:srgbClr val="ebd8b3"/>
              </a:gs>
              <a:gs pos="100000">
                <a:srgbClr val="40361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404640"/>
            <a:ext cx="8496000" cy="6048720"/>
          </a:xfrm>
          <a:prstGeom prst="rect">
            <a:avLst/>
          </a:prstGeom>
          <a:solidFill>
            <a:srgbClr val="000000"/>
          </a:solidFill>
          <a:ln w="101520">
            <a:solidFill>
              <a:srgbClr val="ebd8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76280" y="609480"/>
            <a:ext cx="8191440" cy="56390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3610"/>
                </a:solidFill>
                <a:latin typeface="Lucida Sans"/>
              </a:rPr>
              <a:t>Leonard Boff explic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4360" y="3886200"/>
            <a:ext cx="7775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bd8b3"/>
                </a:solidFill>
                <a:latin typeface="Lucida Sans"/>
              </a:rPr>
              <a:t>“ </a:t>
            </a:r>
            <a:r>
              <a:rPr b="1" lang="pt-BR" sz="2400" spc="-1" strike="noStrike">
                <a:solidFill>
                  <a:srgbClr val="ebd8b3"/>
                </a:solidFill>
                <a:latin typeface="Lucida Sans"/>
              </a:rPr>
              <a:t>No intervalo de uma mesa-redonda sobre religião e paz entre povos, no qual ambos (eu e o Dalai Lama) participávamos, eu, maliciosamente, mas também com interesse teológico, lhe perguntei em meu inglês capeng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403610"/>
              </a:gs>
              <a:gs pos="50000">
                <a:srgbClr val="ebd8b3"/>
              </a:gs>
              <a:gs pos="100000">
                <a:srgbClr val="40361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404640"/>
            <a:ext cx="8496000" cy="6120000"/>
          </a:xfrm>
          <a:prstGeom prst="rect">
            <a:avLst/>
          </a:prstGeom>
          <a:solidFill>
            <a:srgbClr val="000000"/>
          </a:solidFill>
          <a:ln w="101520">
            <a:solidFill>
              <a:srgbClr val="ebd8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66560" y="552600"/>
            <a:ext cx="8210880" cy="58291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31640" y="764640"/>
            <a:ext cx="5326200" cy="22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66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Lucida Sans"/>
              </a:rPr>
              <a:t>“</a:t>
            </a:r>
            <a:r>
              <a:rPr b="1" lang="pt-BR" sz="2800" spc="-1" strike="noStrike">
                <a:solidFill>
                  <a:srgbClr val="ffff66"/>
                </a:solidFill>
                <a:latin typeface="Lucida Sans"/>
              </a:rPr>
              <a:t>Santidade, qual é a melhor religião?” (Your holiness, what’s the best religion?)</a:t>
            </a:r>
            <a:br>
              <a:rPr sz="2800"/>
            </a:br>
            <a:r>
              <a:rPr b="1" lang="pt-BR" sz="2800" spc="-1" strike="noStrike">
                <a:solidFill>
                  <a:srgbClr val="ffff66"/>
                </a:solidFill>
                <a:latin typeface="Lucida Sans"/>
              </a:rPr>
              <a:t>Esperava que ele disses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3459240" y="3645000"/>
            <a:ext cx="5000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Lucida Sans"/>
              </a:rPr>
              <a:t>“</a:t>
            </a:r>
            <a:r>
              <a:rPr b="1" lang="en-US" sz="2800" spc="-1" strike="noStrike">
                <a:solidFill>
                  <a:srgbClr val="ffff66"/>
                </a:solidFill>
                <a:latin typeface="Lucida Sans"/>
              </a:rPr>
              <a:t>É o budismo tibetano” ou “São as religiões orientais, muito mais antigas do que o cristianism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403610"/>
              </a:gs>
              <a:gs pos="50000">
                <a:srgbClr val="ebd8b3"/>
              </a:gs>
              <a:gs pos="100000">
                <a:srgbClr val="40361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404640"/>
            <a:ext cx="8496000" cy="6120000"/>
          </a:xfrm>
          <a:prstGeom prst="rect">
            <a:avLst/>
          </a:prstGeom>
          <a:solidFill>
            <a:srgbClr val="000000"/>
          </a:solidFill>
          <a:ln w="101520">
            <a:solidFill>
              <a:srgbClr val="ebd8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76280" y="549360"/>
            <a:ext cx="8199360" cy="58323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499920"/>
            <a:ext cx="77724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ebd8b3"/>
                </a:solidFill>
                <a:latin typeface="Lucida Sans"/>
              </a:rPr>
              <a:t>O Dalai Lama fez uma pequena pausa, deu um sorriso, me olhou bem nos olhos – o que me desconcertou um pouco, porque eu sabia da malicia contida na pergunta – e afirmo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754325"/>
              </a:gs>
              <a:gs pos="50000">
                <a:srgbClr val="eec68a"/>
              </a:gs>
              <a:gs pos="100000">
                <a:srgbClr val="75432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404640"/>
            <a:ext cx="8496000" cy="6120000"/>
          </a:xfrm>
          <a:prstGeom prst="rect">
            <a:avLst/>
          </a:prstGeom>
          <a:solidFill>
            <a:srgbClr val="000000"/>
          </a:solidFill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95280" y="461880"/>
            <a:ext cx="8353440" cy="5934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A melhor religião é a que mais te aproxima de Deus, do Infinito”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 “É aquela que te faz melhor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292929"/>
              </a:gs>
              <a:gs pos="50000">
                <a:srgbClr val="dddddd"/>
              </a:gs>
              <a:gs pos="100000">
                <a:srgbClr val="29292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solidFill>
            <a:srgbClr val="000000"/>
          </a:solidFill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66560" y="476280"/>
            <a:ext cx="8210880" cy="59054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806472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Lucida Sans"/>
              </a:rPr>
              <a:t>Para sair da perplexidade diante de tão sábia resposta, voltei a pergunta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11280" y="5157360"/>
            <a:ext cx="7921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O que me faz melhor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Respondeu e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62030"/>
              </a:gs>
              <a:gs pos="50000">
                <a:srgbClr val="dddddd"/>
              </a:gs>
              <a:gs pos="100000">
                <a:srgbClr val="06203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0920" y="333360"/>
            <a:ext cx="8642160" cy="6191280"/>
          </a:xfrm>
          <a:prstGeom prst="rect">
            <a:avLst/>
          </a:prstGeom>
          <a:solidFill>
            <a:srgbClr val="000000"/>
          </a:solidFill>
          <a:ln w="101520">
            <a:solidFill>
              <a:srgbClr val="eec6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99960" y="514440"/>
            <a:ext cx="8344080" cy="58291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14160" y="3428640"/>
            <a:ext cx="79182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Lucida Sans"/>
              </a:rPr>
              <a:t>- “Aquilo que te faz mais compassivo” (e aí senti a ressonância tibetana, budista, taoísta de sua resposta), aquilo que te faz mais sensível, mais desapegado, mais amoroso, mais humanitário, mais responsável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62030"/>
              </a:gs>
              <a:gs pos="50000">
                <a:srgbClr val="dddddd"/>
              </a:gs>
              <a:gs pos="100000">
                <a:srgbClr val="06203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404640"/>
            <a:ext cx="8496000" cy="6048720"/>
          </a:xfrm>
          <a:prstGeom prst="rect">
            <a:avLst/>
          </a:prstGeom>
          <a:solidFill>
            <a:srgbClr val="000000"/>
          </a:solidFill>
          <a:ln w="101520">
            <a:solidFill>
              <a:srgbClr val="e86d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95280" y="490680"/>
            <a:ext cx="8353440" cy="58766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Mais ético..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A religião que conseguir isso de ti é a melhor religião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1:16:34Z</dcterms:created>
  <dc:creator>Julia Pap Oswald</dc:creator>
  <dc:description/>
  <dc:language>en-US</dc:language>
  <cp:lastModifiedBy>Julia Pap Oswald</cp:lastModifiedBy>
  <dcterms:modified xsi:type="dcterms:W3CDTF">2009-08-19T16:02:50Z</dcterms:modified>
  <cp:revision>65</cp:revision>
  <dc:subject/>
  <dc:title>Slide 1</dc:title>
</cp:coreProperties>
</file>