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2B4-39B9-42FA-8BAC-4C76C4E7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82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2F8-5CF1-4127-826E-21A168A8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A13-65E8-45DD-A564-4ED08094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B4A-03F2-448A-8380-5AF85DDE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0DB6-859C-4A4B-AFED-7F8CDD36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2305-E452-43F0-943A-FCBAD670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6FDB-A7D7-4ECB-A8FA-0C073874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1C45-32B3-487F-9E94-9F0AE343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5A89-B278-4D1B-8A32-639282E1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787E-40F4-4475-80F0-F6610E78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687B-B8D2-47CF-9E20-C2485FB9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3C1-3B22-4CB9-A3F6-7D5E81BE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49FB-FE44-4FA8-B954-AD893E3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8B95-E242-431E-8A91-BC567545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82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A9FC-F9F6-4F4D-A70E-C2C7CB33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27E0-EF34-46FB-8EEC-90258F7A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8221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B136-6583-4073-86DF-636D1D93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E1A-CF58-447F-93BD-0AE03569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E96-4A3C-49FE-96A3-56C2C900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71C-C597-4694-90E1-F64CBB67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CD5-03D8-4477-8965-73591D57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AC4-99BC-4090-8389-D0A3DE5D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82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F90-1F7D-4D44-AEC6-71F9F459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8221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141-5E5A-491A-A85E-1C636EF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097280" indent="-2192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536120" indent="-21924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1974960" indent="-21924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1974960" indent="-21924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1974960" indent="-21924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5867280"/>
            <a:ext cx="19051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67280"/>
            <a:ext cx="28958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5867280"/>
            <a:ext cx="19051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A5A6-5A22-41A3-9401-12A67029B1E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5867280"/>
            <a:ext cx="19051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5867280"/>
            <a:ext cx="19051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DF3E-87A9-4A5F-9B93-AB616D796F4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05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40000" y="112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3280" y="549360"/>
            <a:ext cx="81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Signboard"/>
              </a:rPr>
              <a:t>A ECOLOGIA DO DESNVOLVIMENTO HUMANO: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Signboard"/>
              </a:rPr>
              <a:t>EXPERIMENTOS NATURAIS E PLANEJADO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Signboard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Signboard"/>
              </a:rPr>
              <a:t>URIE BRONFENBRENNER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Signboard"/>
              </a:rPr>
              <a:t>1996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ignboard"/>
              </a:rPr>
              <a:t> </a:t>
            </a:r>
            <a:r>
              <a:rPr b="0" lang="en-US" sz="2400" spc="-1" strike="noStrike" u="sng">
                <a:solidFill>
                  <a:srgbClr val="008000"/>
                </a:solidFill>
                <a:uFillTx/>
                <a:latin typeface="Signboard"/>
              </a:rPr>
              <a:t>05) ATIVIDADES MO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137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apacidade que cada indivíduo tem para invocar objetos, pessoas e eventos que não estejam presentes no ambiente imediato – ecologia da vida mental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38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Signboard"/>
              </a:rPr>
              <a:t>06) ATIVIDADES MOLECULAR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638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tividades menos significantes e de pequena duração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3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31640" y="4005360"/>
            <a:ext cx="82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76120" y="45021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Signboard"/>
              </a:rPr>
              <a:t>07) Papéi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508464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comportamento típico de um indivíduo em relação a alguma profissão ou posição social, é entendido como sendo seu papel perante aquela sociedad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409120" y="2900520"/>
            <a:ext cx="43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Signboard"/>
              </a:rPr>
              <a:t>08) TRANSIÇÃO ECOLÓG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720" y="3357720"/>
            <a:ext cx="835056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Sempre que uma pessoa se envolve num determinado ambiente pela primeira ve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(passagem de um ambiente já familiar para um outro ainda desconhecido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54936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8000"/>
                </a:solidFill>
                <a:uFillTx/>
                <a:latin typeface="Signboard"/>
              </a:rPr>
              <a:t>07) DÍADE–</a:t>
            </a:r>
            <a:r>
              <a:rPr b="0" lang="pt-BR" sz="2400" spc="-1" strike="noStrike" u="sng">
                <a:solidFill>
                  <a:srgbClr val="f8f8f8"/>
                </a:solidFill>
                <a:uFillTx/>
                <a:latin typeface="Signboard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Times New Roman"/>
              </a:rPr>
              <a:t>Sistema de duas pesso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Times New Roman"/>
              </a:rPr>
              <a:t>Uma relação é obtida sempre que uma pessoa prestar atenção ao comportamento de outra pessoa, ou participar com ela de alguma atividad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Times New Roman"/>
              </a:rPr>
              <a:t>-Biderecional-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5157720"/>
            <a:ext cx="835344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Signboard"/>
              </a:rPr>
              <a:t>09) COMPONENTES DO MODELO BIOECOLÓGICO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rocesso - Pessoa - Contexto - Temp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31640" y="1052640"/>
            <a:ext cx="828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São as formas duradouras de interação nos ambientes imediatos. Os processos proximais de interação entre o indivíduo e seus ambientes operam no tempo e constituem os mecanismos primários do desenvolvimento humano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73800" y="47628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9900"/>
                </a:solidFill>
                <a:uFillTx/>
                <a:latin typeface="Signboard"/>
              </a:rPr>
              <a:t>09) PROCESSOS PROXIMAI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91920" y="3860640"/>
            <a:ext cx="64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Signboard"/>
              </a:rPr>
              <a:t>10) CIENCIA  BÁSICA &amp; POLÍTICA PÚBL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2840" y="4221000"/>
            <a:ext cx="8878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É necessário a interação funcional entre política  pública  e a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ciência Básica no alerta para aspectos do ambient ,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tanto imediato,quanto mais remotos ,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que são criticos para o desenvolvimento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Cognitivo,emocional e social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Signboard"/>
              </a:rPr>
              <a:t>DIALOGANDO COM PIAGE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7760" y="981000"/>
            <a:ext cx="849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Esta concepção utiliza as idéias de Piaget,particularment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Conforme apresentadas  em “A Construção da realidade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na Criança”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Vai consideravelmente além ,quando enfatiza a natureza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e o alcance desenvolventes  da realidade  percebida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conforme ela emerge  e se amplia na consciência da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criança e em seu ativo  envolvimento com o meio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ambiente físico e social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O reino da imaginação da criança também se expande a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longo deum contínuo do micro-para o meso-,exo –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inclusive macrossistema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9480" y="85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57120" y="549360"/>
            <a:ext cx="66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Signboard"/>
              </a:rPr>
              <a:t>TEORIA BIOECOLÓGICA E EDUCAÇÃ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5760" y="1389240"/>
            <a:ext cx="859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Apresenta-se como uma opção para analisar o contexto d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desenvolvimento das crianças,porque seusmodelo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enfatizam como as crianças sãoinfluenciadas por uma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interação de múltiplos sistemas sendo que ,ao mesmo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imes New Roman"/>
              </a:rPr>
              <a:t>tempo produzem influências a estes contexto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393372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 partir de novas práxis educacionais poderíamos resgatar as singularidades dos sujeitos,permitindo sua construção enquanto cidadãos capazes de tomar decisões quanto aos problemas atuais vivenciados buscando soluções individuais e coletivas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41400" y="40176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Signboard"/>
              </a:rPr>
              <a:t>QUEM É URIE BRONFENBRENNER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7000" y="1413000"/>
            <a:ext cx="80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8f8f8"/>
                </a:solidFill>
                <a:latin typeface="Times New Roman"/>
              </a:rPr>
              <a:t>Formado em Psicologia e Música pela Universidade de Cornel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4560" y="27496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orava com os pais em uma instituição rural para o tratamento de pessoas com retardo menta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Um dos teóricos que melhor abordou a questão da ecologia humana dentro da área da psicologia do desenvolvimento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Estruturou a “Abordagem Ecológica do Desenvolvimento Humano em 1979/1996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4040" y="907920"/>
            <a:ext cx="57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Nasceu em 29 de abril de 1917, em Moscou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67680" y="2133720"/>
            <a:ext cx="52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HD em zoologia-Naturalista do campo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093080" y="333360"/>
            <a:ext cx="276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azooka"/>
              </a:rPr>
              <a:t>?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azooka"/>
              <a:ea typeface="Bazoo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4760" y="476280"/>
            <a:ext cx="61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Signboard"/>
              </a:rPr>
              <a:t>QUAL A ESTRUTURA DO TEXTO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3280" y="1217520"/>
            <a:ext cx="844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usca demonstrar a utilidade científica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o modelo ecológico de desenvolvimento humano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Numa perspectiva ecológica,desenvolve uma concepção teórica apresentando seus conceitos básicos , princípios estruturas ,blocos construtor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referendando o estudo sistemático dos processos de interação entre o organismo e o ambient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(Modelo Biológico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020000" y="476280"/>
            <a:ext cx="7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azooka"/>
              </a:rPr>
              <a:t>?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azooka"/>
              <a:ea typeface="Bazoo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71680" y="47628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26720" y="54936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ignboard"/>
              </a:rPr>
              <a:t>QUAIS SÃO AS PROPOSIÇÕES DO TEXTO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308720" y="404640"/>
            <a:ext cx="276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azooka"/>
              </a:rPr>
              <a:t>?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azooka"/>
              <a:ea typeface="Bazooka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26828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Busca fornecer um esquema conceitual diferenciado ,para descrever  e inter-relacionar estruturas e processos  no meio ambiente imediato e mais remoto que modelam o curso do desenvolvimento humano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443700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Geometr231 Hv BT"/>
              </a:rPr>
              <a:t>Apresenta uma teoria  de interconexões ambientai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Geometr231 Hv BT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Geometr231 Hv BT"/>
              </a:rPr>
              <a:t>e seu impacto sobre as forças que afetam o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Geometr231 Hv BT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Geometr231 Hv BT"/>
              </a:rPr>
              <a:t>crescimento psicológico</a:t>
            </a:r>
            <a:r>
              <a:rPr b="0" lang="en-US" sz="3200" spc="-1" strike="noStrike">
                <a:solidFill>
                  <a:srgbClr val="f8f8f8"/>
                </a:solidFill>
                <a:latin typeface="Geometr231 Hv BT"/>
              </a:rPr>
              <a:t>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44360" y="33336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Signboard"/>
              </a:rPr>
              <a:t>QUAIS SÃO OS CONCEITOS BÁSICOS</a:t>
            </a:r>
            <a:r>
              <a:rPr b="0" lang="en-US" sz="2400" spc="-1" strike="noStrike">
                <a:solidFill>
                  <a:srgbClr val="f8f8f8"/>
                </a:solidFill>
                <a:latin typeface="Signboard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96360" y="260280"/>
            <a:ext cx="64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azooka"/>
              </a:rPr>
              <a:t>?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azooka"/>
              <a:ea typeface="Bazook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2736720" cy="4608360"/>
          </a:xfrm>
          <a:prstGeom prst="rect">
            <a:avLst/>
          </a:prstGeom>
          <a:ln w="28440">
            <a:solidFill>
              <a:srgbClr val="009900"/>
            </a:solidFill>
            <a:prstDash val="lgDash"/>
            <a:miter/>
          </a:ln>
        </p:spPr>
      </p:pic>
      <p:sp>
        <p:nvSpPr>
          <p:cNvPr id="128" name=""/>
          <p:cNvSpPr/>
          <p:nvPr/>
        </p:nvSpPr>
        <p:spPr>
          <a:xfrm>
            <a:off x="773280" y="973080"/>
            <a:ext cx="75960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9900"/>
              </a:buClr>
              <a:buFont typeface="Signboar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00"/>
                </a:solidFill>
                <a:uFillTx/>
                <a:latin typeface="Signboard"/>
              </a:rPr>
              <a:t>Ecologia do DESENVOLVIMENTO HUMANO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4" marL="2286000" indent="-4572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É a crescente capacidade do ser humano de remodelar a realidade de acordo com suas necessidades e aspirações numa acomodação progressiva mútua ,de forma ativa,entre este  e as propriedades mutantes dos ambientes imediatos, conforme este processo é afetado pela relações entre esses ambientes e pelos contextos mais amplos em que estão inserido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08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Signboard"/>
              </a:rPr>
              <a:t>MICR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365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Signboard"/>
              </a:rPr>
              <a:t>MES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3357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Signboard"/>
              </a:rPr>
              <a:t>EX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2133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Signboard"/>
              </a:rPr>
              <a:t>MACR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4437000"/>
            <a:ext cx="647640" cy="457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981000"/>
            <a:ext cx="3672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cc00"/>
                </a:solidFill>
                <a:uFillTx/>
                <a:latin typeface="Signboard"/>
              </a:rPr>
              <a:t>02)MEIO AMBIENTE ECOLÓGICO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É</a:t>
            </a: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constituído por um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érie de estruturas que se encaixam uma nas outras que sã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s diferentes meios em que o indivíduo transita de forma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ireta ou indiret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476280"/>
            <a:ext cx="4103640" cy="28814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4284720" y="37162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odos os ambientes estão interligado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 o importante é a  maneira como a pessoa percebe os ambientes e interage dentro deles e com el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Signboard"/>
              </a:rPr>
              <a:t>03) CONCEPÇÃO  DE ECOLOGIA NESTA PROPOSTA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ção do ser humano com os todos os lugares que habita,as relações com os parceiros de vida e nas dinâmicas interações entre os mais variados espaços mentais,sociais e geográficos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indivíduo participa e interag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s mais variados contextos,o que intensifica seu desenvolvimento,permitindo que se desenvolva novas competências cognitivas e socia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rot="19664400">
            <a:off x="684360" y="17618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293800">
            <a:off x="397440" y="3358440"/>
            <a:ext cx="122400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corp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0412600">
            <a:off x="3858480" y="3357360"/>
            <a:ext cx="70668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as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202600">
            <a:off x="7818120" y="1053360"/>
            <a:ext cx="97776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ida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219800">
            <a:off x="2054160" y="1053360"/>
            <a:ext cx="672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aí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838200">
            <a:off x="688680" y="5877000"/>
            <a:ext cx="145332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continen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237400">
            <a:off x="7598880" y="5661360"/>
            <a:ext cx="106308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lane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461000">
            <a:off x="7531560" y="3357720"/>
            <a:ext cx="123228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univers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03280" y="1125360"/>
            <a:ext cx="8245440" cy="4967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2200" y="1484280"/>
            <a:ext cx="6697800" cy="40323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1989000"/>
            <a:ext cx="5184720" cy="2735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3200" y="476280"/>
            <a:ext cx="75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Signboard"/>
              </a:rPr>
              <a:t>04) ESTRUTURAS</a:t>
            </a:r>
            <a:r>
              <a:rPr b="0" lang="en-US" sz="2400" spc="-1" strike="noStrike">
                <a:solidFill>
                  <a:srgbClr val="00cc00"/>
                </a:solidFill>
                <a:latin typeface="Signboard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Signboard"/>
              </a:rPr>
              <a:t>DO AMBIENTE ECOLÓGIC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335772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96320" y="312912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icrossistema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5440" y="400536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esossistema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0320" y="4653000"/>
            <a:ext cx="24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Signboard"/>
              </a:rPr>
              <a:t>Exossistema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5" name=""/>
          <p:cNvSpPr/>
          <p:nvPr/>
        </p:nvSpPr>
        <p:spPr>
          <a:xfrm>
            <a:off x="3348000" y="5445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Signboard"/>
              </a:rPr>
              <a:t>Macrossistema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4076640"/>
            <a:ext cx="1873440" cy="466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386064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Signboard"/>
              </a:rPr>
              <a:t>Mesossistema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4000" y="2565360"/>
            <a:ext cx="4780080" cy="1881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1152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ter-relações entre dois ou mais sistemas(participação ativa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332000" y="1376280"/>
            <a:ext cx="6480000" cy="39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um ou mais ambientes ,sem a participação direta da pessoa em desenvolvimento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71640" y="2637000"/>
            <a:ext cx="7199280" cy="33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4232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adrões globais de ideologia e organização das instituições comuns a uma determinada cultura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98920" y="3129120"/>
            <a:ext cx="194472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374920" y="2374200"/>
            <a:ext cx="4393800" cy="1226880"/>
            <a:chOff x="2374920" y="2374200"/>
            <a:chExt cx="4393800" cy="1226880"/>
          </a:xfrm>
        </p:grpSpPr>
        <p:sp>
          <p:nvSpPr>
            <p:cNvPr id="163" name="_s45128"/>
            <p:cNvSpPr/>
            <p:nvPr/>
          </p:nvSpPr>
          <p:spPr>
            <a:xfrm>
              <a:off x="3586320" y="2592360"/>
              <a:ext cx="1971000" cy="623160"/>
            </a:xfrm>
            <a:prstGeom prst="ellipse">
              <a:avLst/>
            </a:prstGeom>
            <a:solidFill>
              <a:srgbClr val="9933ff">
                <a:alpha val="50000"/>
              </a:srgbClr>
            </a:solidFill>
            <a:ln w="46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_s45129"/>
            <p:cNvSpPr/>
            <p:nvPr/>
          </p:nvSpPr>
          <p:spPr>
            <a:xfrm>
              <a:off x="4309200" y="2374200"/>
              <a:ext cx="5252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5" name="_s45130"/>
            <p:cNvSpPr/>
            <p:nvPr/>
          </p:nvSpPr>
          <p:spPr>
            <a:xfrm>
              <a:off x="4234680" y="2947680"/>
              <a:ext cx="1971360" cy="6231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4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_s45131"/>
            <p:cNvSpPr/>
            <p:nvPr/>
          </p:nvSpPr>
          <p:spPr>
            <a:xfrm>
              <a:off x="6243480" y="3445560"/>
              <a:ext cx="5252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_s45132"/>
            <p:cNvSpPr/>
            <p:nvPr/>
          </p:nvSpPr>
          <p:spPr>
            <a:xfrm>
              <a:off x="2935440" y="2946960"/>
              <a:ext cx="1971360" cy="6231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46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_s45133"/>
            <p:cNvSpPr/>
            <p:nvPr/>
          </p:nvSpPr>
          <p:spPr>
            <a:xfrm>
              <a:off x="2374920" y="3445560"/>
              <a:ext cx="5252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 txBox="1"/>
          <p:nvPr/>
        </p:nvSpPr>
        <p:spPr>
          <a:xfrm>
            <a:off x="2879640" y="2754360"/>
            <a:ext cx="3384720" cy="603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5937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ter-relações imediat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73560" y="36450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Signboard"/>
              </a:rPr>
              <a:t>Microssistema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6165720"/>
            <a:ext cx="7667640" cy="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Signboard"/>
              </a:rPr>
              <a:t>PROCESSO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623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Signboard"/>
              </a:rPr>
              <a:t>TEMPO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7:13Z</dcterms:created>
  <dc:creator>TorrePreta</dc:creator>
  <dc:description/>
  <dc:language>en-US</dc:language>
  <cp:lastModifiedBy>Notebook</cp:lastModifiedBy>
  <dcterms:modified xsi:type="dcterms:W3CDTF">2009-09-21T20:39:53Z</dcterms:modified>
  <cp:revision>31</cp:revision>
  <dc:subject/>
  <dc:title>Para que Ensino da História e Cultura Afro Brasileira</dc:title>
</cp:coreProperties>
</file>