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Richard%20Clayderman-Outra%20vez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D6D-804C-4B52-B383-DD51A57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A31-DF71-4DCB-A237-80C987C4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9A3-7B70-48B0-8100-0CF254C5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397-48D0-48B4-A1A9-A9ED718E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88B-5B68-49C1-9F3C-B47650D9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DEC-E5BC-4438-9E7A-346AE3C2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3F3-4554-4A07-A7E7-1860AB0E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398-F140-43CD-B833-2DAD3E6F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398-46AA-45DD-B3A6-2245B8D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69B-7519-4451-9696-7E85960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2B0-926D-47E9-B5EC-1E52FDA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87-E0A5-464A-AD27-7ABC84D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4AE-1416-493A-AD2F-A6BFF2732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chard%20Clayderman-Outra%20vez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12"/>
          <p:cNvPicPr/>
          <p:nvPr/>
        </p:nvPicPr>
        <p:blipFill>
          <a:blip r:embed="rId1"/>
          <a:stretch/>
        </p:blipFill>
        <p:spPr>
          <a:xfrm>
            <a:off x="2340000" y="98100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Narrow"/>
              </a:rPr>
              <a:t>Mario Benedet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11280" y="436572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que pensa e medita  internamente.  De gente que valoriza seus semelhantes, não por um estereótipo social, nem como se apresent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 gente que não julga, nem deixa que outros julgu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a de gente que tem persona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image010101011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11280" y="4724280"/>
            <a:ext cx="7993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Me encanta gente que é capaz de entender que o maior erro do ser humano é tentar arrancar da cabeça aquilo que não sai do cor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mage011111112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4653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sensibilidade, a coragem, a solidariedade, a bondade, o respeito, a tranqüilidade, os valores, a alegria, a humildade, a fé, a felicidade, o tato, a confiança, a esperança, o agradecimento, a sabedoria, os sonhos, o arrependimento, e o amor para com os demais e consigo próprio são coisas fundamentais para se chamar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image012121213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458136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 gente como essa, me comprometo, para o que seja, pelo resto de minha vida... já que, por tê-los junto de mim, me dou por bem retribuí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BRIGADO POR SER PARTE DESSA GE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image013131314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11280" y="54936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ganhar sem saber pe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andar sem saber c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acertar sem saber er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ssível viver sem saber rev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glória não consiste em não cair nunca, mas em     levantar-se todas as vezes que seja necess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 ISSO É ALGO QUE MUITO POUCA GENTE TEM O PRIVILEGIO DE PODER EXPERIME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m aventurados aqueles que já conseguiram receber com a mesma naturalidade o ganhar e o perder, o acerto e o erro, o triunfo e a derro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87280" y="27813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R FAVOR, REENVIE ESSA MENSAGEM SOMENTE PARA GENTE QUE MEREÇA CHAMAR-SE 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9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Narrow"/>
              </a:rPr>
              <a:t>DA GENTE QUE EU GOS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  <p:sndAc>
      <p:stSnd>
        <p:snd r:embed="rId1" name="Richard%20Clayderman-Outra%20vez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11280" y="43657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que vibra, que não tem de ser empurrada, que não se tem de dizer que faça as coisas, mas que sabe o que tem que fazer e que faz. Gente que cultiva seus sonhos até que esses sonhos se apoderam de sua própria rea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image003334"/>
          <p:cNvPicPr/>
          <p:nvPr/>
        </p:nvPicPr>
        <p:blipFill>
          <a:blip r:embed="rId1"/>
          <a:stretch/>
        </p:blipFill>
        <p:spPr>
          <a:xfrm>
            <a:off x="2843280" y="1700280"/>
            <a:ext cx="35290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age001112"/>
          <p:cNvPicPr/>
          <p:nvPr/>
        </p:nvPicPr>
        <p:blipFill>
          <a:blip r:embed="rId2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4508640"/>
            <a:ext cx="799308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com capacidade para assumir as conseqüências de suas ações, de gente que arrisca o certo pelo incerto para ir atrás de um sonho, que se permite, abandona os conselhos sensatos deixando as soluções nas mãos de D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image003334"/>
          <p:cNvPicPr/>
          <p:nvPr/>
        </p:nvPicPr>
        <p:blipFill>
          <a:blip r:embed="rId1"/>
          <a:stretch/>
        </p:blipFill>
        <p:spPr>
          <a:xfrm>
            <a:off x="2843280" y="1700280"/>
            <a:ext cx="3529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4437000"/>
            <a:ext cx="799308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Gosto de gente que é justa com sua gente e consigo mesma, da gente que agradece o novo dia, as coisas boas que existem em sua vida, que vive cada hora com bom animo dando o melhor de si, agradecido de estar vivo, de poder distribuir sorrisos, de oferecer suas mãos e ajudar generosamente sem esperar nada em troca.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image004445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99910"/>
          <p:cNvPicPr/>
          <p:nvPr/>
        </p:nvPicPr>
        <p:blipFill>
          <a:blip r:embed="rId2"/>
          <a:stretch/>
        </p:blipFill>
        <p:spPr>
          <a:xfrm>
            <a:off x="2843280" y="167796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439272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u gosto de gente capaz de me criticar construtivamente e de frente, mas sem me lastimar ou me ferir. De gente que tem t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que possui sentido de justi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estes chamo de me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image005556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95280" y="4653000"/>
            <a:ext cx="87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osto de  gente que sabe a importância da alegria e a pra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por meio de piadas nos ensina a conceber a vida com hum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nunca deixa de ser animada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Gosto de gente que nos contagia com sua energ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age007778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0040" y="47242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sincera e franca, capaz de se opor com argumentos razoáveis a qualquer dec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osto de gente fiel e persistente, que não descansa quando se trata de alcançar objetivos e idé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image008889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422100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Me encanta gente de critério, que não se envergonha em reconhecer que se equivocou ou que não sabe al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, ao aceitar seus erros, se esforça  genuinamente por não voltar a  cometê-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De gente que luta contra adversidades. Gosto de gente que busca sol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71640" y="1628640"/>
            <a:ext cx="3672000" cy="2592360"/>
          </a:xfrm>
          <a:prstGeom prst="rect">
            <a:avLst/>
          </a:prstGeom>
          <a:solidFill>
            <a:srgbClr val="000000">
              <a:alpha val="90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mage0099910"/>
          <p:cNvPicPr/>
          <p:nvPr/>
        </p:nvPicPr>
        <p:blipFill>
          <a:blip r:embed="rId1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004445"/>
          <p:cNvPicPr/>
          <p:nvPr/>
        </p:nvPicPr>
        <p:blipFill>
          <a:blip r:embed="rId2"/>
          <a:stretch/>
        </p:blipFill>
        <p:spPr>
          <a:xfrm>
            <a:off x="2843280" y="1700280"/>
            <a:ext cx="3556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8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5:29:14Z</dcterms:created>
  <dc:creator>lucas marsoto</dc:creator>
  <dc:description>Por favor, não retire os créditos.
Para se tornar um associado envie uma mensagem para:
tempo_de_germinar-subscribe@yahoogrupos.com.br</dc:description>
  <dc:language>en-US</dc:language>
  <cp:lastModifiedBy>Lúcia Brandão</cp:lastModifiedBy>
  <dcterms:modified xsi:type="dcterms:W3CDTF">2009-09-10T19:40:57Z</dcterms:modified>
  <cp:revision>38</cp:revision>
  <dc:subject/>
  <dc:title>mario benedetti</dc:title>
</cp:coreProperties>
</file>