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THAIR%20AR%20NEAM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EA0-E6A5-4851-AFB2-5F9B23C0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1C9-D518-470A-A28B-E2A28F56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595-7405-4139-9124-E8F17AE0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BB8-F41F-4ED3-87CE-31E0036E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B98-239F-4325-B2F7-2D0B5B5C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5B2-AA49-468F-A64A-CAE5F68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D33-BEBA-4F13-B0C2-8A1C8C85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00E-6820-40BE-93D5-7FE35A99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3F4-F2D0-4CFB-A5E0-6730F8C5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E62-E9D1-4186-B1C1-7AB594FB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44E-710F-4335-926E-1AC2C74F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3F0-0A1E-40F3-8A7C-9C17BC6B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B0AB-38A1-4914-8735-D4331B0262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THAIR%20AR%20NEAM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187280" y="1125360"/>
            <a:ext cx="705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ffff"/>
                </a:solidFill>
                <a:latin typeface="Times New Roman"/>
              </a:rPr>
              <a:t>HERANÇA DO DEPUTADO CLODOVI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700360" y="50133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ffff"/>
                </a:solidFill>
                <a:latin typeface="Times New Roman"/>
              </a:rPr>
              <a:t>Ligue o s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9"/>
          <p:cNvSpPr/>
          <p:nvPr/>
        </p:nvSpPr>
        <p:spPr>
          <a:xfrm>
            <a:off x="900000" y="9810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826920" y="371628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1" name="ATHAIR%20AR%20NEAM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609480"/>
            <a:ext cx="942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Daria para multiplicar                                               a verba hospitalar atual                                               por habitante por mais </a:t>
            </a:r>
            <a:br>
              <a:rPr sz="4000"/>
            </a:b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de 26 vezes!!!!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Além disso, teremos menos chance de corrupção, menos políticos para controlar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184464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Divulguem, se concordarem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Quem sabe a maior obra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Clodovil não será póstum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1125360"/>
            <a:ext cx="8572680" cy="508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Clodovil era uma figura inegavelmente polêmica.</a:t>
            </a:r>
            <a:br>
              <a:rPr sz="4000"/>
            </a:b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Mas tinha idéias e coragem,                    além das suas contradições,                   tão humanas. </a:t>
            </a:r>
            <a:br>
              <a:rPr sz="4000"/>
            </a:b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Inteligente, com um senso crítico aguçado, ele dizia o que os outros apenas pensavam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28760" y="404640"/>
            <a:ext cx="90010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Em Julho de 2008, o deputado                     Clodovil Hernandes apresentou                          à Mesa da Câmara proposta de emenda à Constituição (PEC) para reduzir o número de deputados de 513 para 250.                            O projeto teve o apoio de 279 parlamentares (eram necessários 172 votos para que fosse apresentado).                                Não passou, por interesses óbvios.                   De novo é o gato tomando conta do peix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428760"/>
            <a:ext cx="9429840" cy="72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Pelo projeto, nenhuma Unidade da Federação poderá ter menos de                       4 deputados nem mais de 35.                  Hoje, a menor representação tem 8 e a maior, 70.                                                               Se a PEC passar, haverá corte de 263 deputados e redução de gastos, só em despesas com os parlamentares,               de R$ 26,3 milhões por mês.                            </a:t>
            </a:r>
            <a:r>
              <a:rPr b="0" lang="pt-BR" sz="2800" spc="-1" strike="noStrike">
                <a:solidFill>
                  <a:srgbClr val="ccffff"/>
                </a:solidFill>
                <a:latin typeface="Times New Roman"/>
              </a:rPr>
              <a:t>As informações são do jornal O Estado de S. Paulo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214308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ffff"/>
                </a:solidFill>
                <a:latin typeface="Times New Roman"/>
              </a:rPr>
              <a:t>Vamos divulgar e apoiar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ffff"/>
                </a:solidFill>
                <a:latin typeface="Times New Roman"/>
              </a:rPr>
              <a:t>A idéia é ótima!!!!</a:t>
            </a:r>
            <a:br>
              <a:rPr sz="5400"/>
            </a:br>
            <a:r>
              <a:rPr b="0" i="1" lang="pt-BR" sz="5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714240"/>
            <a:ext cx="942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Fui pesquisar o custo de cada parlamentar brasileiro,                                     de acordo com a ONG Transparência Brasil o custo de cada deputado é de                R$ 6,6 milhões por ano!                                       E o custo de cada senador é de</a:t>
            </a:r>
            <a:br>
              <a:rPr sz="4000"/>
            </a:b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R$ 33,1 milhões por ano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500040"/>
            <a:ext cx="8497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Se a emenda Clodovil passasse, reduzindo pela metade o número                 de parlamentares, e supondo que</a:t>
            </a:r>
            <a:br>
              <a:rPr sz="4000"/>
            </a:br>
            <a:r>
              <a:rPr b="0" lang="pt-BR" sz="4000" spc="-1" strike="noStrike">
                <a:solidFill>
                  <a:srgbClr val="ccffff"/>
                </a:solidFill>
                <a:latin typeface="Times New Roman"/>
              </a:rPr>
              <a:t>isso pudesse ser feito tanto na Câmara quanto no Senado,         teríamos uma economia de aproximadamente                                          R$ 3,1 BILHÃO DE REAIS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-612720" y="2133720"/>
            <a:ext cx="95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Times New Roman"/>
              </a:rPr>
              <a:t>Isso dá mais ou menos                                    R$ 17,00 por habitant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-214200" y="785880"/>
            <a:ext cx="9358200" cy="71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ff"/>
                </a:solidFill>
                <a:latin typeface="Times New Roman"/>
              </a:rPr>
              <a:t>Já que o gasto público com saúde                                      é de R$ 0,64 por habitante,                                       veja o que a economia com os</a:t>
            </a:r>
            <a:br>
              <a:rPr sz="3200"/>
            </a:br>
            <a:r>
              <a:rPr b="0" lang="pt-BR" sz="3200" spc="-1" strike="noStrike">
                <a:solidFill>
                  <a:srgbClr val="ccffff"/>
                </a:solidFill>
                <a:latin typeface="Times New Roman"/>
              </a:rPr>
              <a:t>parlamentares pode proporcionar!!!                                               (No Brasil, segundo o sindicato dos hospitais de Pernambuco Sindhospe),                                                              "para um gasto total de U$ 600 per capita/ano                      (em saúde), apenas US$ 300 vêm do setor público. Destes, apenas U$ 150 são investimento federal, ou seja, U$ 0,40 por cidadão brasileiro").</a:t>
            </a:r>
            <a:br>
              <a:rPr sz="3200"/>
            </a:br>
            <a:br>
              <a:rPr sz="28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2:42:30Z</dcterms:created>
  <dc:creator>Usuario</dc:creator>
  <dc:description/>
  <dc:language>en-US</dc:language>
  <cp:lastModifiedBy>Usuario</cp:lastModifiedBy>
  <dcterms:modified xsi:type="dcterms:W3CDTF">2009-04-21T23:11:03Z</dcterms:modified>
  <cp:revision>5</cp:revision>
  <dc:subject/>
  <dc:title>Slide 1</dc:title>
</cp:coreProperties>
</file>