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F24F-1FD1-45CD-84E9-EEBD5C93E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40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F578-4FED-4BE7-A013-B26999AA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4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4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43E7-6DF3-4A0A-846A-032DEE30E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40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40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40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8829-CF0B-46C5-8441-7580B107F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3424-4D0B-40D0-8A26-4614AB335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F9D8-1A66-4181-B6AF-45C533B3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EF6D-536E-4AAC-AB2C-BA059C91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A08C-2E98-4D9E-A0D7-8E7797E0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655E-29EF-4946-A7C7-C34F20C3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81B2-64DE-4B7B-A010-3202A07C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4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A50B0-E68D-4E5A-9D58-6A33E765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6000-7736-4A88-9ED7-3EBC5A46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4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F934-0B18-4073-B342-458967A9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40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459E-1DB0-4B73-BE4C-B88E373F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40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ABFE-EB80-4932-9C06-C32EE284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4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4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E211-A7A8-40C8-9625-072B1CC8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40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40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40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4CCE-8EB5-4A95-B723-DB8094346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BF27-BD8C-4649-8DF9-7C80E179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EBED-ACA5-4651-A7BA-A432D9C1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421B-97F5-4ADD-84D7-081EA083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C9A1-F6AB-415D-BCB0-1133B8EC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4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DE61-45C2-436D-8C2B-45E615BF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4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DB69-B02F-42A2-9DC5-8E1C4FB6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40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B443-2FDF-4252-99B5-F5BC2777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C:\Users\malves\AppData\Local\Microsoft\Windows\Temporary Internet Files\Content.IE5\QMPKWOLA\MPj04331930000[1].jp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932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8088-F678-47F1-84ED-626EF65CE51C}" type="slidenum">
              <a:rPr b="0" lang="en-US" sz="12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3" descr="C:\Users\malves\AppData\Local\Microsoft\Windows\Temporary Internet Files\Content.IE5\QMPKWOLA\MPj04331930000[1].jp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932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5406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540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E0F7-D2CA-4AB1-8DB3-42D06468F7D4}" type="slidenum">
              <a:rPr b="0" lang="en-US" sz="1200" spc="-1" strike="noStrike">
                <a:solidFill>
                  <a:srgbClr val="2540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ítulo 1"/>
          <p:cNvSpPr/>
          <p:nvPr/>
        </p:nvSpPr>
        <p:spPr>
          <a:xfrm>
            <a:off x="0" y="1981080"/>
            <a:ext cx="9144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7375e"/>
                </a:solidFill>
                <a:latin typeface="Calibri"/>
              </a:rPr>
              <a:t>                        </a:t>
            </a:r>
            <a:r>
              <a:rPr b="1" i="1" lang="en-US" sz="2800" spc="-1" strike="noStrike">
                <a:solidFill>
                  <a:srgbClr val="17375e"/>
                </a:solidFill>
                <a:latin typeface="Calibri"/>
              </a:rPr>
              <a:t>C O N V I T E</a:t>
            </a:r>
            <a:br>
              <a:rPr sz="4400"/>
            </a:br>
            <a:r>
              <a:rPr b="0" lang="en-US" sz="2400" spc="-1" strike="noStrike">
                <a:solidFill>
                  <a:srgbClr val="17375e"/>
                </a:solidFill>
                <a:latin typeface="Calibri"/>
              </a:rPr>
              <a:t>Caros amigos e amiga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17375e"/>
                </a:solidFill>
                <a:latin typeface="Calibri"/>
              </a:rPr>
              <a:t>      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17375e"/>
                </a:solidFill>
                <a:latin typeface="Calibri"/>
              </a:rPr>
              <a:t>                </a:t>
            </a:r>
            <a:br>
              <a:rPr sz="2400"/>
            </a:br>
            <a:r>
              <a:rPr b="0" lang="en-US" sz="2400" spc="-1" strike="noStrike">
                <a:solidFill>
                  <a:srgbClr val="17375e"/>
                </a:solidFill>
                <a:latin typeface="Calibri"/>
              </a:rPr>
              <a:t>                                  </a:t>
            </a:r>
            <a:br>
              <a:rPr sz="2400"/>
            </a:br>
            <a:br>
              <a:rPr sz="2400"/>
            </a:br>
            <a:r>
              <a:rPr b="0" i="1" lang="en-US" sz="2800" spc="-1" strike="noStrike">
                <a:solidFill>
                  <a:srgbClr val="17375e"/>
                </a:solidFill>
                <a:latin typeface="Calibri"/>
              </a:rPr>
              <a:t>                                          </a:t>
            </a:r>
            <a:r>
              <a:rPr b="1" i="1" lang="en-US" sz="2800" spc="-1" strike="noStrike" u="sng">
                <a:solidFill>
                  <a:srgbClr val="17375e"/>
                </a:solidFill>
                <a:uFillTx/>
                <a:latin typeface="Bradley Hand ITC"/>
              </a:rPr>
              <a:t>CONVITE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17375e"/>
                </a:solidFill>
                <a:latin typeface="Calibri"/>
              </a:rPr>
              <a:t>Caros amigos e amigas,</a:t>
            </a:r>
            <a:br>
              <a:rPr sz="2400"/>
            </a:br>
            <a:r>
              <a:rPr b="0" lang="en-US" sz="2400" spc="-1" strike="noStrike">
                <a:solidFill>
                  <a:srgbClr val="17375e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Através deste viemos convidá-los para participar das reuniões de preparação na Bahia de um evento inédito:O Fórum Social Mundial Temático,que sob o tema DIÁLOGO,DIVERSIDADE CULTURAL E CRISE CIVILIZATÓRIA,se realizará em Salvador nos dias 29,30 e 31 de janeiro de 2010.</a:t>
            </a:r>
            <a:br>
              <a:rPr sz="1800"/>
            </a:b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       Na próxima semana serão realizados dois eventos a saber:</a:t>
            </a:r>
            <a:br>
              <a:rPr sz="1800"/>
            </a:b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      </a:t>
            </a:r>
            <a:br>
              <a:rPr sz="1800"/>
            </a:b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       14/10(quarta-feira)-serão realizadas as reuniões dos GTs de:cultura,finanças,aglutinação e mobilização/comunicação.Seguidas de uma atividade didática sobre os espaços temáticos.LOCAL:COLÉGIO CENTRAL DA BAHIA.</a:t>
            </a:r>
            <a:br>
              <a:rPr sz="1800"/>
            </a:b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       17/10(sábado) das 9h00 às 12h00 serão realizadas as reuniões da</a:t>
            </a:r>
            <a:br>
              <a:rPr sz="1800"/>
            </a:b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juventude,mulheres,religião de matriz africana,povos originários,entre outras que organizarão os acampamentos do fórum.</a:t>
            </a:r>
            <a:br>
              <a:rPr sz="1800"/>
            </a:b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       Das 14 às 17h00será realizada a plenária geral para aprovar as resoluções da manhã e decidirmos sobre os espaços temáticos constantes do FSMT.</a:t>
            </a:r>
            <a:br>
              <a:rPr sz="1800"/>
            </a:br>
            <a:r>
              <a:rPr b="0" lang="en-US" sz="2400" spc="-1" strike="noStrike">
                <a:solidFill>
                  <a:srgbClr val="17375e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LOCAL:SINDICATO DOS BANCÁRIOS,Av. Sete 1001(Mercês)</a:t>
            </a:r>
            <a:br>
              <a:rPr sz="2000"/>
            </a:br>
            <a:br>
              <a:rPr sz="2000"/>
            </a:br>
            <a:r>
              <a:rPr b="0" lang="en-US" sz="2400" spc="-1" strike="noStrike">
                <a:solidFill>
                  <a:srgbClr val="17375e"/>
                </a:solidFill>
                <a:latin typeface="Calibri"/>
              </a:rPr>
              <a:t>                               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Contamos com a sua presença.</a:t>
            </a:r>
            <a:br>
              <a:rPr sz="2000"/>
            </a:b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A Coordenação de Facilitação do Fórum Social Mundial Temático - Bahia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2T02:25:26Z</dcterms:created>
  <dc:creator>IOLANDA</dc:creator>
  <dc:description/>
  <dc:language>en-US</dc:language>
  <cp:lastModifiedBy>IOLANDA</cp:lastModifiedBy>
  <dcterms:modified xsi:type="dcterms:W3CDTF">2009-10-13T14:35:26Z</dcterms:modified>
  <cp:revision>5</cp:revision>
  <dc:subject/>
  <dc:title>                       C O N V I T E Caros amigos e amigas          Através deste viemos convidá-los para participar das reuniões de preparação na Bahia de um evento inédito:O Fórum Social Mundial Temático,que sob o tema DIÁLOGO,DIVERSIDADE CULTURAL E CRISE CIVILIZATÓRIA,se realizará em Salvador nos dias 29,30 e 31 de janeiro de 2010.        Na próxima semana serão realizados dois eventos a saber:                14/10(quarta-feira)-serão realizadas as reuniões dos GTs de:cultura,finanças,aglutinação e mobilização/comunicação.Seguidas de uma atividade didática sobre os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67751046</vt:lpwstr>
  </property>
</Properties>
</file>