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C36-87B2-4C3A-A83C-3A8E1440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EE5-07D3-42F9-AED9-BBF846B6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C29-6B11-46BA-874C-10EEF081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71B-B87A-4BDC-B05D-901D1751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6DFE-4A0D-4ED0-9926-6CA44F21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EC65-0B27-4E06-AB4E-E1568346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637E-875D-4D3F-BCB8-FBCAB02B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69D8-054D-46F2-B87F-3BE8705E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764C-D24E-4B4B-8BA2-83C6B829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DBBA-3105-4C44-B2D0-364C33AD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CC89-8591-4743-A2B9-6D3413D9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B30-4EFB-4FE6-B362-3C05A74E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984E-32E5-482B-8800-922B2513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397E-9034-4E2C-A1AF-560910DB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4066-25B0-414F-B6FB-94F151C8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2487-A898-407A-BD18-12E59FA2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32BF-BA6A-4B7E-A97C-22B1F547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82A-7DDC-44A3-8613-B03D7195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479-3DE8-475F-937E-2FA3A92B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222-B8E3-4A1C-9C70-831A2204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510-DFF2-40B3-AB87-19D5D56C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6DF-18E0-44A4-BB1C-B205F7CB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B9B7-37E9-4B89-AA3A-F930697C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D38-F6FA-4BDE-BC74-C9479896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C:\Users\malves\AppData\Local\Microsoft\Windows\Temporary Internet Files\Content.IE5\QMPKWOLA\MPj04331930000[1]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B4E3-BF88-4641-815C-8E99C98BF068}" type="slidenum">
              <a:rPr b="0" lang="en-US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C:\Users\malves\AppData\Local\Microsoft\Windows\Temporary Internet Files\Content.IE5\QMPKWOLA\MPj04331930000[1]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540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540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4917-904A-422C-8A54-269B4D9F61BD}" type="slidenum">
              <a:rPr b="0" lang="en-US" sz="1200" spc="-1" strike="noStrike">
                <a:solidFill>
                  <a:srgbClr val="2540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375e"/>
                </a:solidFill>
                <a:latin typeface="Calibri"/>
              </a:rPr>
              <a:t>                        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C O N V I T E</a:t>
            </a:r>
            <a:br>
              <a:rPr sz="28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Caros amigos e amig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  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               </a:t>
            </a:r>
            <a:br>
              <a:rPr sz="24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                                 </a:t>
            </a:r>
            <a:br>
              <a:rPr sz="2400"/>
            </a:br>
            <a:br>
              <a:rPr sz="2400"/>
            </a:br>
            <a:r>
              <a:rPr b="0" i="1" lang="en-US" sz="2800" spc="-1" strike="noStrike">
                <a:solidFill>
                  <a:srgbClr val="17375e"/>
                </a:solidFill>
                <a:latin typeface="Calibri"/>
              </a:rPr>
              <a:t>                                          </a:t>
            </a:r>
            <a:r>
              <a:rPr b="1" i="1" lang="en-US" sz="2800" spc="-1" strike="noStrike" u="sng">
                <a:solidFill>
                  <a:srgbClr val="17375e"/>
                </a:solidFill>
                <a:uFillTx/>
                <a:latin typeface="Bradley Hand ITC"/>
              </a:rPr>
              <a:t>CONVITE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Caros amigos e amigas,</a:t>
            </a:r>
            <a:br>
              <a:rPr sz="24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Através deste viemos convidá-los para participar das reuniões de preparação na Bahia de um evento inédito:O Fórum Social Mundial Temático,que sob o tema DIÁLOGO,DIVERSIDADE CULTURAL E CRISE CIVILIZATÓRIA,se realizará em Salvador nos dias 29,30 e 31 de janeiro de 2010.</a:t>
            </a:r>
            <a:br>
              <a:rPr sz="1800"/>
            </a:b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       Na próxima semana serão realizados dois eventos a saber:</a:t>
            </a:r>
            <a:br>
              <a:rPr sz="1800"/>
            </a:b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      </a:t>
            </a:r>
            <a:br>
              <a:rPr sz="1800"/>
            </a:b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       14/10(quarta-feira)-serão realizadas as reuniões dos GTs de:cultura,finanças,aglutinação e mobilização/comunicação.Seguidas de uma atividade didática sobre os espaços temáticos.LOCAL:COLÉGIO CENTRAL DA BAHIA.</a:t>
            </a:r>
            <a:br>
              <a:rPr sz="1800"/>
            </a:b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       17/10(sábado) das 9h00 às 12h00 serão realizadas as reuniões da</a:t>
            </a:r>
            <a:br>
              <a:rPr sz="1800"/>
            </a:b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uventude,mulheres,religião de matriz africana,povos originários,entre outras que organizarão os acampamentos do fórum.</a:t>
            </a:r>
            <a:br>
              <a:rPr sz="1800"/>
            </a:b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       Das 14 às 17hoo será realizada a plenária geral para aprovar as resoluções da manhã e decidirmos sobre os espaços temáticos constantes do FSMT.</a:t>
            </a:r>
            <a:br>
              <a:rPr sz="18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LOCAL:SINDICATO DOS BANCÁRIOS,Av. Sete 1001(Mercês)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                             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ntamos com a sua presença.</a:t>
            </a:r>
            <a:br>
              <a:rPr sz="2000"/>
            </a:b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A Coordenação de Facilitação do Fórum Social Mundial Temático - Bahia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02:25:26Z</dcterms:created>
  <dc:creator>IOLANDA</dc:creator>
  <dc:description/>
  <dc:language>en-US</dc:language>
  <cp:lastModifiedBy>IOLANDA</cp:lastModifiedBy>
  <dcterms:modified xsi:type="dcterms:W3CDTF">2009-10-12T03:05:36Z</dcterms:modified>
  <cp:revision>3</cp:revision>
  <dc:subject/>
  <dc:title>                       C O N V I T E Caros amigos e amigas          Através deste viemos convidá-los para participar das reuniões de preparação na Bahia de um evento inédito:O Fórum Social Mundial Temático,que sob o tema DIÁLOGO,DIVERSIDADE CULTURAL E CRISE CIVILIZATÓRIA,se realizará em Salvador nos dias 29,30 e 31 de janeiro de 2010.        Na próxima semana serão realizados dois eventos a saber:                14/10(quarta-feira)-serão realizadas as reuniões dos GTs de:cultura,finanças,aglutinação e mobilização/comunicação.Seguidas de uma atividade didática sobre os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7751046</vt:lpwstr>
  </property>
</Properties>
</file>