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A9D-A011-4555-B087-565FA336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F76-7B8A-4C92-A70F-9C836177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CB0-6472-46E0-8A69-443EBCB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2A7-9DF6-4F03-B6B9-7A6AB9FA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792-065C-4D28-9E58-A086EA1B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605-0C07-4597-AB17-0FC8690A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DED-21CA-4592-9CFA-993F82B5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C2A-3407-4877-BF30-0FF19AB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72A-65B1-415D-82C4-DCBB2A6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8E-EADA-4631-B8A4-90B98B8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67B-1085-4450-ACEE-1807D29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1C9-10AE-4A5F-93D9-D9E947D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0E49-7909-48C9-B086-961D6D1508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057400"/>
            <a:ext cx="799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taccato222 BT"/>
              </a:rPr>
              <a:t>Perfeição existe e tem um nome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_08_06_c27" descr=""/>
          <p:cNvPicPr/>
          <p:nvPr/>
        </p:nvPicPr>
        <p:blipFill>
          <a:blip r:embed="rId1"/>
          <a:stretch/>
        </p:blipFill>
        <p:spPr>
          <a:xfrm>
            <a:off x="2333520" y="85680"/>
            <a:ext cx="447696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_09_06_c34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0_10_03_c52" descr=""/>
          <p:cNvPicPr/>
          <p:nvPr/>
        </p:nvPicPr>
        <p:blipFill>
          <a:blip r:embed="rId1"/>
          <a:stretch/>
        </p:blipFill>
        <p:spPr>
          <a:xfrm>
            <a:off x="2333520" y="85680"/>
            <a:ext cx="447696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_10_06_c34" descr=""/>
          <p:cNvPicPr/>
          <p:nvPr/>
        </p:nvPicPr>
        <p:blipFill>
          <a:blip r:embed="rId1"/>
          <a:stretch/>
        </p:blipFill>
        <p:spPr>
          <a:xfrm>
            <a:off x="2333520" y="85680"/>
            <a:ext cx="447696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0_11_03_c377" descr="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0_04_02_c97" descr=""/>
          <p:cNvPicPr/>
          <p:nvPr/>
        </p:nvPicPr>
        <p:blipFill>
          <a:blip r:embed="rId1"/>
          <a:stretch/>
        </p:blipFill>
        <p:spPr>
          <a:xfrm>
            <a:off x="228600" y="455760"/>
            <a:ext cx="8763120" cy="587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6000" y="0"/>
            <a:ext cx="473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taccato222 BT"/>
              </a:rPr>
              <a:t>Angela Barr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_03_02_c355" descr=""/>
          <p:cNvPicPr/>
          <p:nvPr/>
        </p:nvPicPr>
        <p:blipFill>
          <a:blip r:embed="rId1"/>
          <a:stretch/>
        </p:blipFill>
        <p:spPr>
          <a:xfrm>
            <a:off x="2333520" y="85680"/>
            <a:ext cx="447696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_03_05_c290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_04_04_c101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_04_08_c32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_05_01_c31" descr=""/>
          <p:cNvPicPr/>
          <p:nvPr/>
        </p:nvPicPr>
        <p:blipFill>
          <a:blip r:embed="rId1"/>
          <a:stretch/>
        </p:blipFill>
        <p:spPr>
          <a:xfrm>
            <a:off x="2333520" y="85680"/>
            <a:ext cx="447696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_05_02_c24" descr=""/>
          <p:cNvPicPr/>
          <p:nvPr/>
        </p:nvPicPr>
        <p:blipFill>
          <a:blip r:embed="rId1"/>
          <a:stretch/>
        </p:blipFill>
        <p:spPr>
          <a:xfrm>
            <a:off x="1143000" y="1131840"/>
            <a:ext cx="6858000" cy="4594320"/>
          </a:xfrm>
          <a:prstGeom prst="rect">
            <a:avLst/>
          </a:prstGeom>
          <a:ln w="0">
            <a:noFill/>
          </a:ln>
        </p:spPr>
      </p:pic>
      <p:pic>
        <p:nvPicPr>
          <p:cNvPr id="50" name="00_05_03_c45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_05_08_c471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6:38:54Z</dcterms:created>
  <dc:creator/>
  <dc:description/>
  <dc:language>en-US</dc:language>
  <cp:lastModifiedBy>Chico</cp:lastModifiedBy>
  <dcterms:modified xsi:type="dcterms:W3CDTF">2004-06-10T21:00:08Z</dcterms:modified>
  <cp:revision>5</cp:revision>
  <dc:subject/>
  <dc:title>Angela Barros</dc:title>
</cp:coreProperties>
</file>