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1CD-AA8F-4047-8FDE-3CEE1AB1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18F-30EA-4AF4-B90B-1D314D1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0D1-F8C4-4F65-9B89-4DA93508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1CC-BF21-41E2-B457-F57D993C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43D-D890-4B1D-954A-D960FEA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D32-5CDB-44FB-AF96-81003F2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1BC-4490-469F-B029-8D38AD02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70B-0CE3-429E-8285-879D208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1D7-FC9E-43B3-A148-CF6F8B5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9DC-B08B-4DB8-9A83-BAE4CFA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C27-24D6-4589-8912-1B3DA22F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A8B-7A54-4181-BFA3-97C656D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4F1-3E6E-488E-A794-307F0CB356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57080" y="-125280"/>
            <a:ext cx="10513800" cy="70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66720" y="-500040"/>
            <a:ext cx="1047744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612720" y="7920"/>
            <a:ext cx="10656720" cy="70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612720" y="7920"/>
            <a:ext cx="1058544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81080" y="-54000"/>
            <a:ext cx="9937800" cy="72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12720" y="-28440"/>
            <a:ext cx="106567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81080" y="-54000"/>
            <a:ext cx="1000944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332000" y="0"/>
            <a:ext cx="1119672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246240"/>
            <a:ext cx="10656720" cy="71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116000" y="-171360"/>
            <a:ext cx="11410920" cy="76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541440" y="-171360"/>
            <a:ext cx="10945800" cy="73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11430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00000" y="-819000"/>
            <a:ext cx="13334760" cy="88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900000" y="-19080"/>
            <a:ext cx="106567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65672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86000" y="0"/>
            <a:ext cx="11430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612720" y="-603360"/>
            <a:ext cx="1047744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66720" y="-500040"/>
            <a:ext cx="1047744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666720" y="-938160"/>
            <a:ext cx="10477440" cy="87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81080" y="-531720"/>
            <a:ext cx="1047744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2:01:40Z</dcterms:created>
  <dc:creator>User</dc:creator>
  <dc:description/>
  <dc:language>en-US</dc:language>
  <cp:lastModifiedBy>Nelson</cp:lastModifiedBy>
  <dcterms:modified xsi:type="dcterms:W3CDTF">2013-04-04T01:34:46Z</dcterms:modified>
  <cp:revision>6</cp:revision>
  <dc:subject/>
  <dc:title>Slide 1</dc:title>
</cp:coreProperties>
</file>