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739-087C-4669-A6EB-1B12E997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5E2-0738-4B5E-BD20-EFD5841D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A40-22E9-4A91-8848-22716EE6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A67-0775-4640-A60B-112D9752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A19-B1F4-4B41-8B75-85507C21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135-7B84-493B-A3DA-1507D9A3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814-7369-492F-A34A-B0BE3BA1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8D1-C8C2-4212-92DC-D0C164EC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1FA-A7D3-4A66-B390-3016CB44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99C-7E8E-477E-9D09-EF4801BE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38C-7EC2-4AE5-8625-E0A5FC37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090-DC67-4956-A7C2-DC11F5DB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70DE-CADE-4347-A758-8892C5E53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VanessaRibeiro00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VanessaRibeiro01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VanessaRibeiro01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VanessaRibeiro01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VanessaRibeiro01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VanessaRibeiro01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VanessaRibeiro01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VanessaRibeiro01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VanessaRibeiro00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VanessaRibeiro00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VanessaRibeiro00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anessaRibeiro00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VanessaRibeiro00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VanessaRibeiro00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VanessaRibeiro009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VanessaRibeiro010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7:51:38Z</dcterms:created>
  <dc:creator>CORREIOS</dc:creator>
  <dc:description/>
  <dc:language>en-US</dc:language>
  <cp:lastModifiedBy>CORREIOS</cp:lastModifiedBy>
  <dcterms:modified xsi:type="dcterms:W3CDTF">2004-05-03T18:04:12Z</dcterms:modified>
  <cp:revision>1</cp:revision>
  <dc:subject/>
  <dc:title>Slide sem título </dc:title>
</cp:coreProperties>
</file>