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156D-A759-4497-BE32-DFEB6F9D9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D1F0-F283-40F0-B15F-BDF14539C39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4A49-012E-44FF-B33D-C04F3A59884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2558-3D0E-4F71-AA41-4EDE37502B6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303D-FE3C-4CF0-A564-78E44FEC69E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88DD-0059-4168-9974-2E94887AB7F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059B-FCB9-4B83-B843-7FE608DA76A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B23E-4A6D-4091-A378-B06C38C560F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C7E0-D4BE-47B3-AE53-4671007092D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C2FA-DFD6-4857-A0AD-8DEBED0EAC8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5AB8-D60E-4091-98DE-B82C08A2EC4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C6B-72E7-4FA3-BFC5-A270E3CF640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2850-D97A-46B6-88FB-BF11463A7E0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2E0F-F5AF-4AC8-8FC6-868C6BF9AEB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2B14-737C-4F66-AD98-E23B471506C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3F98-C06A-4BD8-9762-4FD526C8838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9EBC-ECEC-434F-B6D5-133D5BA464F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25EF-3B8E-431A-ACC5-4714B613825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BDB6-EB30-4CD1-A041-C6C66E6CCFA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D6FB-5007-4180-A238-F0D880B8F8A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F7F8-1808-4C1A-B19A-972200676EC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4F20-D173-4B96-984E-C9E93481BF5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DDAD-7EE1-41B0-AE0A-C88F1BCD7C0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D8C6-581D-4165-81F4-7326D8FFD30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77AF-BD45-4EF0-94CA-818D4AB11CE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1F6-8E55-4FC6-9AC2-B33D0064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D4A-8A56-44DC-8A4C-B0DF4A4F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57B-80EF-487A-BDC4-890761D9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B9F-6A9B-4334-9B00-C2074715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56CA-73A5-4B63-8B73-B9F756AB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B2D4-4D59-4BE9-B6E9-19ECE34A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28F8-C19F-405C-AD9B-56A80621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0687-619C-4876-B8F8-B7AD6BE8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2ECC-A397-4748-912C-84FEB36A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0A13-3CA5-47EC-BD07-0330DBD4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CD4E-C27C-4E2B-B629-3D665F2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D98-416A-4619-9C7E-64C88812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982-B0F8-4A6E-93C7-8B0934DF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C8E6-9AB7-4F19-A0FF-C990386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6E06-3B19-41A8-BE95-DE80B130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8FE9-BBE4-4342-A3F6-967234C6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0993-F860-4B9B-9307-518EBEF4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ED3A-9D82-4711-BA68-6E59C217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A4FB9-8A0C-4250-9603-730C43EB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2073-F78D-4A14-9293-45697DA7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7282-12A0-48A3-B21D-F5031B8B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3807-8F3F-4743-8E0C-B31DCCD6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E71-B340-4D27-A952-72037B3F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6C84B-A911-4717-B4F4-1038028B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8144-F36F-41FB-8622-B6A6249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C800-E1C7-44D3-972E-A3920B94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82FD-AB96-43CB-8B5C-6CA922F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BE45-6B87-44F8-887F-31FC31A9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4046-443A-4C8D-8550-E728BD77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FF43-2222-4F15-A5C8-5C7FD254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CE39-5A18-4A93-95E0-1433C128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79DF-1435-4D6C-841B-F0318F0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2402-3D4E-4800-A420-3E3FBBE8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E09-0618-4FAF-B58F-D05C7F9C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6A8E-30E4-4392-BFF1-8C4FF0F5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620C-D37B-43A7-A8FD-446EBFB5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F240-3F7A-4F5D-9A1E-79114A9F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1969C-9542-437E-875B-F655A2E9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0CBFC-6DF6-4E8D-874F-ADE9552C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DFA82-59F9-45C6-8345-DC501A20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7E47-1E17-49EE-A069-1F45EAA7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FFDF1-4488-4D15-8BBF-FAB325C2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8B189-C2A4-48F0-97DC-D5097ACA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535-1683-43D3-ACC3-806FF482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234-B6E8-4F06-A805-3B67403C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966-F8EF-49F6-BF04-822150FA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9A8-2408-4706-8421-6E075AF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3C7-FA72-4522-AD7A-73F40BD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82CF-1A78-44A5-A061-A69886B13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CD3A-1194-4893-9820-4C894CC9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3EDE-8949-44C1-B30F-739D7E56C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650960" y="9410760"/>
            <a:ext cx="11341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a9d61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7162920" y="9067680"/>
            <a:ext cx="510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fefef"/>
                </a:solidFill>
                <a:latin typeface="Verdana"/>
              </a:rPr>
              <a:t>©2011 Cengage Learning. All Rights Reserved. May not be scanned, copied or duplicated, or posted to a publicly accessible website, in whole or in part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58960" y="390240"/>
            <a:ext cx="69944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9952-FBEE-4DE0-9FE8-D148504E8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4920" y="3030480"/>
            <a:ext cx="7315200" cy="20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Management of Strateg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epts and Cases 9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435640" y="5105520"/>
            <a:ext cx="6324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III:  Strategic 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2: Strategic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ctors Affecting Managerial Discre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4673520" y="1523880"/>
            <a:ext cx="6983640" cy="74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Role of Top-Level Manag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op Management Team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Helps avoid potential problem of CEO making decisions alone: that of managerial hubri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ubris: excessive pride leading to a feeling of invincibility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ubris can magnify the effects of decision-making bias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mposed of key individuals who are responsible for selecting and implementing firm’s strategies; usually includes officers of the corporation (VP and above) and BO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Role of Top-Level Manager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20480" y="1981080"/>
            <a:ext cx="11032920" cy="67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op Management Teams: Firm performance and strategic chang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A heterogeneous team consists of individuals with varied functional backgrounds, experiences &amp; education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eam members come with a variety of strengths, capabilities &amp; knowledge and provide effective strategic leadership when faced with complex environmental forces and multiple stakeholder relationships to manag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troduces a variety of perspective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as a greater propensity for strong competitive ac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ends to "think outside of the box," leading to more creative decision making, innovation, and strategic chang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ffers various areas of expertise to identify environmental opportunities, threats, or the need for chang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romotes debat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Role of Top-Level Manager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op Management Teams: CEO and top management team power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op management team characteristics give the CEO’s team the power relative to the board of directors (BOD) and can influence the amount of strategic leadership the board provides 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EO Duality – CEO serves as CEO and BOD 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re common in the United State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Occurs most often in the largest firm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Increased shareholder activism recently brought the practice under scrutiny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Criticized for causing poor performance &amp; slow response to change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2: Strategic Leadership (S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20840" y="2276640"/>
            <a:ext cx="11049120" cy="64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Eight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leadership and top-level managers’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op management teams and effects on firm perform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Managerial succession process using internal/external labor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of SL in determining firm’s strategic direc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mportance of strategic leaders in managing firm’s resou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rganizational culture and actions to sustain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thical practices: establishment and empha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mportance and use of organization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nagerial Succe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Defined: Preselect and shape skills of tomorrow’s leade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ternal Managerial Labor Market – opportunities for managerial positions to be filled from within the firm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ternal Managerial Labor Market – opportunities for managerial positions to be filled by candidates from outside of the firm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his decision impacts company performance and the ability to embrace change in today's competitive landscap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uccession, top management team composition and strategy are intimately related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fects of CEO Succession and Top Management Team Composition on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4444920" y="3124080"/>
            <a:ext cx="70390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nagerial Succe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Benefits of Internal Managerial Labor Market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ntinuity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ntinued commitmen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amiliar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duced turnove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tention of “private knowledge”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Favored when the firm is performing wel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nagerial Succe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Benefits of External Managerial Labor Marke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Long tenure with the same firm is thought to reduce innova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utsiders bring diverse knowledge bases and social networks, which offer the potential for synergy and new competitive advantag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2: Strategic Leadership (S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20840" y="2276640"/>
            <a:ext cx="11049120" cy="63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Eight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leadership and top-level managers’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op management teams and effects on firm perform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rial succession process using internal/external labor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Value of SL in determining firm’s strategic direc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Importance of strategic leaders in managing firm’s resou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Organizational culture and actions to sustain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thical practices: establishment and empha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mportance and use of organization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Strategic Management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4749840" y="2133720"/>
            <a:ext cx="696924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ey Strategic Leadership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ertain actions characterize effective strategic leadership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ese actions interact with each othe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e most effective strategic leaders create options as the foundation for making effective decision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Determining Strategic Direc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finition:  A firm's image and character over time, framed within the context of the conditions in which the company operat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ercise of Effective Strategic Lead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Rectangle 3" descr=""/>
          <p:cNvPicPr/>
          <p:nvPr/>
        </p:nvPicPr>
        <p:blipFill>
          <a:blip r:embed="rId1"/>
          <a:stretch/>
        </p:blipFill>
        <p:spPr>
          <a:xfrm>
            <a:off x="4444920" y="3048120"/>
            <a:ext cx="73407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ey Strategic Leadership Ac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ffectively managing firm’s resource portfolio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sources defined as financial, human, social and organizational capit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ploiting and maintaining core competencie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Related to firm’s functional skills (i.e., manufacturing, finance, marketing and R&amp;D)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veloping Human (HC) and Social Capital (SC)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C: Knowledge and skills of a firm’s entire workforce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C: Relationships inside and outside the firm that help it accomplish tasks and create value for customers and sharehold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ey Strategic Leadership Ac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ustaining an effective organizational cultur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rganizational culture: complex set of ideologies,symbols, and core values shared throughout the firm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nfluences the way business is conducte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Helps to regulate and control employees’ behavior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ey Strategic Leadership Ac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ustaining an effective organizational culture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ntrepreneurial mind-se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ource of growth and innovation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y be encouraged and promoted by strategic lead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5 dimensions of an entrepreneurial mindset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1. Autonomy (Free of firm constraints)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2. Innovativeness (Firms’ tendency to support new ideas)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3. Risk Taking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4. Proactiveness (Being a market leader vs. follower)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5. Competitive aggressiveness (Firms’ propensity to take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actions in order to outperform rivals)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ey Strategic Leadership Ac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ustaining an effective organizational culture </a:t>
            </a:r>
            <a:r>
              <a:rPr b="0" lang="en-US" sz="1200" spc="-1" strike="noStrike">
                <a:solidFill>
                  <a:srgbClr val="99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hanging the organizational culture and restructuring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ore difficult to change culture than maintain it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ometimes change must occur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Requires effective communication and problem solving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Selecting the right people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Engaging in effective performance appraisal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easuring individual performance toward goals that fit with new value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Appropriate reward system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2: Strategic Leadership (S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Eight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leadership and top-level managers’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op management teams and effects on firm perform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rial succession process using internal/external labor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of SL in determining firm’s strategic direc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mportance of strategic leaders in managing firm’s resou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rganizational culture and actions to sustain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Ethical practices: establishment and empha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Importance and use of organization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ey Strategic Leadership Ac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mphasizing ethical practices: Actions such as…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stablish and communicate ethics-related goal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Revise, update and disseminate code of conduc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Develop and implement methods &amp; procedures to use in achieving firm’s ethical standard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reate/use specific reward systems that recognize acts of courag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reate a working environment where all are treated with dignit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ey Strategic Leadership Ac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stablishing balanced organizational control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ntrols: Formal, information-based procedures used by managers to maintain or alter patterns in organizational activiti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inancial Control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Focus on short-term financial outcomes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Produce risk-averse managerial decisions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Strategic Control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Focus on the content of strategic actions 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Encourage decisions that incorporate moderate and acceptable levels of risk</a:t>
            </a:r>
            <a:endParaRPr b="0" lang="en-US" sz="2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ey Strategic Leadership Action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stablishing balanced organizational control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he Balanced Scorecard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Framework that allows strategic leaders to verify that they have established both financial and strategic controls to assess firm performance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2: Strategic Leadership (S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0840" y="2276640"/>
            <a:ext cx="11049120" cy="64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Eight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Strategic leadership and top-level managers’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op management teams and effects on firm perform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rial succession process using internal/external labor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of SL in determining firm’s strategic direc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mportance of strategic leaders in managing firm’s resou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rganizational culture and actions to sustain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thical practices: establishment and empha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mportance and use of organization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ic Controls and Financial Controls in a Balanced Scorecard Frame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Rectangle 3" descr=""/>
          <p:cNvPicPr/>
          <p:nvPr/>
        </p:nvPicPr>
        <p:blipFill>
          <a:blip r:embed="rId1"/>
          <a:stretch/>
        </p:blipFill>
        <p:spPr>
          <a:xfrm>
            <a:off x="4597560" y="2286000"/>
            <a:ext cx="73944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lecting a New CEO:  The Importance of Strategic Lea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rom 2005 to 2009 average CEO tenure declined from 7.3 years to around 6 yea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uccession planning becoming more importan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40 percent of firms have no succession pla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50 percent of directors rate own plan as ineffectiv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Potential successors identified early so they can be groomed to be CEO through: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hallenging work assignmen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Build critical knowledge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Develop relationships with key stakeholders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Time for mentoring by current top management team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360 degree feedback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egardless on time in position leaders can make a major difference in how a firm perform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ffective strategic leadership is the foundation for successfully using the strategic management proces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ategic leaders facilitate the development of appropriate strategic actions and determine how to implement them – these actions are the path to strategic competitiveness and above-average retur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NOTE:  Many examples of well-known CEOs are mentioned throughout the chapter to illustrate their leadership styl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2: Strategic Leadership (S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20840" y="2276640"/>
            <a:ext cx="11049120" cy="64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verview:  Eight content area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Strategic leadership and top-level managers’ import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Top management teams and effects on firm performance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rial succession process using internal/external labor market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Value of SL in determining firm’s strategic direction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mportance of strategic leaders in managing firm’s resou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rganizational culture and actions to sustain 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thical practices: establishment and emphasi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Importance and use of organizational control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ic Leadership (SL) and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trategic leadership: the ability to anticipate, envision, maintain flexibility, and empower others to create strategic change as necessar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ultifunctional task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ing through other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ing an entire enterprise rather than a functional subunit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Coping with change which is increasing in the global economy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ost critical skill: attracting and managing human (includes intellectual) capital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ic Leadership and the Strategic Management Proces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1"/>
          <a:stretch/>
        </p:blipFill>
        <p:spPr>
          <a:xfrm>
            <a:off x="5359320" y="1905120"/>
            <a:ext cx="55944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0480" y="390240"/>
            <a:ext cx="11032920" cy="16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Role of Top-Level Manag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20480" y="2276280"/>
            <a:ext cx="1103292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anagers use their discretion when making strategic decis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Primary factors that determines amount of manager’s decision-making discretion 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External environmental sources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Organization’s characteristics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Manager’s characteristics  </a:t>
            </a:r>
            <a:endParaRPr b="0" lang="en-US" sz="2800" spc="-1" strike="noStrike">
              <a:solidFill>
                <a:srgbClr val="0066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llette,Paul</dc:creator>
  <dc:description/>
  <dc:language>en-US</dc:language>
  <cp:lastModifiedBy>Laurie Merz</cp:lastModifiedBy>
  <dcterms:modified xsi:type="dcterms:W3CDTF">2010-04-15T22:29:37Z</dcterms:modified>
  <cp:revision>30</cp:revision>
  <dc:subject/>
  <dc:title>PART 2 Strategic Actions:  Strategy Formulation</dc:title>
</cp:coreProperties>
</file>