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6F5A842-F215-4BFA-8CFE-F955F8332ADC}"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www.economist.com/opinion/displaystory.cfm?story_id=11089616" TargetMode="External"/><Relationship Id="rId2" Type="http://schemas.openxmlformats.org/officeDocument/2006/relationships/hyperlink" Target="http://www.businessweek.com/magazine/content/08_14/b4078084895408.htm?chan=search" TargetMode="External"/><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www.airbus.com/en/"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0B368BD-ACDC-4430-9BA0-CBC51F27B55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3" name="PlaceHolder 1"/>
          <p:cNvSpPr>
            <a:spLocks noGrp="1"/>
          </p:cNvSpPr>
          <p:nvPr>
            <p:ph type="sldImg"/>
          </p:nvPr>
        </p:nvSpPr>
        <p:spPr>
          <a:xfrm>
            <a:off x="536400" y="531720"/>
            <a:ext cx="2356200" cy="1766880"/>
          </a:xfrm>
          <a:prstGeom prst="rect">
            <a:avLst/>
          </a:prstGeom>
          <a:ln w="0">
            <a:noFill/>
          </a:ln>
        </p:spPr>
      </p:sp>
      <p:sp>
        <p:nvSpPr>
          <p:cNvPr id="25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The IMF has an interactive web page designed especially for students.  Go to {http://www.imf.org}.  Click on For Students, then click on EconEd Onli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interactive activities are available to help students learn more about the IMF and its activities.  For example, to see how the IMF evaluates a country, click on The IMF in Action.  This interactive exercise allows students to pick an online team to help analyze a member country’s econom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1560ED3-F78A-4119-9687-F1DCFAB6ACB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6" name="PlaceHolder 1"/>
          <p:cNvSpPr>
            <a:spLocks noGrp="1"/>
          </p:cNvSpPr>
          <p:nvPr>
            <p:ph type="sldImg"/>
          </p:nvPr>
        </p:nvSpPr>
        <p:spPr>
          <a:xfrm>
            <a:off x="536400" y="531720"/>
            <a:ext cx="2356200" cy="1766880"/>
          </a:xfrm>
          <a:prstGeom prst="rect">
            <a:avLst/>
          </a:prstGeom>
          <a:ln w="0">
            <a:noFill/>
          </a:ln>
        </p:spPr>
      </p:sp>
      <p:sp>
        <p:nvSpPr>
          <p:cNvPr id="25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The U.S. Dollar, Oil Prices, and Recycling Petrodoll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what oil producing nations are likely to do with the dollars they have earned.  In 2008, oil prices reached new highs as a result of higher than expected demand, tight supplies, and perceived geopolitical risks.  Since oil is priced in dollars, oil producers have seen their dollar reserves increase significantly.  Now, speculation abounds as to what will happen to the petrodollars. Some believe that the dollars will go toward public infrastructure projects, others think that it is more likely that investments will be made in dollar denominated assets like U.S. bonds, stocks, and real estate, or in non-dollar denominated assets such as European or Japanese bonds and stocks.  Discussion of the feature can revolve around the following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ith oil prices at record highs, there is significant speculation as to what oil producing states will do with the dollars they are earning.  Discuss how a decision to invest in non-dollar denominated assets could affect the value of the U.S. doll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ggested Discussion Points: As a result of higher demand from countries like China and India, tight supplies and perceived geo-political risks, oil prices reached a new high in 2008.  For oil producing countries, this has proved to be an unexpected windfall.  In 2007, the countries together earned over $1 trillion.  Most students will probably recognize that if the countries decide to invest their earnings in non-dollar denominated assets, the value of the dollar could drop sharply.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How could a decision by oil producing countries to invest their petrodollars in public infrastructure projects help the value of the doll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ggested Discussion Points: If the oil producing states invest the petrodollars in public infrastructure projects such as roads, telecommunications systems, and education, the U.S. dollar could actually rise in value.   The infrastructure investments are likely to generate economic growth in the nations, which could then translate into market opportunities for U.S. firm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cture Note:</a:t>
            </a:r>
            <a:r>
              <a:rPr b="1" i="1" lang="en-US" sz="900" spc="-1" strike="noStrike">
                <a:solidFill>
                  <a:srgbClr val="000000"/>
                </a:solidFill>
                <a:latin typeface="Times New Roman"/>
              </a:rPr>
              <a:t> </a:t>
            </a:r>
            <a:r>
              <a:rPr b="0" lang="en-US" sz="900" spc="-1" strike="noStrike">
                <a:solidFill>
                  <a:srgbClr val="000000"/>
                </a:solidFill>
                <a:latin typeface="Times New Roman"/>
              </a:rPr>
              <a:t>To extend this discussion, consider {</a:t>
            </a:r>
            <a:r>
              <a:rPr b="0" lang="en-US" sz="900" spc="-1" strike="noStrike" u="sng">
                <a:solidFill>
                  <a:srgbClr val="ccccff"/>
                </a:solidFill>
                <a:uFillTx/>
                <a:latin typeface="Times New Roman"/>
                <a:hlinkClick r:id="rId1"/>
              </a:rPr>
              <a:t>http://www.economist.com/opinion/displaystory.cfm?story_id=11089616</a:t>
            </a:r>
            <a:r>
              <a:rPr b="0" lang="en-US" sz="900" spc="-1" strike="noStrike">
                <a:solidFill>
                  <a:srgbClr val="000000"/>
                </a:solidFill>
                <a:latin typeface="Times New Roman"/>
              </a:rPr>
              <a:t>} and {</a:t>
            </a:r>
            <a:r>
              <a:rPr b="0" lang="en-US" sz="900" spc="-1" strike="noStrike" u="sng">
                <a:solidFill>
                  <a:srgbClr val="ccccff"/>
                </a:solidFill>
                <a:uFillTx/>
                <a:latin typeface="Times New Roman"/>
                <a:hlinkClick r:id="rId2"/>
              </a:rPr>
              <a:t>http://www.businessweek.com/magazine/content/08_14/b4078084895408.htm?chan=search</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deo Note: The iGlobes </a:t>
            </a:r>
            <a:r>
              <a:rPr b="0" i="1" lang="en-US" sz="900" spc="-1" strike="noStrike">
                <a:solidFill>
                  <a:srgbClr val="000000"/>
                </a:solidFill>
                <a:latin typeface="Times New Roman"/>
              </a:rPr>
              <a:t>Oil and Gas Prices Rise Due to Pipeline Shutdown</a:t>
            </a:r>
            <a:r>
              <a:rPr b="0" lang="en-US" sz="900" spc="-1" strike="noStrike">
                <a:solidFill>
                  <a:srgbClr val="000000"/>
                </a:solidFill>
                <a:latin typeface="Times New Roman"/>
              </a:rPr>
              <a:t> and </a:t>
            </a:r>
            <a:r>
              <a:rPr b="0" i="1" lang="en-US" sz="900" spc="-1" strike="noStrike">
                <a:solidFill>
                  <a:srgbClr val="000000"/>
                </a:solidFill>
                <a:latin typeface="Times New Roman"/>
              </a:rPr>
              <a:t>Oil Market Focuses Attention on Middle East Conflict</a:t>
            </a:r>
            <a:r>
              <a:rPr b="0" lang="en-US" sz="900" spc="-1" strike="noStrike">
                <a:solidFill>
                  <a:srgbClr val="000000"/>
                </a:solidFill>
                <a:latin typeface="Times New Roman"/>
              </a:rPr>
              <a:t> fit in well with this feature. </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A1B180D-FA6D-4C48-A7B1-D945DBF0BE3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9" name="PlaceHolder 1"/>
          <p:cNvSpPr>
            <a:spLocks noGrp="1"/>
          </p:cNvSpPr>
          <p:nvPr>
            <p:ph type="sldImg"/>
          </p:nvPr>
        </p:nvSpPr>
        <p:spPr>
          <a:xfrm>
            <a:off x="536400" y="531720"/>
            <a:ext cx="2356200" cy="1766880"/>
          </a:xfrm>
          <a:prstGeom prst="rect">
            <a:avLst/>
          </a:prstGeom>
          <a:ln w="0">
            <a:noFill/>
          </a:ln>
        </p:spPr>
      </p:sp>
      <p:sp>
        <p:nvSpPr>
          <p:cNvPr id="26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Country Focus: Turkey’s and the IMF</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urkey’s 18th IMF program.  In May 2001, the IMF agreed to lend $8 billion to Turkey to help stabilize its economy and halt a sharp slide in the value of its currency.  While initially the Turkish government resisted IMF mandates on economic policy, in 2003, the government passed an austerity budget.  By 2005, significant progress had been made and today, the country appears to be on track for recovery, with lower inflation rates, an increase in privatization, and a budget surplus. The following questions can be helpful in directing the discuss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hat led to Turkey’s financial crisis?  What goals did the IMF establish as part of the loan agreemen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everal factors led to Turkey’s financial crisis including a large and inefficient state sector and a subsidized agricultural sector, both of which were financed through debt.  The IMF pushed for accelerated privatization of inefficient sectors, and a reduction in agricultural subsidies.  In addition, the IMF called for pension reform and tax increas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What are the challenges for a government to deal with a financial crisis like the one that Turkey experience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suggest that one of the biggest challenges for governments facing a financial crisis is the domino effect it seems to have throughout the economy.  In the case of Turkey, IMF assistance to stabilize the situation meant that the country had to follow what initially seemed to be unattractive polici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Was the IMF successful in Turke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After several rocky attempts, most students will probably agree that the IMF’s programs in Turkey are finally beginning to show results.  Inflation is down from over 80 percent a year in the 1990s to just 4 percent in 2007, economic growth is up, and the privatization program has continued to move along.  In addition, government spending seems to be under control.  In deed the government has a budget surplus in the period 2003-2006.</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6637C1E-CA7E-4230-B981-18A92CC4C2C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2" name="PlaceHolder 1"/>
          <p:cNvSpPr>
            <a:spLocks noGrp="1"/>
          </p:cNvSpPr>
          <p:nvPr>
            <p:ph type="sldImg"/>
          </p:nvPr>
        </p:nvSpPr>
        <p:spPr>
          <a:xfrm>
            <a:off x="536400" y="531720"/>
            <a:ext cx="2356200" cy="1766880"/>
          </a:xfrm>
          <a:prstGeom prst="rect">
            <a:avLst/>
          </a:prstGeom>
          <a:ln w="0">
            <a:noFill/>
          </a:ln>
        </p:spPr>
      </p:sp>
      <p:sp>
        <p:nvSpPr>
          <p:cNvPr id="26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Airbus and the Euro</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describes how Airbus is protecting itself from exchange rate fluctuations.  French aircraft maker Airbus prices its planes in dollars.  However, because over half the company’s costs are in euros, the company has the potential to see significant fluctuations in its earnings if it does not hedge its foreign exchange exposure.  The following questions can help in the discussion of the featur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What type of foreign exchange exposure does Airbus face?  How can Airbus protect itself from its exposure to changing exchange rates?  How does the company’s switch to more U.S. suppliers help the compan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should easily recognize the transaction exposure facing Airbus.  Some students will point out that economic exposure is also a problem for the company. Airbus can hedge its transaction exposure in the foreign exchange markets using forward contracts, however to manage its economic exposure, the company is trying to reduce its costs by shifting to American suppliers, and asking European suppliers to price in dolla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irbus has asked its European based suppliers to start pricing in U.S. dollars.  What does Airbus hope to gain by this request?  What does it mean for suppli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Airbus’ decision to ask suppliers to price their components in dollars is an effort to control exchange rate risk.  The company prices its planes in dollars, but was paying for components in a variety of currencies.  By shifting to a strictly dollar run business, the company not only consolidates all of its transactions and so hedges its exposure more easily and cheaply, it also increases the proportion of its costs that are in dollars.  For American suppliers, the shift to pricing in dollars is beneficial because it eliminates exchange rate risk.  For other suppliers however, the shift may mean an introduction of exchange rate ris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Students can learn more about Airbus by going to the company’s web site at {</a:t>
            </a:r>
            <a:r>
              <a:rPr b="0" lang="en-US" sz="1000" spc="-1" strike="noStrike" u="sng">
                <a:solidFill>
                  <a:srgbClr val="ccccff"/>
                </a:solidFill>
                <a:uFillTx/>
                <a:latin typeface="Times New Roman"/>
                <a:hlinkClick r:id="rId1"/>
              </a:rPr>
              <a:t>http://www.airbus.com/en/</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C5D9E4D-E12D-4239-A2AD-AA57B04C4D3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5" name="PlaceHolder 1"/>
          <p:cNvSpPr>
            <a:spLocks noGrp="1"/>
          </p:cNvSpPr>
          <p:nvPr>
            <p:ph type="sldImg"/>
          </p:nvPr>
        </p:nvSpPr>
        <p:spPr>
          <a:xfrm>
            <a:off x="536400" y="531720"/>
            <a:ext cx="2356200" cy="1766880"/>
          </a:xfrm>
          <a:prstGeom prst="rect">
            <a:avLst/>
          </a:prstGeom>
          <a:ln w="0">
            <a:noFill/>
          </a:ln>
        </p:spPr>
      </p:sp>
      <p:sp>
        <p:nvSpPr>
          <p:cNvPr id="2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Current IMF lending policies require recipient countries to implement governmental reforms to stabilize monetary policy and encourage economic growth.  One of the principal ways for a developing nation to spur economic growth is to solicit foreign direct investment and to provide a hospitable environment for the foreign investors.  These characteristics of IMF lending policies work to the advantage of international businesses that are looking for investment opportunities in developing countries.</a:t>
            </a:r>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F620038-CD93-423F-A88A-FB3612B61E8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8" name="PlaceHolder 1"/>
          <p:cNvSpPr>
            <a:spLocks noGrp="1"/>
          </p:cNvSpPr>
          <p:nvPr>
            <p:ph type="sldImg"/>
          </p:nvPr>
        </p:nvSpPr>
        <p:spPr>
          <a:xfrm>
            <a:off x="536400" y="531720"/>
            <a:ext cx="2356200" cy="176688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Critics argue that the tight macroeconomic policies imposed by the IMF in the recent Asian crisis were not well suited to countries that were not suffering from excessive government spending and inflation, but instead from a private-sector debt crisis with inflationary undertones.  Anti-inflationary monetary policies and reductions in government spending usually result in a sharp contraction of demand, at least in the short run.  In the longer term, the policies can promote economic growth and expansion of demand, which creates opportunities for international business. </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D31CFFF-9773-42D9-85DB-5C75A2B6438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1" name="PlaceHolder 1"/>
          <p:cNvSpPr>
            <a:spLocks noGrp="1"/>
          </p:cNvSpPr>
          <p:nvPr>
            <p:ph type="sldImg"/>
          </p:nvPr>
        </p:nvSpPr>
        <p:spPr>
          <a:xfrm>
            <a:off x="536400" y="531720"/>
            <a:ext cx="2356200" cy="1766880"/>
          </a:xfrm>
          <a:prstGeom prst="rect">
            <a:avLst/>
          </a:prstGeom>
          <a:ln w="0">
            <a:noFill/>
          </a:ln>
        </p:spPr>
      </p:sp>
      <p:sp>
        <p:nvSpPr>
          <p:cNvPr id="27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swer: The case for fixed exchange rates rests on arguments about monetary discipline, speculation, uncertainty, and the lack of connection between the trade balance and exchange rates.  In terms of monetary discipline, the need to maintain fixed exchange rate parity ensures that governments do not expand their money supplies at inflationary rates.  In terms of speculation, a fixed exchange rate regime precludes the possibility of speculation.  In terms of uncertainty, a fixed rate regime introduces a degree of certainty in the international monetary system by reducing volatility in exchange rates.  Finally, in terms of trade balance adjustments, critics question the closeness of the link between the exchange rate and the trade balance. The case for floating exchange rates has two main elements: monetary policy autonomy and automatic trade balance adjustments.  In terms of the former, it is argued that a floating exchange rate regime gives countries monetary policy autonomy.  Under a fixed rate system, a country’s ability to expand or contract its money supply as it sees fit is limited by the need to maintain exchange rate parity.  In terms of the later, under the Bretton Woods system, if a country developed a permanent deficit in its balance of trade that could not be corrected by domestic policy, the IMF would agree to a currency devaluation.  Critics of this system argue that the adjustment mechanism works much more smoothly under a floating exchange rate regime.  They argue that if a country is running a trade deficit, the imbalance between the supply and demand of that country’s currency in the foreign exchange markets will lead to depreciation in its exchange rate.  An exchange rate depreciation should correct the trade deficit by making the country’s exports cheaper and its imports more expensive.  It is a matter of personal opinion in regard to which system is better for an international business.  We do know, however, that a fixed exchange rate regime modeled along the lines of the Bretton Woods system will not work.  Nevertheless, a different kind of fixed exchange rate system might be more enduring and might foster the kind of stability that would facilitate more rapid growth in international trade and investment. </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A13CD19-3DD5-485E-BCED-BB7AD91DAB2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4" name="PlaceHolder 1"/>
          <p:cNvSpPr>
            <a:spLocks noGrp="1"/>
          </p:cNvSpPr>
          <p:nvPr>
            <p:ph type="sldImg"/>
          </p:nvPr>
        </p:nvSpPr>
        <p:spPr>
          <a:xfrm>
            <a:off x="536400" y="531720"/>
            <a:ext cx="2356200" cy="176688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n theory, a fixed exchange rate system similar to the ERM of the European Monetary System should impose monetary discipline, remove uncertainty, limit speculation, and promote trade and investment among member countries.  Therefore, for international businesses, such a system should be positive, and the three countries should see increased trade and investment. </a:t>
            </a: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9C2F318-3807-4F4D-878B-EC30C67709B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7" name="PlaceHolder 1"/>
          <p:cNvSpPr>
            <a:spLocks noGrp="1"/>
          </p:cNvSpPr>
          <p:nvPr>
            <p:ph type="sldImg"/>
          </p:nvPr>
        </p:nvSpPr>
        <p:spPr>
          <a:xfrm>
            <a:off x="536400" y="531720"/>
            <a:ext cx="2356200" cy="1766880"/>
          </a:xfrm>
          <a:prstGeom prst="rect">
            <a:avLst/>
          </a:prstGeom>
          <a:ln w="0">
            <a:noFill/>
          </a:ln>
        </p:spPr>
      </p:sp>
      <p:sp>
        <p:nvSpPr>
          <p:cNvPr id="27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f oil producers decide to invest their earnings in domestic infrastructure projects, it would be expected that the countries involved would see a boost in economic growth, and an increase in imports.  This would put downward pressure on the dollar as the petrodollars are sold, or are invested in the local community, however the expected increase in imports that should result from greater economic growth would increase the demand for dollar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 relative attractiveness of an investment whether it is denominated in dollars, euro, or yen depends on expected returns and the degree of risk associated with the investment.  When considering different currencies, it would be important to consider expected shifts in the exchange rate.  So, for example, if the dollar was expected to depreciate relative to the euro or yen, non-dollar denominated assets might be more attractive all else being equa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Oil producers have significantly increased their holdings of dollars as a result of higher oil prices.  Should OPEC members decide to sell their dollars to invest in non-dollar denominated assets such as euro denominated stocks or bonds, we would expect to see downward pressure on the dolla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f China and the oil producers simultaneously decide to sell off their dollars, there would be significant downward pressure on the dollar.  This downward pressure would probably cause considerable pessimism among investors, and the U.S. economy, and the world economy in general, would likely suff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fld id="{E555FCA7-81D8-48D3-8899-B9EC6C8AFB2D}"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eriod Between the Wars: </a:t>
            </a:r>
            <a:br>
              <a:rPr sz="3200"/>
            </a:br>
            <a:r>
              <a:rPr b="1" lang="en-US" sz="3200" spc="-1" strike="noStrike">
                <a:solidFill>
                  <a:srgbClr val="336699"/>
                </a:solidFill>
                <a:latin typeface="Arial"/>
              </a:rPr>
              <a:t>1918 - 1939</a:t>
            </a:r>
            <a:endParaRPr b="1" lang="en-US" sz="32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ld standard worked fairly well from the 1870s until the start of World War I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war, in an effort to encourage exports and domestic employment, countries started regularly devaluing their currencies</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 the system fell, and people began to demand gold for their currency putting pressure on countries' gold reserves, and forcing them to suspend gold convertibility</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ld Standard ended in 193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Bretton Woods System</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80880" indent="-3808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national monetary system was designed in 1944 in Bretton Woods, New Hampshire</a:t>
            </a:r>
            <a:endParaRPr b="0" lang="en-US" sz="2400" spc="-1" strike="noStrike">
              <a:solidFill>
                <a:srgbClr val="000000"/>
              </a:solidFill>
              <a:latin typeface="Arial"/>
            </a:endParaRPr>
          </a:p>
          <a:p>
            <a:pPr marL="380880" indent="-3808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was to build an enduring economic order that would facilitate postwar economic growth</a:t>
            </a:r>
            <a:endParaRPr b="0" lang="en-US" sz="2400" spc="-1" strike="noStrike">
              <a:solidFill>
                <a:srgbClr val="000000"/>
              </a:solidFill>
              <a:latin typeface="Arial"/>
            </a:endParaRPr>
          </a:p>
          <a:p>
            <a:pPr marL="380880" indent="-3808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etton Woods Agreement established two multinational institutions</a:t>
            </a:r>
            <a:endParaRPr b="0" lang="en-US" sz="2400" spc="-1" strike="noStrike">
              <a:solidFill>
                <a:srgbClr val="000000"/>
              </a:solidFill>
              <a:latin typeface="Arial"/>
            </a:endParaRPr>
          </a:p>
          <a:p>
            <a:pPr lvl="1" marL="800280" indent="-3430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International Monetary Fund (IMF)</a:t>
            </a:r>
            <a:r>
              <a:rPr b="0" lang="en-US" sz="2400" spc="-1" strike="noStrike">
                <a:solidFill>
                  <a:srgbClr val="000000"/>
                </a:solidFill>
                <a:latin typeface="Arial"/>
              </a:rPr>
              <a:t> to maintain order in the international monetary system</a:t>
            </a:r>
            <a:endParaRPr b="0" lang="en-US" sz="2400" spc="-1" strike="noStrike">
              <a:solidFill>
                <a:srgbClr val="000000"/>
              </a:solidFill>
              <a:latin typeface="Arial"/>
            </a:endParaRPr>
          </a:p>
          <a:p>
            <a:pPr lvl="1" marL="800280" indent="-3430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World Bank</a:t>
            </a:r>
            <a:r>
              <a:rPr b="0" lang="en-US" sz="2400" spc="-1" strike="noStrike">
                <a:solidFill>
                  <a:srgbClr val="000000"/>
                </a:solidFill>
                <a:latin typeface="Arial"/>
              </a:rPr>
              <a:t> to promote general economic development</a:t>
            </a:r>
            <a:endParaRPr b="0"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Bretton Woods System</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380880" indent="-3808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Bretton Woods Agreement</a:t>
            </a:r>
            <a:endParaRPr b="0" lang="en-US" sz="2800" spc="-1" strike="noStrike">
              <a:solidFill>
                <a:srgbClr val="000000"/>
              </a:solidFill>
              <a:latin typeface="Arial"/>
            </a:endParaRPr>
          </a:p>
          <a:p>
            <a:pPr lvl="1" marL="800280" indent="-34308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ollar was the only currency to be convertible to gold, and other currencies would set their exchange rates relative to the dollar</a:t>
            </a:r>
            <a:endParaRPr b="0" lang="en-US" sz="2800" spc="-1" strike="noStrike">
              <a:solidFill>
                <a:srgbClr val="000000"/>
              </a:solidFill>
              <a:latin typeface="Arial"/>
            </a:endParaRPr>
          </a:p>
          <a:p>
            <a:pPr lvl="1" marL="800280" indent="-34308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aluations were not to be used for competitive purposes</a:t>
            </a:r>
            <a:endParaRPr b="0" lang="en-US" sz="2800" spc="-1" strike="noStrike">
              <a:solidFill>
                <a:srgbClr val="000000"/>
              </a:solidFill>
              <a:latin typeface="Arial"/>
            </a:endParaRPr>
          </a:p>
          <a:p>
            <a:pPr lvl="1" marL="800280" indent="-34308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ntry could not devalue its currency by more than 10% without IMF approval</a:t>
            </a:r>
            <a:endParaRPr b="0" lang="en-US" sz="2800" spc="-1" strike="noStrike">
              <a:solidFill>
                <a:srgbClr val="000000"/>
              </a:solidFill>
              <a:latin typeface="Arial"/>
            </a:endParaRPr>
          </a:p>
          <a:p>
            <a:pPr marL="380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le of the IMF</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F was responsible for avoiding a repetition of the chaos that occurred between the wars through a combination of</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Discipline</a:t>
            </a:r>
            <a:endParaRPr b="0" lang="en-US" sz="2400" spc="-1" strike="noStrike">
              <a:solidFill>
                <a:srgbClr val="000000"/>
              </a:solidFill>
              <a:latin typeface="Arial"/>
            </a:endParaRPr>
          </a:p>
          <a:p>
            <a:pPr lvl="1" marL="990720" indent="-533520">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xed exchange rate puts a brake on competitive devaluations and brings stability to the world trade environment  </a:t>
            </a:r>
            <a:endParaRPr b="0" lang="en-US" sz="2400" spc="-1" strike="noStrike">
              <a:solidFill>
                <a:srgbClr val="000000"/>
              </a:solidFill>
              <a:latin typeface="Arial"/>
            </a:endParaRPr>
          </a:p>
          <a:p>
            <a:pPr lvl="1" marL="990720" indent="-533520">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xed exchange rate regime imposes monetary discipline on countries, thereby curtailing price inflation </a:t>
            </a: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le of the IMF</a:t>
            </a:r>
            <a:endParaRPr b="1" lang="en-US" sz="3600" spc="-1" strike="noStrike">
              <a:solidFill>
                <a:srgbClr val="c6040b"/>
              </a:solidFill>
              <a:latin typeface="Arial"/>
            </a:endParaRPr>
          </a:p>
        </p:txBody>
      </p:sp>
      <p:sp>
        <p:nvSpPr>
          <p:cNvPr id="174"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Flexibility</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igid policy of fixed exchange rates would be too inflexible</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IMF was ready to lend foreign currencies to members to tide them over during short periods of balance-of-payments deficits</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ntry could devalue its currency by more than 10 percent with IMF appr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Role of the World Bank</a:t>
            </a:r>
            <a:endParaRPr b="1" lang="en-US" sz="3600" spc="-1" strike="noStrike">
              <a:solidFill>
                <a:srgbClr val="c6040b"/>
              </a:solidFill>
              <a:latin typeface="Arial"/>
            </a:endParaRPr>
          </a:p>
        </p:txBody>
      </p:sp>
      <p:sp>
        <p:nvSpPr>
          <p:cNvPr id="176"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3394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ficial name of the World Bank is the International Bank for Reconstruction and Development (IBRD)  </a:t>
            </a:r>
            <a:endParaRPr b="0" lang="en-US" sz="2400" spc="-1" strike="noStrike">
              <a:solidFill>
                <a:srgbClr val="000000"/>
              </a:solidFill>
              <a:latin typeface="Arial"/>
            </a:endParaRPr>
          </a:p>
          <a:p>
            <a:pPr marL="339480" indent="-3394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 lends money in two ways</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IBRD scheme, money is raised through bond sales in the international capital market and borrowers pay what the bank calls a market rate of interest - the bank's cost of funds plus a margin for expenses.  </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International Development Agency scheme, loans go only to the poorest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ollapse of the </a:t>
            </a:r>
            <a:br>
              <a:rPr sz="3200"/>
            </a:br>
            <a:r>
              <a:rPr b="1" lang="en-US" sz="3200" spc="-1" strike="noStrike">
                <a:solidFill>
                  <a:srgbClr val="336699"/>
                </a:solidFill>
                <a:latin typeface="Arial"/>
              </a:rPr>
              <a:t>Fixed Exchange Rate System</a:t>
            </a:r>
            <a:endParaRPr b="1" lang="en-US" sz="3200" spc="-1" strike="noStrike">
              <a:solidFill>
                <a:srgbClr val="c6040b"/>
              </a:solidFill>
              <a:latin typeface="Arial"/>
            </a:endParaRPr>
          </a:p>
        </p:txBody>
      </p:sp>
      <p:sp>
        <p:nvSpPr>
          <p:cNvPr id="17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caused the collapse of the Bretton Woods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apse of the Bretton Woods system can be traced to U.S. macroeconomic policy decisions (1965 to 1968)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time, the U.S. financed huge increases in welfare programs and the Vietnam War by increasing its money supply which then caused significant inflation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ulation that the dollar would have to be devalued relative to most other currencies forced other countries to increase the value of their currencies relative to the dol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ollapse of the </a:t>
            </a:r>
            <a:br>
              <a:rPr sz="3200"/>
            </a:br>
            <a:r>
              <a:rPr b="1" lang="en-US" sz="3200" spc="-1" strike="noStrike">
                <a:solidFill>
                  <a:srgbClr val="336699"/>
                </a:solidFill>
                <a:latin typeface="Arial"/>
              </a:rPr>
              <a:t>Fixed Exchange Rate System</a:t>
            </a:r>
            <a:endParaRPr b="1" lang="en-US" sz="3200" spc="-1" strike="noStrike">
              <a:solidFill>
                <a:srgbClr val="c6040b"/>
              </a:solidFill>
              <a:latin typeface="Arial"/>
            </a:endParaRPr>
          </a:p>
        </p:txBody>
      </p:sp>
      <p:sp>
        <p:nvSpPr>
          <p:cNvPr id="18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etton Woods system relied on an economically well managed U.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the U.S. began to print money, run high trade deficits, and experience high inflation, the system was strained to the breaking point</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etton Woods Agreement collapsed in 197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Floating Exchange Rate Regime</a:t>
            </a:r>
            <a:endParaRPr b="1" lang="en-US" sz="32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followed the collapse of the Bretton Woods exchange rate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the collapse of the Bretton Woods agreement, a floating exchange rate regime was formalized in 1976 in Jamaica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les for the international monetary system that were agreed upon at the meeting are still in place tod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Jamaica Agreement</a:t>
            </a:r>
            <a:endParaRPr b="1" lang="en-US" sz="36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Jamaica meeting, the IMF's Articles of Agreement were revised to reflect the new reality of floating exchange rate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Jamaican agreement</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ating rates were declared acceptabl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 was abandoned as a reserve asset</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annual IMF quotas - the amount member countries contribute to the IMF - were increased to $41 billion  (today, this number is $311 bill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10</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The International Monetary System</a:t>
            </a:r>
            <a:endParaRPr b="0" lang="en-US" sz="40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change Rates Since 1973</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3394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73, exchange rates have become more volatile and less predictable because of</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il crisis in 1971 </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 of confidence in the dollar after U.S. inflation jumped between 1977 and 1978 </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il crisis of 1979</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e in the dollar between 1980 and 1985</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al collapse of the European Monetary System in 1992</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97 Asian currency crisis</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line in the dollar in the mid to late 2000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xed versus Floating </a:t>
            </a:r>
            <a:br>
              <a:rPr sz="3200"/>
            </a:br>
            <a:r>
              <a:rPr b="1" lang="en-US" sz="3200" spc="-1" strike="noStrike">
                <a:solidFill>
                  <a:srgbClr val="336699"/>
                </a:solidFill>
                <a:latin typeface="Arial"/>
              </a:rPr>
              <a:t>Exchange Rates</a:t>
            </a:r>
            <a:endParaRPr b="1" lang="en-US" sz="32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ich is better – a fixed exchange rate system or a floating exchange rate syste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ppointment with floating rates in recent years has led to renewed debate about the merits of a fixed exchange rate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Floating </a:t>
            </a:r>
            <a:br>
              <a:rPr sz="3200"/>
            </a:br>
            <a:r>
              <a:rPr b="1" lang="en-US" sz="3200" spc="-1" strike="noStrike">
                <a:solidFill>
                  <a:srgbClr val="336699"/>
                </a:solidFill>
                <a:latin typeface="Arial"/>
              </a:rPr>
              <a:t>Exchange Rates</a:t>
            </a:r>
            <a:endParaRPr b="1" lang="en-US" sz="32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ating exchange rate system provides two attractive features</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tary policy autonomy</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trade balance adjus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Floating </a:t>
            </a:r>
            <a:br>
              <a:rPr sz="3200"/>
            </a:br>
            <a:r>
              <a:rPr b="1" lang="en-US" sz="3200" spc="-1" strike="noStrike">
                <a:solidFill>
                  <a:srgbClr val="336699"/>
                </a:solidFill>
                <a:latin typeface="Arial"/>
              </a:rPr>
              <a:t>Exchange Rates</a:t>
            </a:r>
            <a:endParaRPr b="1" lang="en-US" sz="32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Monetary Policy Autonomy</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moval of the obligation to maintain exchange rate parity restores monetary control to a government</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ntrast, with a fixed system, a country's ability to expand or contract its money supply is limited by the need to maintain exchange rate parity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Floating </a:t>
            </a:r>
            <a:br>
              <a:rPr sz="3200"/>
            </a:br>
            <a:r>
              <a:rPr b="1" lang="en-US" sz="3200" spc="-1" strike="noStrike">
                <a:solidFill>
                  <a:srgbClr val="336699"/>
                </a:solidFill>
                <a:latin typeface="Arial"/>
              </a:rPr>
              <a:t>Exchange Rates</a:t>
            </a:r>
            <a:endParaRPr b="1" lang="en-US" sz="32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Trade Balance Adjustments</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of payments adjustment mechanism works more smoothly under a floating exchange rate regime</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Bretton Woods system (fixed system), IMF approval was need to correct a permanent deficit in a country’s balance of trade that could not be corrected by domestic policy alon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Fixed Exchange Rates</a:t>
            </a:r>
            <a:endParaRPr b="1" lang="en-US" sz="32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xed exchange rate system is attractive because  </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 monetary discipline it imposes</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limits speculation</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limits uncertainty</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 lack of connection between the trade balance and exchange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Fixed Exchange Rates</a:t>
            </a:r>
            <a:endParaRPr b="1" lang="en-US" sz="32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Monetary Discipline</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a fixed exchange rate system requires maintaining exchange rate parity, it also  ensures that governments do not expand their money supplies at inflationary rat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Speculation</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xed exchange rate regime prevents destabilizing specul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ase for Fixed Exchange Rates</a:t>
            </a:r>
            <a:endParaRPr b="1" lang="en-US" sz="3200" spc="-1" strike="noStrike">
              <a:solidFill>
                <a:srgbClr val="c6040b"/>
              </a:solidFill>
              <a:latin typeface="Arial"/>
            </a:endParaRPr>
          </a:p>
        </p:txBody>
      </p:sp>
      <p:sp>
        <p:nvSpPr>
          <p:cNvPr id="200"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3. Uncertainty</a:t>
            </a:r>
            <a:endParaRPr b="0" lang="en-US" sz="3200" spc="-1" strike="noStrike">
              <a:solidFill>
                <a:srgbClr val="000000"/>
              </a:solidFill>
              <a:latin typeface="Arial"/>
            </a:endParaRPr>
          </a:p>
          <a:p>
            <a:pPr marL="609480" indent="-6094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certainty associated with floating exchange rates makes business transactions more risk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4. Trade Balance Adjustments</a:t>
            </a:r>
            <a:endParaRPr b="0" lang="en-US" sz="3200" spc="-1" strike="noStrike">
              <a:solidFill>
                <a:srgbClr val="000000"/>
              </a:solidFill>
              <a:latin typeface="Arial"/>
            </a:endParaRPr>
          </a:p>
          <a:p>
            <a:pPr marL="609480" indent="-6094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ating rates help adjust trade imbalan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Who is Right?</a:t>
            </a:r>
            <a:endParaRPr b="1" lang="en-US" sz="3600" spc="-1" strike="noStrike">
              <a:solidFill>
                <a:srgbClr val="c6040b"/>
              </a:solidFill>
              <a:latin typeface="Arial"/>
            </a:endParaRPr>
          </a:p>
        </p:txBody>
      </p:sp>
      <p:sp>
        <p:nvSpPr>
          <p:cNvPr id="202"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real agreement as to which system is better  </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shows that fixed exchange rate regime modeled along the lines of the Bretton Woods system will not work</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fferent kind of fixed exchange rate system might be more enduring and might foster the kind of stability that would facilitate more rapid growth in international trade and investment</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change Rate Regimes in Practice</a:t>
            </a:r>
            <a:endParaRPr b="1" lang="en-US" sz="3200" spc="-1" strike="noStrike">
              <a:solidFill>
                <a:srgbClr val="c6040b"/>
              </a:solidFill>
              <a:latin typeface="Arial"/>
            </a:endParaRPr>
          </a:p>
        </p:txBody>
      </p:sp>
      <p:sp>
        <p:nvSpPr>
          <p:cNvPr id="20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re are several different exchange rate regimes in practic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6</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of IMF members allow their currencies to float freel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of IMF members follow a managed float system</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 of IMF members have no legal tender of their own</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maining countries use less flexible systems such as pegged arrangements, or adjustable peg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the international monetary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international monetary</a:t>
            </a:r>
            <a:r>
              <a:rPr b="1" lang="en-US" sz="2800" spc="-1" strike="noStrike">
                <a:solidFill>
                  <a:srgbClr val="000000"/>
                </a:solidFill>
                <a:latin typeface="Arial"/>
              </a:rPr>
              <a:t> </a:t>
            </a:r>
            <a:r>
              <a:rPr b="0" lang="en-US" sz="2800" spc="-1" strike="noStrike">
                <a:solidFill>
                  <a:srgbClr val="000000"/>
                </a:solidFill>
                <a:latin typeface="Arial"/>
              </a:rPr>
              <a:t>system refers to the institutional arrangements that govern exchange rat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the foreign exchange market is the primary institution for determining exchange r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change Rate Regimes in Practice</a:t>
            </a:r>
            <a:endParaRPr b="1" lang="en-US" sz="3200" spc="-1" strike="noStrike">
              <a:solidFill>
                <a:srgbClr val="c6040b"/>
              </a:solidFill>
              <a:latin typeface="Arial"/>
            </a:endParaRPr>
          </a:p>
        </p:txBody>
      </p:sp>
      <p:sp>
        <p:nvSpPr>
          <p:cNvPr id="206"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Rate Policies, IMF Members, 2006</a:t>
            </a:r>
            <a:endParaRPr b="0" lang="en-US" sz="2400" spc="-1" strike="noStrike">
              <a:solidFill>
                <a:srgbClr val="000000"/>
              </a:solidFill>
              <a:latin typeface="Arial"/>
            </a:endParaRPr>
          </a:p>
        </p:txBody>
      </p:sp>
      <p:pic>
        <p:nvPicPr>
          <p:cNvPr id="207" name="Picture 4" descr="hiL84115_1002"/>
          <p:cNvPicPr/>
          <p:nvPr/>
        </p:nvPicPr>
        <p:blipFill>
          <a:blip r:embed="rId1"/>
          <a:stretch/>
        </p:blipFill>
        <p:spPr>
          <a:xfrm>
            <a:off x="2209680" y="2362320"/>
            <a:ext cx="5715000" cy="434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egged Exchange Rates</a:t>
            </a:r>
            <a:endParaRPr b="1" lang="en-US" sz="36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a pegged exchange rate regime countries peg the value of their currency to that of other major currenci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gged exchange rates are popular among the world’s smaller nations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some evidence that adopting a pegged exchange rate regime moderates inflationary pressures in a count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rrency Boards</a:t>
            </a:r>
            <a:endParaRPr b="1" lang="en-US" sz="36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ntry with a </a:t>
            </a:r>
            <a:r>
              <a:rPr b="0" lang="en-US" sz="2800" spc="-1" strike="noStrike">
                <a:solidFill>
                  <a:srgbClr val="6a96d3"/>
                </a:solidFill>
                <a:latin typeface="Arial"/>
              </a:rPr>
              <a:t>currency board</a:t>
            </a:r>
            <a:r>
              <a:rPr b="0" lang="en-US" sz="2800" spc="-1" strike="noStrike">
                <a:solidFill>
                  <a:srgbClr val="000000"/>
                </a:solidFill>
                <a:latin typeface="Arial"/>
              </a:rPr>
              <a:t> commits to converting its domestic currency on demand into another currency at a fixed exchange rat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cy board holds reserves of foreign currency equal at the fixed exchange rate to at least 100% of the domestic currency issued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domestic notes and coins can be introduced only if there are foreign exchange reserves to back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sis Management by the IMF</a:t>
            </a:r>
            <a:endParaRPr b="1" lang="en-US" sz="36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has been the role of the IMF in the international monetary systems since the collapse of Bretton Woo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F has redefined its mission, and now focuses on lending money to countries experiencing financial crises in exchange for enacting certain macroeconomic polici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hip in the IMF has grown to 185 countries in 2007, 68 of which has some type of IMF program in 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nancial Crises in </a:t>
            </a:r>
            <a:br>
              <a:rPr sz="3200"/>
            </a:br>
            <a:r>
              <a:rPr b="1" lang="en-US" sz="3200" spc="-1" strike="noStrike">
                <a:solidFill>
                  <a:srgbClr val="336699"/>
                </a:solidFill>
                <a:latin typeface="Arial"/>
              </a:rPr>
              <a:t>the Post-Bretton Woods Era</a:t>
            </a:r>
            <a:endParaRPr b="1" lang="en-US" sz="32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ypes of financial crises that have required involvement by the IMF a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A</a:t>
            </a:r>
            <a:r>
              <a:rPr b="0" lang="en-US" sz="2800" spc="-1" strike="noStrike">
                <a:solidFill>
                  <a:srgbClr val="000000"/>
                </a:solidFill>
                <a:latin typeface="Arial"/>
              </a:rPr>
              <a:t> </a:t>
            </a:r>
            <a:r>
              <a:rPr b="0" lang="en-US" sz="2800" spc="-1" strike="noStrike">
                <a:solidFill>
                  <a:srgbClr val="6a96d3"/>
                </a:solidFill>
                <a:latin typeface="Arial"/>
              </a:rPr>
              <a:t>currency crisis</a:t>
            </a:r>
            <a:r>
              <a:rPr b="0" lang="en-US" sz="2800" spc="-1" strike="noStrike">
                <a:solidFill>
                  <a:srgbClr val="000000"/>
                </a:solidFill>
                <a:latin typeface="Arial"/>
              </a:rPr>
              <a:t> - occurs when a speculative attack on the exchange value of a currency results in a sharp depreciation in the value of the currency, or forces authorities to expend large volumes of international currency reserves and sharply increase interest rates in order to defend prevailing exchange r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nancial Crises in </a:t>
            </a:r>
            <a:br>
              <a:rPr sz="3200"/>
            </a:br>
            <a:r>
              <a:rPr b="1" lang="en-US" sz="3200" spc="-1" strike="noStrike">
                <a:solidFill>
                  <a:srgbClr val="336699"/>
                </a:solidFill>
                <a:latin typeface="Arial"/>
              </a:rPr>
              <a:t>the Post-Bretton Woods Era</a:t>
            </a:r>
            <a:endParaRPr b="1" lang="en-US" sz="32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A banking crisis</a:t>
            </a:r>
            <a:r>
              <a:rPr b="0" lang="en-US" sz="2400" spc="-1" strike="noStrike">
                <a:solidFill>
                  <a:srgbClr val="000000"/>
                </a:solidFill>
                <a:latin typeface="Arial"/>
              </a:rPr>
              <a:t>  - refers to a situation in which a loss of confidence in the banking system leads to a run on the banks, as individuals and companies withdraw their deposit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A foreign debt crisis</a:t>
            </a:r>
            <a:r>
              <a:rPr b="0" lang="en-US" sz="2400" spc="-1" strike="noStrike">
                <a:solidFill>
                  <a:srgbClr val="000000"/>
                </a:solidFill>
                <a:latin typeface="Arial"/>
              </a:rPr>
              <a:t>  - a situation in which a country cannot service its foreign debt obligations, whether private sector or government debt</a:t>
            </a:r>
            <a:endParaRPr b="0" lang="en-US" sz="2400" spc="-1" strike="noStrike">
              <a:solidFill>
                <a:srgbClr val="000000"/>
              </a:solidFill>
              <a:latin typeface="Arial"/>
            </a:endParaRPr>
          </a:p>
          <a:p>
            <a:pPr marL="457200" indent="-4572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rises that are particularly significant are</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95 Mexican currency crisis</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97 Asian currency crisis  </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Mexican Currency Crisis of 1995 </a:t>
            </a:r>
            <a:endParaRPr b="1" lang="en-US" sz="32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xican currency crisis of 1995 was a result of high Mexican debts, and a pegged exchange rate that did not allow for a natural adjustment of pric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order to keep Mexico from defaulting on its debt, a $50 billion aid package was created by the IMF</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97, Mexico was well on the way to recover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Asian Crisis</a:t>
            </a:r>
            <a:endParaRPr b="1" lang="en-US" sz="36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were the causes of the1997 Asian financial cris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s of the crisis can be traced to the previous decade when the region was experiencing unprecedented grow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6a96d3"/>
                </a:solidFill>
                <a:latin typeface="Arial"/>
              </a:rPr>
              <a:t>1. The Investment Boom</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ed by export-led growth</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investments were often based on projections about future demand conditions that were unrealistic</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Asian Crisis</a:t>
            </a:r>
            <a:endParaRPr b="1" lang="en-US" sz="36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2. Excess Capacity</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made on the basis of unrealistic projections about future demand conditions created significant excess capac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3. The Debt Bomb</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were often supported by dollar-based debts</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nflation and increasing imports put pressure on the currencies, the resulting devaluations led to default on dollar denominated deb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4. Expanding Import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mid 1990s, imports were expanding across the region causing balance of payments deficits</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ance of payments deficits made it difficult for countries to maintain their currencies against the U.S. dol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Asian Crisis</a:t>
            </a:r>
            <a:endParaRPr b="1" lang="en-US" sz="36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id-1997, it became clear that several key Thai financial institutions were on the verge of defaul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exchange dealers and hedge funds started to speculate against the Thai baht, selling it shor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truggling to defend the peg, the Thai government abandoned its defense and announced that the baht would float freely against the dol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floating exchange rate system</a:t>
            </a:r>
            <a:r>
              <a:rPr b="0" lang="en-US" sz="2400" spc="-1" strike="noStrike">
                <a:solidFill>
                  <a:srgbClr val="000000"/>
                </a:solidFill>
                <a:latin typeface="Arial"/>
              </a:rPr>
              <a:t> exists in countries where the foreign exchange market determines the relative value of a currency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the U.S. dollar, the European Union’s euro, the Japanese yen, and the British pound</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pegged exchange rate system</a:t>
            </a:r>
            <a:r>
              <a:rPr b="0" lang="en-US" sz="2400" spc="-1" strike="noStrike">
                <a:solidFill>
                  <a:srgbClr val="000000"/>
                </a:solidFill>
                <a:latin typeface="Arial"/>
              </a:rPr>
              <a:t> exists when the value of a currency is fixed to a reference country and then the exchange rate between that currency and other currencies is determined by the reference currency exchange rate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eveloping countries have pegged exchange 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Asian Crisis</a:t>
            </a:r>
            <a:endParaRPr b="1" lang="en-US" sz="36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iland turned to the IMF for help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ulation continued to affect other Asian countries including Malaysia, Indonesia, Singapore which all saw their currencies drop</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evaluations were mainly a result of excess investment, high borrowings, much of it in dollar denominated debt, and a deteriorating balance of payments position</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Korea was  the final country in the region to f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valuating the IMF’s </a:t>
            </a:r>
            <a:br>
              <a:rPr sz="3200"/>
            </a:br>
            <a:r>
              <a:rPr b="1" lang="en-US" sz="3200" spc="-1" strike="noStrike">
                <a:solidFill>
                  <a:srgbClr val="336699"/>
                </a:solidFill>
                <a:latin typeface="Arial"/>
              </a:rPr>
              <a:t>Policy Prescriptions</a:t>
            </a:r>
            <a:endParaRPr b="1" lang="en-US" sz="3200" spc="-1" strike="noStrike">
              <a:solidFill>
                <a:srgbClr val="c6040b"/>
              </a:solidFill>
              <a:latin typeface="Arial"/>
            </a:endParaRPr>
          </a:p>
        </p:txBody>
      </p:sp>
      <p:sp>
        <p:nvSpPr>
          <p:cNvPr id="22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a:t>
            </a:r>
            <a:r>
              <a:rPr b="0" lang="en-US" sz="2800" spc="-1" strike="noStrike">
                <a:solidFill>
                  <a:srgbClr val="000000"/>
                </a:solidFill>
                <a:latin typeface="Arial"/>
              </a:rPr>
              <a:t> How successful is the IMF at getting countries back on trac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6, 59 countries were working IMF programs</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MF loan packages come with conditions attached, generally a combination of tight macroeconomic policy and tight monetary policy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perts have criticized these policy prescriptions for three reas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valuating the IMF’s </a:t>
            </a:r>
            <a:br>
              <a:rPr sz="3200"/>
            </a:br>
            <a:r>
              <a:rPr b="1" lang="en-US" sz="3200" spc="-1" strike="noStrike">
                <a:solidFill>
                  <a:srgbClr val="336699"/>
                </a:solidFill>
                <a:latin typeface="Arial"/>
              </a:rPr>
              <a:t>Policy Prescriptions</a:t>
            </a:r>
            <a:endParaRPr b="1" lang="en-US" sz="3200" spc="-1" strike="noStrike">
              <a:solidFill>
                <a:srgbClr val="c6040b"/>
              </a:solidFill>
              <a:latin typeface="Arial"/>
            </a:endParaRPr>
          </a:p>
        </p:txBody>
      </p:sp>
      <p:sp>
        <p:nvSpPr>
          <p:cNvPr id="23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Inappropriate Polici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MF has been criticized for having a “one-size-fits-all” approach to macroeconomic policy that is inappropriate for many count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Moral Hazard</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F has also been criticized for exacerbating </a:t>
            </a:r>
            <a:r>
              <a:rPr b="0" lang="en-US" sz="2800" spc="-1" strike="noStrike">
                <a:solidFill>
                  <a:srgbClr val="6a96d3"/>
                </a:solidFill>
                <a:latin typeface="Arial"/>
              </a:rPr>
              <a:t>moral hazard</a:t>
            </a:r>
            <a:r>
              <a:rPr b="0" lang="en-US" sz="2800" spc="-1" strike="noStrike">
                <a:solidFill>
                  <a:srgbClr val="000000"/>
                </a:solidFill>
                <a:latin typeface="Arial"/>
              </a:rPr>
              <a:t> (when people behave recklessly because they know they will be saved if things go wro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valuating the IMF’s </a:t>
            </a:r>
            <a:br>
              <a:rPr sz="3200"/>
            </a:br>
            <a:r>
              <a:rPr b="1" lang="en-US" sz="3200" spc="-1" strike="noStrike">
                <a:solidFill>
                  <a:srgbClr val="336699"/>
                </a:solidFill>
                <a:latin typeface="Arial"/>
              </a:rPr>
              <a:t>Policy Prescriptions</a:t>
            </a:r>
            <a:endParaRPr b="1" lang="en-US" sz="3200" spc="-1" strike="noStrike">
              <a:solidFill>
                <a:srgbClr val="c6040b"/>
              </a:solidFill>
              <a:latin typeface="Arial"/>
            </a:endParaRPr>
          </a:p>
        </p:txBody>
      </p:sp>
      <p:sp>
        <p:nvSpPr>
          <p:cNvPr id="23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Lack of Accountability</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criticism of the IMF is that it has become too powerful for an institution that lacks any real mechanism for accountabi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a:t>
            </a:r>
            <a:r>
              <a:rPr b="0" lang="en-US" sz="2800" spc="-1" strike="noStrike">
                <a:solidFill>
                  <a:srgbClr val="000000"/>
                </a:solidFill>
                <a:latin typeface="Arial"/>
              </a:rPr>
              <a:t> Who is righ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many debates about international economics, it is not clear who is righ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235"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are the implications of the international monetary system for manage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ational monetary system affects international managers in three ways</a:t>
            </a:r>
            <a:endParaRPr b="0" lang="en-US" sz="2800" spc="-1" strike="noStrike">
              <a:solidFill>
                <a:srgbClr val="000000"/>
              </a:solidFill>
              <a:latin typeface="Arial"/>
            </a:endParaRPr>
          </a:p>
          <a:p>
            <a:pPr lvl="1" marL="990720" indent="-53352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management</a:t>
            </a:r>
            <a:endParaRPr b="0" lang="en-US" sz="2800" spc="-1" strike="noStrike">
              <a:solidFill>
                <a:srgbClr val="000000"/>
              </a:solidFill>
              <a:latin typeface="Arial"/>
            </a:endParaRPr>
          </a:p>
          <a:p>
            <a:pPr lvl="1" marL="990720" indent="-53352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trategy</a:t>
            </a:r>
            <a:endParaRPr b="0" lang="en-US" sz="2800" spc="-1" strike="noStrike">
              <a:solidFill>
                <a:srgbClr val="000000"/>
              </a:solidFill>
              <a:latin typeface="Arial"/>
            </a:endParaRPr>
          </a:p>
          <a:p>
            <a:pPr lvl="1" marL="990720" indent="-53352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government relations</a:t>
            </a:r>
            <a:endParaRPr b="0" lang="en-US" sz="28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rrency Management</a:t>
            </a:r>
            <a:endParaRPr b="1" lang="en-US" sz="3600" spc="-1" strike="noStrike">
              <a:solidFill>
                <a:srgbClr val="c6040b"/>
              </a:solidFill>
              <a:latin typeface="Arial"/>
            </a:endParaRPr>
          </a:p>
        </p:txBody>
      </p:sp>
      <p:sp>
        <p:nvSpPr>
          <p:cNvPr id="23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Currency Managemen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exchange rate system is a managed float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government intervention and speculative activity influence currency valu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can protect themselves from exchange rate volatility through forward markets and swa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Business Strategy</a:t>
            </a:r>
            <a:endParaRPr b="1" lang="en-US" sz="3600" spc="-1" strike="noStrike">
              <a:solidFill>
                <a:srgbClr val="c6040b"/>
              </a:solidFill>
              <a:latin typeface="Arial"/>
            </a:endParaRPr>
          </a:p>
        </p:txBody>
      </p:sp>
      <p:sp>
        <p:nvSpPr>
          <p:cNvPr id="239"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Business Strategy</a:t>
            </a:r>
            <a:endParaRPr b="0" lang="en-US" sz="2400" spc="-1" strike="noStrike">
              <a:solidFill>
                <a:srgbClr val="000000"/>
              </a:solidFill>
              <a:latin typeface="Arial"/>
            </a:endParaRPr>
          </a:p>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rate movements can have a major impact on the competitive position of businesses</a:t>
            </a:r>
            <a:endParaRPr b="0" lang="en-US" sz="2400" spc="-1" strike="noStrike">
              <a:solidFill>
                <a:srgbClr val="000000"/>
              </a:solidFill>
              <a:latin typeface="Arial"/>
            </a:endParaRPr>
          </a:p>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ward market can offer some protection from volatile exchange rates in the shorter term </a:t>
            </a:r>
            <a:endParaRPr b="0" lang="en-US" sz="2400" spc="-1" strike="noStrike">
              <a:solidFill>
                <a:srgbClr val="000000"/>
              </a:solidFill>
              <a:latin typeface="Arial"/>
            </a:endParaRPr>
          </a:p>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protect themselves from the uncertainty of exchange rate movements over the longer term by building strategic flexibility into their operations that minimizes economic exposure</a:t>
            </a:r>
            <a:endParaRPr b="0" lang="en-US" sz="2400" spc="-1" strike="noStrike">
              <a:solidFill>
                <a:srgbClr val="000000"/>
              </a:solidFill>
              <a:latin typeface="Arial"/>
            </a:endParaRPr>
          </a:p>
          <a:p>
            <a:pPr lvl="1" marL="735480" indent="-28296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disperse production to different locations</a:t>
            </a:r>
            <a:endParaRPr b="0" lang="en-US" sz="2400" spc="-1" strike="noStrike">
              <a:solidFill>
                <a:srgbClr val="000000"/>
              </a:solidFill>
              <a:latin typeface="Arial"/>
            </a:endParaRPr>
          </a:p>
          <a:p>
            <a:pPr lvl="1" marL="735480" indent="-28296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outsource manufactur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porate-Government Relations</a:t>
            </a:r>
            <a:endParaRPr b="1" lang="en-US" sz="3200" spc="-1" strike="noStrike">
              <a:solidFill>
                <a:srgbClr val="c6040b"/>
              </a:solidFill>
              <a:latin typeface="Arial"/>
            </a:endParaRPr>
          </a:p>
        </p:txBody>
      </p:sp>
      <p:sp>
        <p:nvSpPr>
          <p:cNvPr id="24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Corporate-Governance Relation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influence government policy towards the international monetary system</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should focus their efforts on encouraging the government to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the growth of international trade and investment</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n international monetary system that minimizes volatile exchange ra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pportunities might current IMF lending policies to developing nations create for international businesses?  What threats might they cre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the standard IMF policy prescriptions of tight monetary policy and reduced government spending are always appropriate for developing nations experiencing a currency crisis?  How might the IMF change its approach?  What would the implications be for international busi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dirty float</a:t>
            </a:r>
            <a:r>
              <a:rPr b="0" lang="en-US" sz="2400" spc="-1" strike="noStrike">
                <a:solidFill>
                  <a:srgbClr val="000000"/>
                </a:solidFill>
                <a:latin typeface="Arial"/>
              </a:rPr>
              <a:t> exists when the value of a currency is determined by market forces, but with central bank intervention if it depreciates too rapidly against an important reference currency</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adopted this policy in 2005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a </a:t>
            </a:r>
            <a:r>
              <a:rPr b="0" lang="en-US" sz="2400" spc="-1" strike="noStrike">
                <a:solidFill>
                  <a:srgbClr val="6a96d3"/>
                </a:solidFill>
                <a:latin typeface="Arial"/>
              </a:rPr>
              <a:t>fixed exchange rate</a:t>
            </a:r>
            <a:r>
              <a:rPr b="1" lang="en-US" sz="2400" spc="-1" strike="noStrike">
                <a:solidFill>
                  <a:srgbClr val="000000"/>
                </a:solidFill>
                <a:latin typeface="Arial"/>
              </a:rPr>
              <a:t> </a:t>
            </a:r>
            <a:r>
              <a:rPr b="0" lang="en-US" sz="2400" spc="-1" strike="noStrike">
                <a:solidFill>
                  <a:srgbClr val="6a96d3"/>
                </a:solidFill>
                <a:latin typeface="Arial"/>
              </a:rPr>
              <a:t>system</a:t>
            </a:r>
            <a:r>
              <a:rPr b="0" lang="en-US" sz="2400" spc="-1" strike="noStrike">
                <a:solidFill>
                  <a:srgbClr val="000000"/>
                </a:solidFill>
                <a:latin typeface="Arial"/>
              </a:rPr>
              <a:t> countries fix their currencies against each other at a mutually agreed upon valu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e introduction of the euro, some European Union countries operated with fixed exchange rates within the context of the </a:t>
            </a:r>
            <a:r>
              <a:rPr b="0" lang="en-US" sz="2400" spc="-1" strike="noStrike">
                <a:solidFill>
                  <a:srgbClr val="6a96d3"/>
                </a:solidFill>
                <a:latin typeface="Arial"/>
              </a:rPr>
              <a:t>European Monetary System (E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ate the relative merits of fixed and floating exchange rate regimes.  From the perspective of an international business, what are the most important criteria in a choice between the systems?  Which system is the more desirable for an international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that Canada, the United States, and Mexico decide to adopt a fixed exchange rate system.  What would be the likely consequences of such a system for (a) international businesses and (b) the flow of trade and investment among the three count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read the Country Focus on the U.S. dollar, oil prices, and recycling petrodollars, then answer the following ques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at will happen to the value of the U.S. dollar if oil producers decide to invest most of their earnings from oil sales in domestic infrastructure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hat factors determine the relative attractiveness of dollar, euro, and yen denominated assets to oil producers flush with petrodollars?  What might lead them to direct more funds towards non-dollar denominated asse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at will happen to the value of the dollar if OPEC members decide to invest more of their petrodollars towards non-dollar assets, such as euro denominated stocks and bo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 addition to oil producers, China is also accumulating a large stock of dollars, currently estimated to total $1.4 trillion.  What would happen to the value of the dollar if China and oil producing nations all shifted out of dollar denominated assets at the same time?  What would be the consequence for the United States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400" spc="-1" strike="noStrike">
                <a:solidFill>
                  <a:srgbClr val="6a96d3"/>
                </a:solidFill>
                <a:latin typeface="Arial"/>
              </a:rPr>
              <a:t>Question: </a:t>
            </a:r>
            <a:r>
              <a:rPr b="0" lang="en-US" sz="2400" spc="-1" strike="noStrike">
                <a:solidFill>
                  <a:srgbClr val="000000"/>
                </a:solidFill>
                <a:latin typeface="Arial"/>
              </a:rPr>
              <a:t>What role does the international monetary system play in determining exchange ra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nswer this question, we have to look at the evolution of the international monetary system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ld Standard</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etton Woods system</a:t>
            </a:r>
            <a:endParaRPr b="0" lang="en-US" sz="2400" spc="-1" strike="noStrike">
              <a:solidFill>
                <a:srgbClr val="000000"/>
              </a:solidFill>
              <a:latin typeface="Arial"/>
            </a:endParaRPr>
          </a:p>
          <a:p>
            <a:pPr lvl="2" marL="1143000" indent="-228600">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tional Monetary Fund</a:t>
            </a:r>
            <a:endParaRPr b="0" lang="en-US" sz="2400" spc="-1" strike="noStrike">
              <a:solidFill>
                <a:srgbClr val="000000"/>
              </a:solidFill>
              <a:latin typeface="Arial"/>
            </a:endParaRPr>
          </a:p>
          <a:p>
            <a:pPr lvl="2" marL="1143000" indent="-228600">
              <a:spcBef>
                <a:spcPts val="601"/>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Gold Standard</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the Gold Standa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igin of the gold standard dates back to ancient times when gold coins were a medium of exchange, unit of account, and store of value</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cilitate trade, a system was developed so that payment could be made in paper currency that could then be converted to gold at a fixed rate of exchan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echanics of the Gold Standard</a:t>
            </a:r>
            <a:endParaRPr b="1" lang="en-US" sz="36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33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gold standard</a:t>
            </a:r>
            <a:r>
              <a:rPr b="0" lang="en-US" sz="2800" spc="-1" strike="noStrike">
                <a:solidFill>
                  <a:srgbClr val="000000"/>
                </a:solidFill>
                <a:latin typeface="Arial"/>
              </a:rPr>
              <a:t> refers to the practice of pegging currencies to gold and guaranteeing convertibility</a:t>
            </a:r>
            <a:endParaRPr b="0" lang="en-US" sz="2800" spc="-1" strike="noStrike">
              <a:solidFill>
                <a:srgbClr val="000000"/>
              </a:solidFill>
              <a:latin typeface="Arial"/>
            </a:endParaRPr>
          </a:p>
          <a:p>
            <a:pPr lvl="1" marL="735480" indent="-28296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gold standard one U.S. dollar was defined as equivalent to 23.22 grains of "fine (pure) gold</a:t>
            </a:r>
            <a:endParaRPr b="0" lang="en-US" sz="2800" spc="-1" strike="noStrike">
              <a:solidFill>
                <a:srgbClr val="000000"/>
              </a:solidFill>
              <a:latin typeface="Arial"/>
            </a:endParaRPr>
          </a:p>
          <a:p>
            <a:pPr marL="339480" indent="-33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change rate between currencies was based on the </a:t>
            </a:r>
            <a:r>
              <a:rPr b="0" lang="en-US" sz="2800" spc="-1" strike="noStrike">
                <a:solidFill>
                  <a:srgbClr val="6a96d3"/>
                </a:solidFill>
                <a:latin typeface="Arial"/>
              </a:rPr>
              <a:t>gold par value</a:t>
            </a:r>
            <a:r>
              <a:rPr b="0" lang="en-US" sz="2800" spc="-1" strike="noStrike">
                <a:solidFill>
                  <a:srgbClr val="000000"/>
                </a:solidFill>
                <a:latin typeface="Arial"/>
              </a:rPr>
              <a:t> (the amount of a currency needed to purchase one ounce of gol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ength of the Gold Standard</a:t>
            </a:r>
            <a:endParaRPr b="1" lang="en-US" sz="36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strength of the gold standard was its powerful mechanism for simultaneously achieving </a:t>
            </a:r>
            <a:r>
              <a:rPr b="0" lang="en-US" sz="2800" spc="-1" strike="noStrike">
                <a:solidFill>
                  <a:srgbClr val="6a96d3"/>
                </a:solidFill>
                <a:latin typeface="Arial"/>
              </a:rPr>
              <a:t>balance-of-trade equilibrium</a:t>
            </a:r>
            <a:r>
              <a:rPr b="0" lang="en-US" sz="2800" spc="-1" strike="noStrike">
                <a:solidFill>
                  <a:srgbClr val="000000"/>
                </a:solidFill>
                <a:latin typeface="Arial"/>
              </a:rPr>
              <a:t> (when the income a country’s residents earn from its exports is equal to the money its residents pay for imports) by all countri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today believe the world should return to the gold stand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56:32Z</dcterms:modified>
  <cp:revision>24</cp:revision>
  <dc:subject/>
  <dc:title>Slide 1</dc:title>
</cp:coreProperties>
</file>