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123E-0CB4-4588-AB89-DAB79540CD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9E9F-B4A2-4EB6-8BC3-7E9D739B0176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744C-6BDD-4DA6-A2CC-1C302AC540AF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0065-72F8-4955-A9D0-FD2D8B4C1B74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9C9-609A-4045-A9B8-CA1A2D1F2833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A0D7-35B7-419F-B45F-57F7C06B3042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C97-AFA2-4CC9-B131-AFD4BE766384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F0F-5752-4F35-9DD8-AF6120D82C21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4E35-4AC0-46CA-A376-FE1946704244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528-FF13-4C9A-9E17-C5E03FDCBBFA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131-8009-4719-9031-6CE937C4ECCD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671C-A7CF-492F-89F7-94B75FA45187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A54-D92E-47F6-A69E-6FF29B330B8F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71DC-7E77-4732-B66E-B979E9007F82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388-A7EE-481B-90C4-79DF128C28D5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F68-5B47-41A8-803F-CDAFD56E137D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3DF9-0ADE-4273-846E-A1BF74689F9C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65D-158B-43FD-8D0F-EDAA0B509ADB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21A-6AFC-4172-B1FE-86376A8163C7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F51-C9F5-4167-A461-641ED4B3202C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055E-A354-4CDE-95CC-BAB53138CDCC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3CA-77B0-43A3-933F-05ED09EAF93A}" type="slidenum">
              <a:rPr b="0" lang="zh-CN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ill Sans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739-0579-4BFA-BF24-8991BBF0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D59-7849-437F-9C8A-169353B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27-DD63-44CE-B67B-D5D0B18A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0BF-C2B0-4E95-9AA8-AA173998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0646-D47A-4C27-9337-5F1B9A1B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AA08-8662-4A96-A821-55C33C92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BBBC-B100-49F2-A740-6DB8D75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46D-3086-44F8-852F-6781765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19DF-0C9F-42EA-BB89-AD7BEE4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B8C6-BC68-4B82-B821-EE111BFF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410-EFA3-4247-A559-396C4EF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00E-A362-4635-BA52-9668975B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7F2-CAB7-437F-B923-8615CAB0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BEE-81C5-4EA7-8066-585C525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A2C0-BDB2-4779-8542-199D1AF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4EC-E41B-46BF-B134-BFCC794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15C-456D-474A-A83F-9E26F4D4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8627-31D1-44A6-B759-913C4DEE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F359-485E-4614-96D7-5AC1134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54B3-13E0-4345-A2BA-194D4C3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49D8-9BCC-436B-B4B0-09198378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757E-7E4D-47EB-9A17-E0BF7A19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8B8-EDBA-4375-A8BE-EAE6340C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3F79-CCAD-4B2B-A3DF-158021C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446E-16E8-4F32-AD63-4B4FA38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CEC1-FE13-4B2B-B67B-CECB571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0923-B5EA-4417-A3D0-190FB64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ABEE-B747-465A-AA54-C0D581F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5895-B578-4459-9F31-50FE88D7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7E9F-18F3-421D-AF54-9B2C673C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A233-8D25-4300-AB10-8B513B93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2F28-D144-4787-93A2-0055A18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BF15-55B6-4FAB-8415-E516DAD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B99-836A-44B0-A97D-DF1AC01F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4EB9-B662-4C7A-8AB0-C855EC0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98ED-D3A8-4ED2-9461-21E4BED7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AC61-337E-4D65-BDA1-4539EF8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9F58-F23B-4AC1-B00D-E899292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53ED-C48D-4239-87C7-43DBCCA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2500-B29D-4266-A57E-138942B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49E7-BED0-4A98-BFDC-D3E3959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353E-4B4B-4A02-A196-FC786F0A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B065-8C49-4EE4-98E9-17E571B5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AF-5ABD-455B-8CA1-8085B21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FFA-E020-4A73-B458-A9D902C5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91F-9DA9-49BF-9862-A4D1916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747-C7BA-4E47-8DF4-B497EE46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2A9-1344-4438-948D-EF9658F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453-29E4-4F62-80EF-BCB1A78FD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7B36-0112-412C-85B7-9D143F441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E41-876F-42D4-8469-69484C24B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230E-6B21-41F4-9A27-549EA054A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4520" y="3030480"/>
            <a:ext cx="1105524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oncepts and Cases 9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920680" y="5486040"/>
            <a:ext cx="9102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t I:  Strategic Management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apter 2:  The External Environmen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pportunities, Threa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dustry Competi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eti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xternal Environmen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pportunit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condition that, if exploited, helps a company achieve strategic competitivenes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Thre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condition that may hinder a company's efforts to achieve strategic competitivenes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xternal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4 components of External Environment Analysi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cann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Monitoring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Forecast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Assess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Segments of the General Environ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7 Segmen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Demographic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conomic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litical/Leg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ociocultur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echnologic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lob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hysic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Industr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Definition:  Group of firms producing products that are close substitut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ndustry environment, in comparison to the general environment, has more direct effect of firm’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trategic competitiveness and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bove-average returns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ntensity of industry competition and industry’s profit potential are a function of 5 forces (See next slide)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The Five Forces of Competition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Rectangle 3" descr=""/>
          <p:cNvPicPr/>
          <p:nvPr/>
        </p:nvPicPr>
        <p:blipFill>
          <a:blip r:embed="rId1"/>
          <a:stretch/>
        </p:blipFill>
        <p:spPr>
          <a:xfrm>
            <a:off x="4521240" y="2362320"/>
            <a:ext cx="73134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Porter’s 5 Forc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1/5:  New entra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Can threaten market share of existing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May bring additional production capac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Function of two fac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1:  Barriers to entry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conomies 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roduct different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apit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witch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ccess to distribution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st disadvantages independent 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Gov’t 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2:  Expected retalia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Porter’s 5 Forc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2/5:  Bargaining power of suppli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They are powerful when …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1. Few large companies and more concentrated than th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industry to which they sell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2. No substitut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3. Industry firms not significant customer to supplier gp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4. Supplier’s goods are critical to buyer’s succes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5. High switching costs due to effectiveness of supplier’s products 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6. Threat of forward integra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68960" y="2057400"/>
            <a:ext cx="7394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Porter’s 5 Forc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3/5:  Bargaining power of buy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They are powerful when …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1. Purchase large portion of industry’s total output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2. Product sales accounts for significant seller annual revenu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3. Low switching costs (to other industry product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4. Industry products are undifferentiated or standardized and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threat of backward integra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Porter’s 5 Forc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4/5:  Threat of substitute produc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Goods or services outside of given industry perform same or similar functions at a competitive price (i.e., plastic has replaced steel in many applications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5/5:  Intensity of Rivalry Among Competito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Numerous or equally balanced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low industry growth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High fixed costs or high storage cos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Lack of differentiation or low switching cos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High strategic stak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High exit barri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dustry Environment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Porter’s 5 Forc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5/5:  Intensity of Rivalry Among Competito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High exit barriers (Cont’d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1. Specialized assets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2. Fixed costs of exit (i.e., labor agreements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3. Strategic interrelationships (i.e., one business depends on another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4. Emotional barriers (i.e., loyalty to employees, etc.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5. Government and social restriction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Strategic Grou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Strategic Group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et of firms emphasizing similar strategic dimensions to use a similar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mplic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Because firms within a group compete (offer similar products) rivalry can be intense – the greater the rivalry the greater the threat to each firm’s profitabil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trengths of the 5 forces differs across strategic group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The closer the strategic groups, in terms of strategy, the greater the likelihood of rivalr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ompetito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Competitor analysis and organization response: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hat drives competito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hown by organization's future objectiv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hat the competitor is doing and can do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Revealed in organization's current strateg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hat the competitor believes about the industr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hown in organization's assump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hat the competitor’s capabilities are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Shown by organization's strengths and weakne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ompetitor Analysis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Rectangle 3" descr=""/>
          <p:cNvPicPr/>
          <p:nvPr/>
        </p:nvPicPr>
        <p:blipFill>
          <a:blip r:embed="rId1"/>
          <a:stretch/>
        </p:blipFill>
        <p:spPr>
          <a:xfrm>
            <a:off x="3378240" y="1828800"/>
            <a:ext cx="92502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ompetitor Analysi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Competitor intelligence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et of data and information the firm gathers to better understand and anticipate competitors' objectives, strategies, assumptions, and capabilitie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Intelligence Collection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Follow ethical practices when gathering competitor intelligenc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Obtain public inform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Attend trade fairs and shows and collect brochures, view exhibits, listen to their discuss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Some practices may be legal, but unethica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Unethical tactics can includ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Blackmai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respass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avesdropp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ealing drawings, samples or docu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ffects of External Environment:  Philip Morris International (PMI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Largest international market share and leading company in 11 of top 30 cigarette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Implementing strategies in anticipation of future external environmental condi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orking with foreign governments on regulatory framework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Opportunities in emerging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mokeless tobacco in anticipation of fewer smok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upport of sustainable farm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Waste reduction in manufactur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hapter 2:  The 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Opportunities, Threats, Industry Competi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nd Competitor Analys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Overview:  Seven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firm’s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and industry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xternal environment analysis process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 environment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Porter’s 5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rategic groups:  Definition and influe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 Analysis:  Intelligence and eth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General, Industry and Compet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Three External Environments include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ener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ndustry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mpetito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xternal Environment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General, Industry and Competitor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The General Environmen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e broader society dimensions that influence an industry and the firms with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rouped into 7 dimensions OR ‘environmental segments’ Each segment composed of ele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The External Environ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4597560" y="2286000"/>
            <a:ext cx="73213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2240" y="390240"/>
            <a:ext cx="112615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External Environmen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General, Industry and Competitor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2240" y="2276280"/>
            <a:ext cx="112615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Industry Environmen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et of factors directly influencing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 firm’s competitive actions/respon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Relates to Porter’s 5 Forces – see upcoming slid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Competitor analysis:  gather and interpret competitor inform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Competitor Environmen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Gives details about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 firm’s direct and indirect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The competitive dynamics expected to impact a firm's efforts to generate above-average return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Candy Tan</cp:lastModifiedBy>
  <dcterms:modified xsi:type="dcterms:W3CDTF">2010-06-07T01:25:43Z</dcterms:modified>
  <cp:revision>37</cp:revision>
  <dc:subject/>
  <dc:title>PART 2 Strategic Actions:  Strategy Formulation</dc:title>
</cp:coreProperties>
</file>