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2A9-88B1-4E49-A63D-0DE7673B7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862-F1BE-4CD4-A179-240309AB1D3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053-6338-4FDA-8879-FA7D2D6E38D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45E-2992-4061-90C8-99C50FBB03D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936-9C7B-4FB3-ACF9-24DF3F08F2C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2186-55DA-49BF-99DA-550906D1D9A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CCA-4EFD-4E96-84E0-87FC90D3F7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BF7-CF7C-4335-AA74-E26CCEC560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D557-E50F-4E9D-A910-81DA9A8E2B5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5C0-3A40-4814-8BBA-0C38F56C458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811-151F-4809-87B9-3D25281878E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935-32E3-4C21-8DAD-85F35D11A2D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332D-E76A-4E53-BCCD-2A336B3E347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1D1-203D-46E1-93AC-220EC4A72D1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E7D-F270-46C1-80F8-9D91659F1C1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899F-16A8-4E04-9A9F-4087BF8BF7F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6499-C5DA-4660-999C-0D865950F4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37A-8840-4DA9-A41E-7E6506F9A0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7577-E03D-4EAA-891A-AB5960D08CA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7D9-2A9D-4EC6-8204-9466CC00A9F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F7F-A51D-4005-B5B4-74598CE34B4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2A0-0658-4D7A-9428-DA2EF6FEE8A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DCD-38AB-4697-BFC4-5348C431530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05E-3BBA-4A2D-A229-2AEFD106764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811-1F8D-4F7A-87B1-E0D5A5CA73B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0E1C-228F-44C3-974A-310436C94BE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27D-C798-4A3B-AED0-5A8578D15E8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FEEE-70BA-4769-850B-561E444B892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0F64-1153-4F95-8D6F-7F5D2A958A5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F85-FF61-4DBE-99F8-C572F4955F8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5EE-7AE8-49CA-AF7E-68F1B0B3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0B9-F2C3-4FCA-8F0A-30022406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139-02A5-49D3-B86B-5E48788E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F94-D89C-45D9-B5A1-E307654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841F-00FE-4E96-8DF8-3FA41344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6FE9-B144-41DC-B4D1-A92B9E2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7908-A689-4561-9807-FEE7C48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E96-CDDD-44DE-B2F1-F761274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F777-FB7B-4782-874C-E0D5B50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215-042A-4103-B827-6696FED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2661-D2C5-4F7F-B577-C73D0D0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33B-91AB-4C6B-AD8F-373F6C2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AE7-ACCE-4C63-B5D5-3E37F3D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410-1FF2-4556-952A-8F4F2C8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580F-98AF-4930-9029-07B13CC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29F0-E02F-4686-B1A7-E5B2C8BE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D646-8AB3-461F-9923-FC9F5E34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A912-7CC9-444F-9C14-51C76A47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1CBD-FBB5-497F-9FDD-409690CD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FF95-FB6C-4317-BC9D-96EC3D5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7562-762D-40A9-BFBA-CFF9A43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666C-20A1-4E2C-934C-74D9F67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491-77CB-431D-8353-8A4A7245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5794-5052-4312-A1C6-C60CC94E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DCA7-8555-47E9-8735-E555486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2958-8069-4344-82CD-8DD02E7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FC1C-D8CF-4621-8407-F9A97AF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77C8-A746-4D39-9AC0-AB1CF02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3EF5-2CF1-400F-8718-BC1ACFC7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F500-DAA6-4BCE-B801-74B01247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6C9A-0B09-4503-B892-4DB4773B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0568-BA23-4DBB-8B4F-A4E7E0C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D821-4D92-4075-BE13-DE1BE6F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5C7-C52A-4698-8AFF-C148F1CB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51AE-7CF3-4998-81E3-875305A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56D8-36DB-460C-A8DF-718F08A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68ED-59A5-409A-AD63-99E104B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032A-A782-4B2A-A1C6-5A0F4BA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5C90-0713-4097-8E17-46D9B75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18F0-8BC9-43FA-9400-CCB289B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C1D4-4199-4F8A-BB08-F64DB8A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570F-24DC-43D8-9DCB-1A00D610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5FCF-A681-45CE-9B7E-F4C72AAA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D7C-6638-46D1-9660-C5202F5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B9B-4AAB-48CD-8488-60C90E5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B75-02B6-4D1A-9EF9-A1DDBF0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067-B484-4159-8E4F-768F607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0EB-AE47-46B9-A4A8-9DC9F37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1E6-C5CE-4C27-9459-48F06AD6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C92-8764-477A-930D-828E93A9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9B66-9581-4AFD-AC23-018CB9C8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2F7-9F56-4947-A7A1-FF31C32B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560" y="3030480"/>
            <a:ext cx="853452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825800" y="5105520"/>
            <a:ext cx="70866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II:  Strategic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4:  Business-Leve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stomers:  Their Relationship with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ve components in customer relationship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Who:  Determining the customers to serv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Dividing customers into groups based on differences in need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rocess used to cluster people with similar needs into individual and identifiable group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For example, consumer and industrial marke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stomers:  Their Relationship with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ve components of customer relationship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4. What:  Determining which customer needs to satisf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What = Need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lated to a product’s benefits and featur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ust anticipate and be prepared:  (I.e., High-quality?  Low price?)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ranslate into features and performance capabilities of produc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5. How:  Determining core competencies necessary to satisfy customer need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re competencies:  resources and capabilities that serve as source of competitive advantage for firm over its riva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ow = core competenci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4:  Business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Fiv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ing business-level strateg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ionship between customers and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ifferences in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5-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Risks of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rpose of Business-Level (BL)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urpose: To create differences between position  of a firm and its competit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rm must make a deliberate choice to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erform activities differentl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erform different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ctivity map exemplifies a firm’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ow they are integrat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outhwest Airline’s activity map:  Note the primary (N=6) and secondary nodes/activities and the ‘connectedness’ or f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t is key to the sustainability of competitive advantag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thwest Airlines’ Activity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4521240" y="2590920"/>
            <a:ext cx="69739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rpose of Business-Level (BL)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’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wo types of competitive advantage firms must choose betwee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st (Are we LOWER than others?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niqueness (Are we DIFFERENT?  How?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wo types of ‘competitive scope’ firms must choose betwee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road targ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Narrow targ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ese combine to yield 5 different BL strateg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ve Business-Level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4597560" y="2514600"/>
            <a:ext cx="702936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Cost Leadership (CL)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dvantage:  THE low-cost leader and operates with margins greater than competito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scope:  Broa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grated set of actions designed to produce or deliver goods or services with features that are acceptable to customers at the lowest cost, relative to competitor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No-frill, standardized good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inuously reduce costs of value chain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bound/outbound logistics account for significant cos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ow-cost position is a valuable defense against riva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Cost Leadership (CL)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st leaders are in a position to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bsorb supplier price increases and relationship demand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orce suppliers to hold down their pric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inuously improving levels of efficiency and cost reduction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an be difficult to replicate and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erve as significant entry barriers to potential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st leaders hold an attractive position in terms of product substitutes, with the flexibility to lower prices to retain customers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amples:  Greyhound Bus, Big Lots Inc., Wal-Mar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 of Value-Creating Activitie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ociated with the Cost Leadership Strateg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Rectangle 3" descr=""/>
          <p:cNvPicPr/>
          <p:nvPr/>
        </p:nvPicPr>
        <p:blipFill>
          <a:blip r:embed="rId1"/>
          <a:stretch/>
        </p:blipFill>
        <p:spPr>
          <a:xfrm>
            <a:off x="3987720" y="2438280"/>
            <a:ext cx="8471160" cy="58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8880" y="217080"/>
            <a:ext cx="125712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ategic Management Pro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26160" y="1828800"/>
            <a:ext cx="74358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Cost Leadership (CL)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 relationship to the 5 Forces: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ivalry against existing competitors:  Rivals hesitate to compete on the basis of pric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argaining Power of Buyers (Customers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argaining Power of Suppliers 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otential Entrants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duct Substitut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Risks of the cost leadership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ource of cost advantage becomes obsole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cus on cost may cause the firm to overlook important customer preferen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Differenti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dvantage:  Different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scope:  Broa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grated set of actions designed by a firm to produce or deliver goods or services at an acceptable cost that customers perceive as being different in ways that are important to them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arget customers perceive product valu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ustomized products  – differentiating on as many features as possibl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amples:  Apple’s iPo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 of Value-Creating Activitie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ociated with the Differentiation Strateg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1"/>
          <a:stretch/>
        </p:blipFill>
        <p:spPr>
          <a:xfrm rot="5400000">
            <a:off x="5190480" y="1464120"/>
            <a:ext cx="5905440" cy="84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Differentiation 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 relationship to the 5 Forces: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ivalry against existing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Customers are loyal purchasers of differentiated produc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.e., Bos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argaining Power of Buyers (Customers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nverse relationship between loyalty/product:  As loyalty increases, price sensitivity decreas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.e., Callaway golf club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argaining Power of Suppliers 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rovide high quality components, driving up firm’s cos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Cost may be passed on to customer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otential Entrants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ubstantial barriers (see above) and would require significant resource investment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duct Substitut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504080" indent="-21456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Customer loyalty effectively positions firm against product substitut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Risks of the differentiation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ustomers determine that the cost of differentiation is too grea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 means of differentiation may cease to provide value for which customers are willing to pa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perience can narrow customers’ perceptions of the value of a product’s differentiated featur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unterfeit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ere are two “Focus” strateg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 general, the firms’ core competencies used to serve the need of a particular industry segment or niche to the exclusion of others.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y lack resources to compete in the broader marke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y be able to more effectively serve a narrow market segment than larger industry-wide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s may direct resources to certain value chain activities to build competitive advantag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arge firms may overlook small nich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cus strategy exampl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uyer group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Youths/senior citize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t line seg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fessional painter group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eographic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West vs. East coast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. Focused Cost Leader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dvantage: Low-cos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scope:  Narrow industry seg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4. Focused Differenti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advantage: Different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scope:  Narrow industry seg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.e., in the outdoor recreation business a firm that caters to fly fishing is following a focused differentiation strategy (as opposed to discount stores that carry general fishing gear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High quality equipment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Knowledgeable personnel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Guided tour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Fly tying class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4:  Business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Fiv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ing business-level strateg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ionship between customers and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ces in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5-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isks of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isk of using “Focus” strategi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 competitor may be able to focus on a more narrowly defined competitive segment and "outfocus” the focus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 company competing on an industry-wide basis may decide that the market segment served by the focus strategy firm is attractive and worthy of competitive pursu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ustomer needs within a narrow competitive segment may become more similar to those of industry-wide customers as a whole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5. Integrated CL/Differenti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fficiently produce products with differentiated attribut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fficiency:  Sources of low cos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fferentiation:  Source of unique valu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an adapt to new technology and rapid changes in 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imultaneously concentrate on TWO sources of competitive advantage:  cost and differentiation – consequently…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ust be competent in many of the primary and support activitie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sources of flexibility useful for this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flexible sources includ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lexible manufacturing systems (FMS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mputer controlled process used to produce a variety of products in moderate, flexible quantities with a minimum of manual interven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Goal:  eliminate ‘low cost vs. product variety, tradeoff inherent in traditional manufacturing technologi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formation networ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Using technology to link suppliers, distributors and custom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tal Quality Management (TQM) system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mphasizes firm’s total commitment to the customer and continuous improvement of every process through data-driven, problem-solving approaches based on empowering employe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ypes of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ompetitive Risks of Integrated Strateg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lthough becoming more popular the RISK is getting ‘stuck in the middle’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st structure is not low enough for attractive pricing of products and products not sufficiently differentiated to create value for target customer – therefore, fail to successfully implement either low cost or differentiation strateg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esult:  Don’t earn above-average retur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er Group’s Cost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 PC brands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c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atewa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ackard Bel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Machin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lements of Acer’s Low Cost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ales only through retail/other outlets (no direct sales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utsource all manufacturing and assembl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ight control of overhead cost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cer overhead-8% of sales; HP–15%; Dell–14%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cus on consumers and small/mid-size business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4:  Business-Leve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Fiv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efining business-level strateg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Relationship between customers and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fferences in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5-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isks of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y:  Increasingly important to a firm’s success and concerned with making choices among two or more alternatives. Choices dictated by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ternal environ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resources, capabilities and core competenc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usiness level-strategy:  Integrated and coordinated set of commitments and actions the firm uses to gain a competitive advantage by exploiting core competencies in specific product marke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atisfying customers is the foundation of successful business strateg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ing relationships with custom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ach, richness, affil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Who will be serv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What needs will be satisfi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ow those needs will be satisfi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ve (5) generic business level strategie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eneric = can be used in any organization competing   in any industr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llows the discussion of custom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stomers:  Their Relationship with Business-Level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competitiveness results when firm can satisfy customers by using its competitive advantag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turns earned are the lifeblood of firm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st successful companies satisfy current customers and/or meet needs of new custome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stomers:  Their Relationship with Business-Level Strateg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ve components in customer relationship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Effectively managing relationships w/ custom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liver superior valu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ong interactive relationships is found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Reach, richness and affil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ccess and connection to custom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pth and detail of two-way flow of information between firm and custome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acilitating useful interactions with custom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6:54Z</dcterms:modified>
  <cp:revision>40</cp:revision>
  <dc:subject/>
  <dc:title>PART 2 Strategic Actions:  Strategy Formulation</dc:title>
</cp:coreProperties>
</file>