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1D084C4-B82B-4EDA-B6F8-C679FA014ECA}"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tescocorporate.com/home.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EC37579-EDA9-4FB7-9F0C-B8BEB5E667E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0" name="PlaceHolder 1"/>
          <p:cNvSpPr>
            <a:spLocks noGrp="1"/>
          </p:cNvSpPr>
          <p:nvPr>
            <p:ph type="sldImg"/>
          </p:nvPr>
        </p:nvSpPr>
        <p:spPr>
          <a:xfrm>
            <a:off x="536400" y="531720"/>
            <a:ext cx="2356200" cy="1766880"/>
          </a:xfrm>
          <a:prstGeom prst="rect">
            <a:avLst/>
          </a:prstGeom>
          <a:ln w="0">
            <a:noFill/>
          </a:ln>
        </p:spPr>
      </p:sp>
      <p:sp>
        <p:nvSpPr>
          <p:cNvPr id="23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The Jollibee Phenomenon—A Philippine Multinationa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describes the remarkable success story of Jollibee.  Jollibee, a fast food chain from the Philippines, not only stood its ground when McDonald’s invaded its market in 1981, but also managed to find the weaknesses in the larger company’s global strategy and capitalize on them.  Jollibee, unlike McDonald’s, tailored its menu to the local market.  The company was able to build on this localization strategy as it expanded into neighboring Asian countries and the Middle East.  Today, Jollibee has even managed to find success in the United States where it is being hailed as a strong niche player.  Discussion of the feature can begin with the following ques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How would Christopher Bartlett and Sumantra Ghoshal view Jollibee’s performance to da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any students will probably suggest that Bartlett and Ghoshal would have a positive view of Jollibee’s performance so far.  Jollibee has managed to survive McDonald’s push into the Philippines, learn from the company, and even capitalize on gaps in McDonald’s strategy of having an essentially standardized marketing approach.  Now, Jollibee has successfully entered McDonald’s home market, and become a niche player in the fast food industry, and is making plans to expand into Ind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key difference between McDonald’s global strategy and that of Jollibee is that McDonald’s sees its path to success as offering a fairly standardized menu everywhere whereas Jollibee views localization as its ticket to success.  In your opinion, would Jollibee have achieved its current position in the market if the company had standardized its menu like McDonald’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probably argue that Jollibee’s competitive advantage is that it offers fast food tailored to local tastes, and that if the company pursued a standardized approach it would have failed.  Students might note that McDonald’s global success with this strategy is due in part to the fact that it is a symbol of America, and as such offers an American experience in other markets.  Because Jollibee does not have this type of global reputation, it must look for alternative ways to compe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It is worth visiting Jollibee’s web page to see the American influence on the company.  Go to {http://www.jollibee.com.ph/} and click on “International” to explore some of the company’s foreign locations.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3BE4BD4-8E1D-4F6C-9865-24ED962E312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3" name="PlaceHolder 1"/>
          <p:cNvSpPr>
            <a:spLocks noGrp="1"/>
          </p:cNvSpPr>
          <p:nvPr>
            <p:ph type="sldImg"/>
          </p:nvPr>
        </p:nvSpPr>
        <p:spPr>
          <a:xfrm>
            <a:off x="536400" y="531720"/>
            <a:ext cx="2356200" cy="1766880"/>
          </a:xfrm>
          <a:prstGeom prst="rect">
            <a:avLst/>
          </a:prstGeom>
          <a:ln w="0">
            <a:noFill/>
          </a:ln>
        </p:spPr>
      </p:sp>
      <p:sp>
        <p:nvSpPr>
          <p:cNvPr id="23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739E0D8-C1B0-4153-A44D-61E8AA68BB2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6" name="PlaceHolder 1"/>
          <p:cNvSpPr>
            <a:spLocks noGrp="1"/>
          </p:cNvSpPr>
          <p:nvPr>
            <p:ph type="sldImg"/>
          </p:nvPr>
        </p:nvSpPr>
        <p:spPr>
          <a:xfrm>
            <a:off x="536400" y="531720"/>
            <a:ext cx="2356200" cy="1766880"/>
          </a:xfrm>
          <a:prstGeom prst="rect">
            <a:avLst/>
          </a:prstGeom>
          <a:ln w="0">
            <a:noFill/>
          </a:ln>
        </p:spPr>
      </p:sp>
      <p:sp>
        <p:nvSpPr>
          <p:cNvPr id="2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E8B676C-AC2B-45EF-BFEC-918FC682A05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9" name="PlaceHolder 1"/>
          <p:cNvSpPr>
            <a:spLocks noGrp="1"/>
          </p:cNvSpPr>
          <p:nvPr>
            <p:ph type="sldImg"/>
          </p:nvPr>
        </p:nvSpPr>
        <p:spPr>
          <a:xfrm>
            <a:off x="536400" y="531720"/>
            <a:ext cx="2356200" cy="1766880"/>
          </a:xfrm>
          <a:prstGeom prst="rect">
            <a:avLst/>
          </a:prstGeom>
          <a:ln w="0">
            <a:noFill/>
          </a:ln>
        </p:spPr>
      </p:sp>
      <p:sp>
        <p:nvSpPr>
          <p:cNvPr id="24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Developing an export plan is a first step for any company that is preparing to expand internationally via exports.  The Business Link offers a great site where companies can get started on the process.  Go to the site {http://sbinfocanada.about.com/od/canadaexport/a/10exportsteps.htm}, and click on 10 Steps to Successful Exporting.  One of the key elements in a successful strategy is the export pl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Export Plan, and download the file Writing an Export Plan.  To better understand the process for companies, go through the plan and sketch out your own business pla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A9FCD13-7757-454E-A7E4-2E19E3EACD7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2" name="PlaceHolder 1"/>
          <p:cNvSpPr>
            <a:spLocks noGrp="1"/>
          </p:cNvSpPr>
          <p:nvPr>
            <p:ph type="sldImg"/>
          </p:nvPr>
        </p:nvSpPr>
        <p:spPr>
          <a:xfrm>
            <a:off x="536400" y="531720"/>
            <a:ext cx="2356200" cy="1766880"/>
          </a:xfrm>
          <a:prstGeom prst="rect">
            <a:avLst/>
          </a:prstGeom>
          <a:ln w="0">
            <a:noFill/>
          </a:ln>
        </p:spPr>
      </p:sp>
      <p:sp>
        <p:nvSpPr>
          <p:cNvPr id="24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045A9EC-AA9D-4922-BF66-C35AFF304AC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5" name="PlaceHolder 1"/>
          <p:cNvSpPr>
            <a:spLocks noGrp="1"/>
          </p:cNvSpPr>
          <p:nvPr>
            <p:ph type="sldImg"/>
          </p:nvPr>
        </p:nvSpPr>
        <p:spPr>
          <a:xfrm>
            <a:off x="536400" y="531720"/>
            <a:ext cx="2356200" cy="1766880"/>
          </a:xfrm>
          <a:prstGeom prst="rect">
            <a:avLst/>
          </a:prstGeom>
          <a:ln w="0">
            <a:noFill/>
          </a:ln>
        </p:spPr>
      </p:sp>
      <p:sp>
        <p:nvSpPr>
          <p:cNvPr id="24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b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5DFE94B-B9DF-4A8B-AF53-21E390C0344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8" name="PlaceHolder 1"/>
          <p:cNvSpPr>
            <a:spLocks noGrp="1"/>
          </p:cNvSpPr>
          <p:nvPr>
            <p:ph type="sldImg"/>
          </p:nvPr>
        </p:nvSpPr>
        <p:spPr>
          <a:xfrm>
            <a:off x="536400" y="531720"/>
            <a:ext cx="2356200" cy="176688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Tesco’s global expansion strategy has been rather unique in the grocery industry.  Rather than competing head-to-head with established retailers in developed markets like the United States and Western Europe, Tesco chose to pursue markets with strong growth potential, but little current competition.  The strategy allows the company to use its expertise to grow international market share, without incurring the costs of establishing itself in already crowded marke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The keys to Tesco’s success in its international operations is its ability to spot markets with strong underlying growth trends, identify existing companies in those locations that have a deep understanding of the local market, form a joint venture with those companies and transfer its expertise in the industry to the venture, and later buy the partner out.  The strategy is highly successful, supplementing the company’s United Kingdom earnings with an additional ₤7.6 billion in revenues in 2007.  Tesco is now the number four company in the global grocery indust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Tesco’s strategy of entering foreign markets via joint ventures has proven to be highly successful.  The company is able to bring its expertise in retailing as well as its financial strength to the venture where it is paired with the partner’s knowledge of the local market.  Local managers are hired to run the operations, with only support coming from expatriate managers.  This format allows Tesco to use its core strengths to get into the market, and then later, after the ventures have become established, buy out its partn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Most students will probably agree that while Tesco’s entry into the crowded market in the United States represents a departure from its traditional strategy of focusing on developing nations with little existing competition, the strategy still reflects the company’s traditional strategy in that the format the company has chosen to use, Tesco Express, still avoids the head-to-head competition that the company has steered clear of in developing markets.  In that sense, the strategy could prove to be highly successful.  The company can enter the market using its Tesco Express format, avoid major competition while it gains brand recognition and experience in the market, and then later, expand into the traditional grocery business. </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428DAF2-3A6D-49F6-9FAA-FB4AD3D1F51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1" name="PlaceHolder 1"/>
          <p:cNvSpPr>
            <a:spLocks noGrp="1"/>
          </p:cNvSpPr>
          <p:nvPr>
            <p:ph type="sldImg"/>
          </p:nvPr>
        </p:nvSpPr>
        <p:spPr>
          <a:xfrm>
            <a:off x="536400" y="531720"/>
            <a:ext cx="2356200" cy="1766880"/>
          </a:xfrm>
          <a:prstGeom prst="rect">
            <a:avLst/>
          </a:prstGeom>
          <a:ln w="0">
            <a:noFill/>
          </a:ln>
        </p:spPr>
      </p:sp>
      <p:sp>
        <p:nvSpPr>
          <p:cNvPr id="25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statement is basically correct - licensing proprietary technology to foreign competitors does significantly increase the risk of losing the technology.  Therefore, licensing should generally be avoided in these situations.  Yet licensing still may be a good choice in some instances.  When a licensing arrangement can be structured in such a way as to reduce the risks of a firm's technological know-how being expropriated by licensees, then licensing may be appropriate.  A further example is when a firm perceives its technological advantage as being only transitory, and it considers rapid imitation of its core technology by competitors to be likely.  In such a case, the firm might want to license its technology as rapidly as possible to foreign firms in order to gain global acceptance for its technology before imitation occurs.  Such a strategy has some advantages.  By licensing its technology to competitors, the firm may deter them from developing their own, possibly superior, technology.  And by licensing its technology the firm may be able to establish its technology as the dominant design in the industry.  In turn, this may ensure a steady stream of royalty payments.  Such situations apart, however, the attractions of licensing are probably outweighed by the risks of losing control over technology, and licensing should be avoided.</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124FFA0-745C-42BB-B1FA-619BA4C637E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4" name="PlaceHolder 1"/>
          <p:cNvSpPr>
            <a:spLocks noGrp="1"/>
          </p:cNvSpPr>
          <p:nvPr>
            <p:ph type="sldImg"/>
          </p:nvPr>
        </p:nvSpPr>
        <p:spPr>
          <a:xfrm>
            <a:off x="536400" y="531720"/>
            <a:ext cx="2356200" cy="1766880"/>
          </a:xfrm>
          <a:prstGeom prst="rect">
            <a:avLst/>
          </a:prstGeom>
          <a:ln w="0">
            <a:noFill/>
          </a:ln>
        </p:spPr>
      </p:sp>
      <p:sp>
        <p:nvSpPr>
          <p:cNvPr id="25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f a firm’s competitive advantage (its core competence) is based on control over proprietary technological know-how, licensing and joint venture arrangements should be avoided if possible so that the risk of losing control over that technology is minimized.  For firms with a competitive advantage based on management know-how, the risk of losing control over the management skills to franchisees or joint venture partners is not that great. Consequently, many service firms favor a combination of franchising and subsidiaries to control the franchises within particular countries or regions.  The subsidiaries may be wholly owned or joint ventures, but most service firms have found that joint ventures with local partners work best for controlling subsidiaries. </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D5FCCDF-54FC-4345-A7AE-3A0AAF4AAB3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7" name="PlaceHolder 1"/>
          <p:cNvSpPr>
            <a:spLocks noGrp="1"/>
          </p:cNvSpPr>
          <p:nvPr>
            <p:ph type="sldImg"/>
          </p:nvPr>
        </p:nvSpPr>
        <p:spPr>
          <a:xfrm>
            <a:off x="536400" y="531720"/>
            <a:ext cx="2356200" cy="1766880"/>
          </a:xfrm>
          <a:prstGeom prst="rect">
            <a:avLst/>
          </a:prstGeom>
          <a:ln w="0">
            <a:noFill/>
          </a:ln>
        </p:spPr>
      </p:sp>
      <p:sp>
        <p:nvSpPr>
          <p:cNvPr id="25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f there were no significant barriers to exporting, then option (iii) would seem unnecessarily risky and expensive.  After all, the transportation costs required to ship drugs are small relative to the value of the product.  Both options (i) and (ii) would expose the firm to less risk of technological loss, and would allow the firm to maintain much tighter control over the quality and costs of the drug.  The only other reason to consider option (iii) would be if an existing pharmaceutical firm could also give it much better access to the market and potentially access to its products and technology, and that this same firm would insist on the 50/50 manufacturing joint venture rather than agreeing to be a foreign sales agent.  The choice between (i) and (ii) boils down to a question of which way will be the most effective in attacking the market.  If a foreign sales agent can be found that is already quite familiar with the market and who will agree to aggressively market the product, the agent may be able to increase market share more quickly than a wholly owned marketing subsidiary that will take some time to get going.  On the other hand, in the long run the firm will learn a great deal more about the market and will likely earn greater profits if sets up its own sales forc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000FDC7-FDA2-4D24-95C5-3F3E3490F84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7" name="PlaceHolder 1"/>
          <p:cNvSpPr>
            <a:spLocks noGrp="1"/>
          </p:cNvSpPr>
          <p:nvPr>
            <p:ph type="sldImg"/>
          </p:nvPr>
        </p:nvSpPr>
        <p:spPr>
          <a:xfrm>
            <a:off x="536400" y="531720"/>
            <a:ext cx="2356200" cy="1766880"/>
          </a:xfrm>
          <a:prstGeom prst="rect">
            <a:avLst/>
          </a:prstGeom>
          <a:ln w="0">
            <a:noFill/>
          </a:ln>
        </p:spPr>
      </p:sp>
      <p:sp>
        <p:nvSpPr>
          <p:cNvPr id="22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Tesco’s International Growth Strateg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describes Tesco’s international expansion strategy.  Tesco, the British grocer, has established operations in a number of foreign countries.  Typically, the company seeks underdeveloped markets in developing nations where it can avoid the head-to-head competition that goes on in more crowded markets, and then enters those markets via joint ventures where the local partner provides knowledge of the market while Tesco provides retailing expertise. Discussion of the feature can revolve around the follow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flect on Tesco’s decision to expand internationally primarily through establishing operations in developing countries.  What makes these countries attractive to Tesc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When companies make the decision to expand into new markets, they must balance the benefits, costs, and risks of doing business in each market.  In Tesco’s case, developing markets were attractive not only because of their size, but also because of the likely future wealth of customers.  To increase its chances for success, Tesco has focused on those markets where there are few capable indigenous competitors.   Today, Tesco has more than 800 stores outside its home country of the United Kingdom, which generate £7.6 in annually revenu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Why does Tesco believe it is important to transfer its core capabilities to new ventures?  How have the company’s partners helped it find success in foreign loca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esco’s success in international markets is remarkable.  In 2005, every one of the company’s foreign ventures was profitable.  The company attributes its success to the transfer of its core competencies to each location.  At the same time, the company believes that local management is important, and so it hires locally, but provides oversight from the United Kingdom.  Tesco also feels that its partners in Asia, and their deep knowledge of the local market have played a significant role in its success in the reg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 To learn more about Tesco’s international operations, go to {</a:t>
            </a:r>
            <a:r>
              <a:rPr b="0" lang="en-US" sz="1000" spc="-1" strike="noStrike" u="sng">
                <a:solidFill>
                  <a:srgbClr val="ccccff"/>
                </a:solidFill>
                <a:uFillTx/>
                <a:latin typeface="Times New Roman"/>
                <a:hlinkClick r:id="rId1"/>
              </a:rPr>
              <a:t>http://www.tescocorporate.com/home.ht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a:t>
            </a:r>
            <a:fld id="{2FA1A6AC-6735-4CE8-901D-7E906D9CABAC}"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ummary</a:t>
            </a:r>
            <a:endParaRPr b="1" lang="en-US" sz="36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right” decisions with foreign market entry, just decisions that are associated with different levels of risk and reward </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in developing countries can learn from the experiences of firms in developed count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me and effort in learning the rules of a new market, failure due to ignorance, and the liability of being a foreigner are all examples of </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rst mover advantage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ategic commitment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oneering cost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et entry cost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ntry Modes</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is the best way to enter a foreign market?</a:t>
            </a:r>
            <a:endParaRPr b="0" lang="en-US" sz="2400" spc="-1" strike="noStrike">
              <a:solidFill>
                <a:srgbClr val="000000"/>
              </a:solidFill>
              <a:latin typeface="Arial"/>
            </a:endParaRPr>
          </a:p>
          <a:p>
            <a:pPr marL="457200" indent="-4572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enter foreign market through</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key projects</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hising</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ventures </a:t>
            </a:r>
            <a:endParaRPr b="0" lang="en-US" sz="2400" spc="-1" strike="noStrike">
              <a:solidFill>
                <a:srgbClr val="000000"/>
              </a:solidFill>
              <a:latin typeface="Arial"/>
            </a:endParaRPr>
          </a:p>
          <a:p>
            <a:pPr lvl="1" marL="838080" indent="-38088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ies </a:t>
            </a:r>
            <a:endParaRPr b="0" lang="en-US" sz="2400" spc="-1" strike="noStrike">
              <a:solidFill>
                <a:srgbClr val="000000"/>
              </a:solidFill>
              <a:latin typeface="Arial"/>
            </a:endParaRPr>
          </a:p>
          <a:p>
            <a:pPr marL="457200" indent="-4572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 has advantages and disadvantag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ing</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Exporting </a:t>
            </a:r>
            <a:r>
              <a:rPr b="0" lang="en-US" sz="2400" spc="-1" strike="noStrike">
                <a:solidFill>
                  <a:srgbClr val="000000"/>
                </a:solidFill>
                <a:latin typeface="Arial"/>
              </a:rPr>
              <a:t>is often the first method firms use to enter foreign market</a:t>
            </a:r>
            <a:endParaRPr b="0" lang="en-US" sz="2400" spc="-1" strike="noStrike">
              <a:solidFill>
                <a:srgbClr val="000000"/>
              </a:solidFill>
              <a:latin typeface="Arial"/>
            </a:endParaRPr>
          </a:p>
          <a:p>
            <a:pPr marL="332640" indent="-3326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 is attractive because </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low cost</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may achieve experience curve  economies</a:t>
            </a:r>
            <a:endParaRPr b="0" lang="en-US" sz="2400" spc="-1" strike="noStrike">
              <a:solidFill>
                <a:srgbClr val="000000"/>
              </a:solidFill>
              <a:latin typeface="Arial"/>
            </a:endParaRPr>
          </a:p>
          <a:p>
            <a:pPr marL="332640" indent="-3326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 is not attractive when </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cost manufacturing locations exist</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costs are high</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barriers are high</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agents fail to in the exporter’s best interest</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urnkey Projects</a:t>
            </a:r>
            <a:endParaRPr b="1" lang="en-US" sz="36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Turnkey projects</a:t>
            </a:r>
            <a:r>
              <a:rPr b="1" lang="en-US" sz="2800" spc="-1" strike="noStrike">
                <a:solidFill>
                  <a:srgbClr val="000000"/>
                </a:solidFill>
                <a:latin typeface="Arial"/>
              </a:rPr>
              <a:t> </a:t>
            </a:r>
            <a:r>
              <a:rPr b="0" lang="en-US" sz="2800" spc="-1" strike="noStrike">
                <a:solidFill>
                  <a:srgbClr val="000000"/>
                </a:solidFill>
                <a:latin typeface="Arial"/>
              </a:rPr>
              <a:t>involve a contractor that agrees to handle every detail of the project for a foreign client, including the training of operating personnel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completion of the contract, the foreign client is handed the "key" to a plant that is ready for full oper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urnkey Projects</a:t>
            </a:r>
            <a:endParaRPr b="1" lang="en-US" sz="36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key projects are attractive becaus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low firms to earn great economic returns from the know-how required to assemble and run a technologically complex proces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less risky in countries where the political and economic environment is such that a longer-term investment might expose the firm to unacceptable political and/or economic risk</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key projects are not attractive when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s process technology is a source of competitive advan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icensing</a:t>
            </a:r>
            <a:endParaRPr b="1" lang="en-US" sz="36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3. Licensing</a:t>
            </a:r>
            <a:r>
              <a:rPr b="0" lang="en-US" sz="2000" spc="-1" strike="noStrike">
                <a:solidFill>
                  <a:srgbClr val="000000"/>
                </a:solidFill>
                <a:latin typeface="Arial"/>
              </a:rPr>
              <a:t> is an arrangement whereby a licensor grants the rights to intangible property to another entity (the licensee) for a specified time period, and in return, the licensor receives a royalty fee from the licensee</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angible property includes patents, inventions, formulas, processes, designs, copyrights, and trademarks</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sing is attractive when </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does not have to bear the development costs and risks associated with opening a foreign market</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avoids barriers to investment</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lows a firm with intangible property that might have business applications, but which doesn’t want to develop those applications itself, to capitalize on market 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icensing</a:t>
            </a:r>
            <a:endParaRPr b="1" lang="en-US" sz="3600" spc="-1" strike="noStrike">
              <a:solidFill>
                <a:srgbClr val="c6040b"/>
              </a:solidFill>
              <a:latin typeface="Arial"/>
            </a:endParaRPr>
          </a:p>
        </p:txBody>
      </p:sp>
      <p:sp>
        <p:nvSpPr>
          <p:cNvPr id="18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 is unattractive when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doesn’t have the tight control over manufacturing, marketing, and strategy necessary to realize experience curve and location economi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s ability to coordinate strategic moves across countries by using profits earned in one country to support competitive attacks in another is compromised</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the potential for loss of proprietary (or intangible) technology or propert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this risk, firms can use cross-licensing agreements or link the agreement with the decision to form a joint ven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Franchising</a:t>
            </a:r>
            <a:endParaRPr b="1" lang="en-US" sz="36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4. Franchising</a:t>
            </a:r>
            <a:r>
              <a:rPr b="0" lang="en-US" sz="2400" spc="-1" strike="noStrike">
                <a:solidFill>
                  <a:srgbClr val="000000"/>
                </a:solidFill>
                <a:latin typeface="Arial"/>
              </a:rPr>
              <a:t> is a form of licensing in which the franchisor sells intangible property to the franchisee, and requires the franchisee agree to abide by strict rules as to how it does business</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hising is attractive because </a:t>
            </a:r>
            <a:endParaRPr b="0" lang="en-US" sz="2400" spc="-1" strike="noStrike">
              <a:solidFill>
                <a:srgbClr val="000000"/>
              </a:solidFill>
              <a:latin typeface="Arial"/>
            </a:endParaRPr>
          </a:p>
          <a:p>
            <a:pPr lvl="1" marL="735480" indent="-28296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avoid many costs and risks of opening up a foreign market</a:t>
            </a:r>
            <a:endParaRPr b="0" lang="en-US" sz="2400" spc="-1" strike="noStrike">
              <a:solidFill>
                <a:srgbClr val="000000"/>
              </a:solidFill>
              <a:latin typeface="Arial"/>
            </a:endParaRPr>
          </a:p>
          <a:p>
            <a:pPr marL="339480" indent="-33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hising is unattractive because</a:t>
            </a:r>
            <a:endParaRPr b="0" lang="en-US" sz="2400" spc="-1" strike="noStrike">
              <a:solidFill>
                <a:srgbClr val="000000"/>
              </a:solidFill>
              <a:latin typeface="Arial"/>
            </a:endParaRPr>
          </a:p>
          <a:p>
            <a:pPr lvl="1" marL="735480" indent="-28296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inhibit the firm's ability to take profits out of one country to support competitive attacks in another</a:t>
            </a:r>
            <a:endParaRPr b="0" lang="en-US" sz="2400" spc="-1" strike="noStrike">
              <a:solidFill>
                <a:srgbClr val="000000"/>
              </a:solidFill>
              <a:latin typeface="Arial"/>
            </a:endParaRPr>
          </a:p>
          <a:p>
            <a:pPr lvl="1" marL="735480" indent="-28296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ographic distance of the firm from its foreign franchisees can make poor quality difficult for the franchisor to det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Joint Ventures</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5. Joint ventures</a:t>
            </a:r>
            <a:r>
              <a:rPr b="1" lang="en-US" sz="2400" spc="-1" strike="noStrike">
                <a:solidFill>
                  <a:srgbClr val="000000"/>
                </a:solidFill>
                <a:latin typeface="Arial"/>
              </a:rPr>
              <a:t> </a:t>
            </a:r>
            <a:r>
              <a:rPr b="0" lang="en-US" sz="2400" spc="-1" strike="noStrike">
                <a:solidFill>
                  <a:srgbClr val="000000"/>
                </a:solidFill>
                <a:latin typeface="Arial"/>
              </a:rPr>
              <a:t>involve the establishment of a firm that is jointly owned by two or more otherwise independent firms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ventures are attractive because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rm can benefit from a local partner's knowledge of the host country's competitive conditions, culture, language, political systems, and business systems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and risks of opening a foreign market are shared with the partner</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help firms avoid the risk of nationalization or other adverse government interferen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12</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Entering Foreign Markets</a:t>
            </a: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Joint Ventures</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ventures can be unattractive because</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risks giving control of its technology to its partner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may not have the tight control over subsidiaries that it might need to realize experience curve or location economi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ownership can lead to conflicts and battles for control if goals and objectives differ or change over tim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Wholly Owned Subsidiaries</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6. Wholly owned subsidiaries</a:t>
            </a:r>
            <a:r>
              <a:rPr b="0" lang="en-US" sz="2400" spc="-1" strike="noStrike">
                <a:solidFill>
                  <a:srgbClr val="000000"/>
                </a:solidFill>
                <a:latin typeface="Arial"/>
              </a:rPr>
              <a:t> involve 100 percent ownership of the stock of the subsidiary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stablishing a wholly owned subsidiary can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 new operation in that country</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 an established fi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Wholly Owned Subsidiaries</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ly owned subsidiaries are attractive because </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duce the risk of losing control over core competencies</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gives the firm the tight control over operations in different countries that is necessary for engaging in global strategic coordination </a:t>
            </a:r>
            <a:endParaRPr b="0" lang="en-US" sz="2000" spc="-1" strike="noStrike">
              <a:solidFill>
                <a:srgbClr val="000000"/>
              </a:solidFill>
              <a:latin typeface="Arial"/>
            </a:endParaRPr>
          </a:p>
          <a:p>
            <a:pPr lvl="1" marL="743040" indent="-285840">
              <a:lnSpc>
                <a:spcPct val="9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be required if a firm is trying to realize location and experience curve economies</a:t>
            </a:r>
            <a:endParaRPr b="0" lang="en-US" sz="2000" spc="-1" strike="noStrike">
              <a:solidFill>
                <a:srgbClr val="000000"/>
              </a:solidFill>
              <a:latin typeface="Arial"/>
            </a:endParaRPr>
          </a:p>
          <a:p>
            <a:pPr marL="343080" indent="-343080">
              <a:lnSpc>
                <a:spcPct val="9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ly owned subsidiaries are unattractive  because firms bear the full costs and risks of setting up overseas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electing an Entry Mode </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should a firm choose a specific entry m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ntry modes have advantages and disadvantag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al choice of entry mode involves trade-off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electing an Entry Mode </a:t>
            </a:r>
            <a:endParaRPr b="1" lang="en-US" sz="36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and Disadvantages of Entry Modes</a:t>
            </a:r>
            <a:r>
              <a:rPr b="0" lang="en-US" sz="2800" spc="-1" strike="noStrike">
                <a:solidFill>
                  <a:srgbClr val="6a96d3"/>
                </a:solidFill>
                <a:latin typeface="Arial"/>
              </a:rPr>
              <a:t>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Picture 4" descr="hiL8139X_tb1201"/>
          <p:cNvPicPr/>
          <p:nvPr/>
        </p:nvPicPr>
        <p:blipFill>
          <a:blip r:embed="rId1"/>
          <a:stretch/>
        </p:blipFill>
        <p:spPr>
          <a:xfrm>
            <a:off x="2722680" y="2867040"/>
            <a:ext cx="3754440" cy="370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e Competencies and Entry Mode </a:t>
            </a:r>
            <a:endParaRPr b="1" lang="en-US" sz="32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al entry mode depends to some degree on the nature of a firm’s core competencies </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etencies can involve</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know-how</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know-how</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e Competencies and Entry Mode </a:t>
            </a:r>
            <a:endParaRPr b="1" lang="en-US" sz="32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Technological Know-How</a:t>
            </a:r>
            <a:endParaRPr b="0" lang="en-US" sz="2800" spc="-1" strike="noStrike">
              <a:solidFill>
                <a:srgbClr val="000000"/>
              </a:solidFill>
              <a:latin typeface="Arial"/>
            </a:endParaRPr>
          </a:p>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etitive advantage is based on proprietary technological know-how, firms should avoid licensing and joint venture arrangements in order to minimize the risk of losing control over the technology</a:t>
            </a:r>
            <a:endParaRPr b="0" lang="en-US" sz="2800" spc="-1" strike="noStrike">
              <a:solidFill>
                <a:srgbClr val="000000"/>
              </a:solidFill>
              <a:latin typeface="Arial"/>
            </a:endParaRPr>
          </a:p>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a technological advantage is only transitory, or the firm can establish its technology as the dominant design in the industry, then licensing may be attractive</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e Competencies and Entry Mode </a:t>
            </a:r>
            <a:endParaRPr b="1" lang="en-US" sz="32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Management Know-How</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etitive advantage of many service firms is based upon management know-how</a:t>
            </a:r>
            <a:endParaRPr b="0" lang="en-US" sz="2800" spc="-1" strike="noStrike">
              <a:solidFill>
                <a:srgbClr val="000000"/>
              </a:solidFill>
              <a:latin typeface="Arial"/>
            </a:endParaRPr>
          </a:p>
          <a:p>
            <a:pPr lvl="1" marL="990720" indent="-533520">
              <a:lnSpc>
                <a:spcPct val="8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trademark laws are generally effective for protecting trademarks</a:t>
            </a:r>
            <a:endParaRPr b="0" lang="en-US" sz="2800" spc="-1" strike="noStrike">
              <a:solidFill>
                <a:srgbClr val="000000"/>
              </a:solidFill>
              <a:latin typeface="Arial"/>
            </a:endParaRPr>
          </a:p>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risk of losing control over management skills to franchisees or joint venture partners is not high, the benefits from getting greater use of brand names is significant</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essures for Cost Reductions </a:t>
            </a:r>
            <a:br>
              <a:rPr sz="3200"/>
            </a:br>
            <a:r>
              <a:rPr b="1" lang="en-US" sz="3200" spc="-1" strike="noStrike">
                <a:solidFill>
                  <a:srgbClr val="336699"/>
                </a:solidFill>
                <a:latin typeface="Arial"/>
              </a:rPr>
              <a:t>and Entry Mode</a:t>
            </a:r>
            <a:endParaRPr b="1" lang="en-US" sz="32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facing strong pressures for cost reductions are likely to pursue some combination of exporting and wholly owned subsidiarie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allow the firms to achieve location and scale economies as well as retain some degree of control over worldwide product manufacturing and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 that wants the ability to engage in global strategic coordination should choose</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nchising</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int ventures</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censing </a:t>
            </a:r>
            <a:endParaRPr b="0" lang="en-US" sz="2800" spc="-1" strike="noStrike">
              <a:solidFill>
                <a:srgbClr val="000000"/>
              </a:solidFill>
              <a:latin typeface="Arial"/>
            </a:endParaRPr>
          </a:p>
          <a:p>
            <a:pPr>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olly owned subsid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enter foreign market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enter foreign markets through</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 or franchising to host country firm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int venture with a host country firm</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olly owned subsidiary in the host country to serve that marke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and disadvantages of each entry mode is determined b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costs and trade barrier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and economic risk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reenfield or Acquisition?</a:t>
            </a:r>
            <a:endParaRPr b="1" lang="en-US" sz="36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Should a firm establish a wholly owned subsidiary in a country by building a subsidiary from the ground up (greenfield strategy), or by acquiring an established enterprise in the target market (acquisition strateg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cross border acquisitions are increasing</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last decade, 50-80 percent of all FDI inflows have been mergers and acquisi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s and Cons of Acquisitions</a:t>
            </a:r>
            <a:endParaRPr b="1" lang="en-US" sz="36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s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quick to execute</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firms to preempt their competitors</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less risky than green-field ventur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many acquisitions are not successfu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s and Cons of Acquisitions</a:t>
            </a:r>
            <a:endParaRPr b="1" lang="en-US" sz="3600" spc="-1" strike="noStrike">
              <a:solidFill>
                <a:srgbClr val="c6040b"/>
              </a:solidFill>
              <a:latin typeface="Arial"/>
            </a:endParaRPr>
          </a:p>
        </p:txBody>
      </p:sp>
      <p:sp>
        <p:nvSpPr>
          <p:cNvPr id="21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y do acquisitions f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s fail whe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overpays for the assets of the acquired firm</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lash between the cultures of the acquiring and acquired firm</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to realize synergies by integrating the operations of the acquired and acquiring entities run into roadblocks and take much longer than forecas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inadequate pre-acquisition screen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s and Cons of Acquisitions</a:t>
            </a:r>
            <a:endParaRPr b="1" lang="en-US" sz="3600" spc="-1" strike="noStrike">
              <a:solidFill>
                <a:srgbClr val="c6040b"/>
              </a:solidFill>
              <a:latin typeface="Arial"/>
            </a:endParaRPr>
          </a:p>
        </p:txBody>
      </p:sp>
      <p:sp>
        <p:nvSpPr>
          <p:cNvPr id="21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reduce the problems associated with acquisi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reduce the problems associated with acquisition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careful screening of the firm to be acquired</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oving rapidly once the firm is acquired to implement an integration pl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s and Cons of </a:t>
            </a:r>
            <a:br>
              <a:rPr sz="3200"/>
            </a:br>
            <a:r>
              <a:rPr b="1" lang="en-US" sz="3200" spc="-1" strike="noStrike">
                <a:solidFill>
                  <a:srgbClr val="336699"/>
                </a:solidFill>
                <a:latin typeface="Arial"/>
              </a:rPr>
              <a:t>Greenfield Ventures</a:t>
            </a:r>
            <a:endParaRPr b="1" lang="en-US" sz="32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y are greenfield ventures attra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field ventures are attractive because they allow the firm to build the kind of subsidiary company that it want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greenfield venture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lower to establish</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isky because they have no proven track record</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roblematic if a competitor enters via acquisition and quickly builds market sha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is not an advantage of acquisitions as compared to greenfield investments?</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are quicker to execute</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tempts to realize synergies by integrating the operations of the acquired entities can be challenging and take time</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enable firms to preempt their competitors</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may be less ris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Management Focus on Tesco.  Then answer the following question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y did Tesco’s initial international expansion strategy focus on developing nation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ow does Tesco create value in its international operation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n Asia, Tesco has a long history of entering into joint venture agreements with local partners.  What are the benefits of doing this for Tesco?  What are the risks?  How are those risks mitigate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n March 2006, Tesco announced that it would enter the United States.  This represents a departure from its historic strategy of focusing on developing nations.  Why do you think Tesco made this decision?  How is the U.S. market different from others Tesco has entered?  What are the risks here?  How do you think Tesco will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Licensing propriety technology to foreign competitors is the best way to give up a firm's competitive advantage.  Discu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iscuss how the need for control over foreign operations varies with firms’ strategies and core competencies.  What are the implications for the choice of entry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 Canadian firm that has developed some valuable new medical products using its unique biotechnology know-how is trying to decide how best to serve the European Community market.  Its choices are given below.   The cost of investment in manufacturing facilities will be a major one for the Canadian firm, but it is not outside its reach.  If these are the firm’s only options, which one would you advise it to choose?  Wh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 the product at home and let foreign sales agents handle marketing.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 the products at home but set up a wholly owned subsidiary in Europe to handle marketing.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into a strategic alliance with a large European pharmaceutical firm.  The product would be manufactured in Europe by a 50/50 joint venture, and marketed by the European fi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Basic Entry Decisions</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are the basic entry decisions for firms expanding internationall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 expanding internationally must decid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arkets to enter</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o enter them and on what scal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nter them (the choice of entry mod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Which Foreign Markets?</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need to assess the long run profit potential of each market</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favorable markets are politically stable developed and developing nations with free market systems, low inflation, and low private sector debt</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ss desirable markets are politically unstable developing nations with mixed or command economies, or developing nations where speculative financial bubbles have led to excess borrowing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firms usually offer products that have not been widely available in the market and that satisfy an unmet ne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iming of Entry</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firm identifies which market to enter, it must determine the </a:t>
            </a:r>
            <a:r>
              <a:rPr b="0" lang="en-US" sz="2800" spc="-1" strike="noStrike">
                <a:solidFill>
                  <a:srgbClr val="6a96d3"/>
                </a:solidFill>
                <a:latin typeface="Arial"/>
              </a:rPr>
              <a:t>timing of entry</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y is early when an international business enters a foreign market before other foreign firm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y is late when a firm enters after other international businesses have already established themselves in the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iming of Entry</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ntering a market early can gain </a:t>
            </a:r>
            <a:r>
              <a:rPr b="0" lang="en-US" sz="2400" spc="-1" strike="noStrike">
                <a:solidFill>
                  <a:srgbClr val="6a96d3"/>
                </a:solidFill>
                <a:latin typeface="Arial"/>
              </a:rPr>
              <a:t>first mover advantages </a:t>
            </a:r>
            <a:r>
              <a:rPr b="0" lang="en-US" sz="2400" spc="-1" strike="noStrike">
                <a:solidFill>
                  <a:srgbClr val="000000"/>
                </a:solidFill>
                <a:latin typeface="Arial"/>
              </a:rPr>
              <a:t>including</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pre-empt rivals and capture demand by establishing a strong brand nam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build up sales volume in that country and ride down the experience curve ahead of rivals and gain a cost advantage over later entrant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reate switching costs that tie customers into their products or services making it difficult for later entrants to win busin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iming of Entry</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First mover disadvantages</a:t>
            </a:r>
            <a:r>
              <a:rPr b="0" lang="en-US" sz="2400" spc="-1" strike="noStrike">
                <a:solidFill>
                  <a:srgbClr val="000000"/>
                </a:solidFill>
                <a:latin typeface="Arial"/>
              </a:rPr>
              <a:t> are the disadvantages associated with entering a foreign market before other international business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y result in</a:t>
            </a:r>
            <a:r>
              <a:rPr b="0" lang="en-US" sz="2400" spc="-1" strike="noStrike">
                <a:solidFill>
                  <a:srgbClr val="6a96d3"/>
                </a:solidFill>
                <a:latin typeface="Arial"/>
              </a:rPr>
              <a:t> pioneering costs</a:t>
            </a:r>
            <a:r>
              <a:rPr b="0" lang="en-US" sz="2400" spc="-1" strike="noStrike">
                <a:solidFill>
                  <a:srgbClr val="000000"/>
                </a:solidFill>
                <a:latin typeface="Arial"/>
              </a:rPr>
              <a:t> (costs that an early entrant has to bear that a later entrant can avoid) such a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of business failure if the firm, due to its ignorance of the foreign environment, makes some major mistak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of promoting and establishing a product offering, including the cost of educating the custom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cale of Entry </a:t>
            </a:r>
            <a:br>
              <a:rPr sz="3200"/>
            </a:br>
            <a:r>
              <a:rPr b="1" lang="en-US" sz="3200" spc="-1" strike="noStrike">
                <a:solidFill>
                  <a:srgbClr val="336699"/>
                </a:solidFill>
                <a:latin typeface="Arial"/>
              </a:rPr>
              <a:t>and Strategic Commitments</a:t>
            </a:r>
            <a:endParaRPr b="1" lang="en-US" sz="32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nter foreign markets on a significant scale make a major strategic commitment that changes the competitive playing field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olves decisions that have a long term impact and are difficult to revers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scale entry can be attractive because it allows the firm to learn about a foreign market, but at the same time it limits the firm’s exposure to that mark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3:00:54Z</dcterms:modified>
  <cp:revision>16</cp:revision>
  <dc:subject/>
  <dc:title>Slide 1</dc:title>
</cp:coreProperties>
</file>