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6"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0D0C6CF-9E27-4FA2-B1C9-5E9803D963C0}"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usinessweek.com/globalbiz/content/may2008/gb20080512_937505.htm?chan=search"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0F8FFF7-5B51-420C-83DE-D74771B4A02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8" name="PlaceHolder 1"/>
          <p:cNvSpPr>
            <a:spLocks noGrp="1"/>
          </p:cNvSpPr>
          <p:nvPr>
            <p:ph type="sldImg"/>
          </p:nvPr>
        </p:nvSpPr>
        <p:spPr>
          <a:xfrm>
            <a:off x="536400" y="531720"/>
            <a:ext cx="2356200" cy="17668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Times New Roman"/>
              </a:rPr>
              <a:t>Internet Extra</a:t>
            </a:r>
            <a:r>
              <a:rPr b="0" lang="en-US" sz="1400" spc="-1" strike="noStrike">
                <a:solidFill>
                  <a:srgbClr val="336699"/>
                </a:solidFill>
                <a:latin typeface="Times New Roman"/>
              </a:rPr>
              <a:t>:</a:t>
            </a:r>
            <a:r>
              <a:rPr b="0" lang="en-US" sz="1400" spc="-1" strike="noStrike">
                <a:solidFill>
                  <a:srgbClr val="000000"/>
                </a:solidFill>
                <a:latin typeface="Times New Roman"/>
              </a:rPr>
              <a:t> To learn the status of current trade issues, “hot” areas of international trade, and the responsibilities of the WTO, go to {http://www.wto.or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Current News.  Review the issues that are currently at the top of the agenda for the WT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they affect developed countries or developing countries?  What are their implications for global trad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rade Topics.  Click on Disputes Gateway.  Explore the disputes currently under review.  How do you think they will be resolved?  W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AEEEDD7-60F2-4F83-A014-4F34A3F485D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536400" y="531720"/>
            <a:ext cx="2356200" cy="1766880"/>
          </a:xfrm>
          <a:prstGeom prst="rect">
            <a:avLst/>
          </a:prstGeom>
          <a:ln w="0">
            <a:noFill/>
          </a:ln>
        </p:spPr>
      </p:sp>
      <p:sp>
        <p:nvSpPr>
          <p:cNvPr id="2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India’s Software Secto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the growth of India’s software industry.  Starting from nothing just twenty-five years, the industry now generates revenues of nearly $40 billion, and exports of $31.3 billion.  With global spending on information technology expected to be some $260 billion in 2009, Indian companies are primed to capture a significant share of the pie, forcing their Western counterparts to make changes to their strateg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at factors have contributed to the growth of India’s software industr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Four key factors have contributed to the growth of India’s software industry.  First is the huge number of engineers in India.  Some 400,000 engineers graduate from Indian universities every year.  A second factor is India’s low wage structure.  Indian engineers make about 12 percent of what an American colleague might make.  Third, coordination between Western firms and Indian firms is facilitated by the large number of English-speaking Indians.  Finally, because of the differences in time zones, Indian firms operate while American firms are clos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How has India’s software industry changed in recent years?  What are the implications of these changes for American companies like IBM and Microsof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re has been a gradual shift in the Indian software industry in recent years.  Initially, Indian firms focused on the low end of the industry to supply basic software development and testing services to Western firms.  Today however, many companies have moved into higher end services to compete for large software development projects, business outsourcing contracts, and information technology consulting services.  This new competitive threat is forcing American firms like IBM and Microsoft to rethink their global strategies.  Some Western companies are now investing in India with the goal of capturing some of the cost advantages Indian companies like Infosys and Wirpro enjo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 The economic slowdown in the United States is beginning to have an effect on India’s information technology sector.  To learn more, go to {</a:t>
            </a:r>
            <a:r>
              <a:rPr b="0" lang="en-US" sz="900" spc="-1" strike="noStrike" u="sng">
                <a:solidFill>
                  <a:srgbClr val="ccccff"/>
                </a:solidFill>
                <a:uFillTx/>
                <a:latin typeface="Times New Roman"/>
                <a:hlinkClick r:id="rId1"/>
              </a:rPr>
              <a:t>http://www.businessweek.com/globalbiz/content/may2008/gb20080512_937505.htm?chan=search</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1D62C81-F863-44BE-8F2D-17319250FA6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536400" y="531720"/>
            <a:ext cx="2356200" cy="176688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8EFB986-3E0B-44B5-836B-31A3B619423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536400" y="531720"/>
            <a:ext cx="2356200" cy="1766880"/>
          </a:xfrm>
          <a:prstGeom prst="rect">
            <a:avLst/>
          </a:prstGeom>
          <a:ln w="0">
            <a:noFill/>
          </a:ln>
        </p:spPr>
      </p:sp>
      <p:sp>
        <p:nvSpPr>
          <p:cNvPr id="2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F9DB53A-9FCE-4A92-9970-8C7BD99B928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0" name="PlaceHolder 1"/>
          <p:cNvSpPr>
            <a:spLocks noGrp="1"/>
          </p:cNvSpPr>
          <p:nvPr>
            <p:ph type="sldImg"/>
          </p:nvPr>
        </p:nvSpPr>
        <p:spPr>
          <a:xfrm>
            <a:off x="536400" y="531720"/>
            <a:ext cx="2356200" cy="1766880"/>
          </a:xfrm>
          <a:prstGeom prst="rect">
            <a:avLst/>
          </a:prstGeom>
          <a:ln w="0">
            <a:noFill/>
          </a:ln>
        </p:spPr>
      </p:sp>
      <p:sp>
        <p:nvSpPr>
          <p:cNvPr id="2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8147C11-71FF-4118-BC5B-0196222FB46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3" name="PlaceHolder 1"/>
          <p:cNvSpPr>
            <a:spLocks noGrp="1"/>
          </p:cNvSpPr>
          <p:nvPr>
            <p:ph type="sldImg"/>
          </p:nvPr>
        </p:nvSpPr>
        <p:spPr>
          <a:xfrm>
            <a:off x="536400" y="531720"/>
            <a:ext cx="2356200" cy="1766880"/>
          </a:xfrm>
          <a:prstGeom prst="rect">
            <a:avLst/>
          </a:prstGeom>
          <a:ln w="0">
            <a:noFill/>
          </a:ln>
        </p:spPr>
      </p:sp>
      <p:sp>
        <p:nvSpPr>
          <p:cNvPr id="27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China’s Hisense – An Emerging Multina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amines the growth of Hisense which began in 1969 as a state-owned factory with just 10 employees.  Over the years, the company emerged as one of China’s leading makers of television sets.  In 1994, China relaxed its hold on the company and Zhou Houijan was appointed CEO.  Under Zhou’s leadership Hisense has become as one of China’s premier manufacturers of consumer appliances and telecommunications equipmen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at makes Hisense different from other manufacturers of consumer electronics?  What factors have contributed to its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e success of Hisense can be attributed to not only its low cost structure, but also the company’s skill in product innovation.  In fact, Hisense believes that its main strength is its rapid production innovation.  The company feels that to be successful in the highly competitive consumer electronics industry, it must be on the cutting edge of innovation.  Consequently, the company’s strategy is to continuously launch advanced, high quality, and competitively priced produc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hy has Hisense established multiple R&amp;D centers?  How do these R&amp;D centers fit into the firm’s global strateg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In 1994, Hisense established its first R&amp;D center in China.  Since then, the company has also established R&amp;D centers in South Africa and Europe, and is scheduled to open an R&amp;D center in the United States in the near future.  Being innovative is central to Hisense’s strateg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ing multiple R&amp;D centers allows Hisense to be closer to its markets, and should help the company better serve customer needs and preferenc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 To learn more about Hisense go to {http://www.hisense.com/en/index.jsp}.</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FC931C5-10B1-4562-A1A5-E3C27630B08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9" name="PlaceHolder 1"/>
          <p:cNvSpPr>
            <a:spLocks noGrp="1"/>
          </p:cNvSpPr>
          <p:nvPr>
            <p:ph type="sldImg"/>
          </p:nvPr>
        </p:nvSpPr>
        <p:spPr>
          <a:xfrm>
            <a:off x="536400" y="531720"/>
            <a:ext cx="2356200" cy="1766880"/>
          </a:xfrm>
          <a:prstGeom prst="rect">
            <a:avLst/>
          </a:prstGeom>
          <a:ln w="0">
            <a:noFill/>
          </a:ln>
        </p:spPr>
      </p:sp>
      <p:sp>
        <p:nvSpPr>
          <p:cNvPr id="25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Times New Roman"/>
              </a:rPr>
              <a:t>Internet Extra</a:t>
            </a:r>
            <a:r>
              <a:rPr b="0" lang="en-US" sz="1400" spc="-1" strike="noStrike">
                <a:solidFill>
                  <a:srgbClr val="336699"/>
                </a:solidFill>
                <a:latin typeface="Times New Roman"/>
              </a:rPr>
              <a:t>:</a:t>
            </a:r>
            <a:r>
              <a:rPr b="0" lang="en-US" sz="1400" spc="-1" strike="noStrike">
                <a:solidFill>
                  <a:srgbClr val="000000"/>
                </a:solidFill>
                <a:latin typeface="Times New Roman"/>
              </a:rPr>
              <a:t> The U.S. Census Bureau contains monthly statistics on trade between the United States and its trading partners.  The web site is {http://www.census.gov/foreign-trade/to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2008, then on Total Trade, Next, click on Surplus, and then on Defici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is the top trading partner for the U.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op destination for U.S. goo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untry exports the most to the U.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79BC107-4D49-4327-BC56-AC10490E64E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6" name="PlaceHolder 1"/>
          <p:cNvSpPr>
            <a:spLocks noGrp="1"/>
          </p:cNvSpPr>
          <p:nvPr>
            <p:ph type="sldImg"/>
          </p:nvPr>
        </p:nvSpPr>
        <p:spPr>
          <a:xfrm>
            <a:off x="536400" y="531720"/>
            <a:ext cx="2356200" cy="1766880"/>
          </a:xfrm>
          <a:prstGeom prst="rect">
            <a:avLst/>
          </a:prstGeom>
          <a:ln w="0">
            <a:noFill/>
          </a:ln>
        </p:spPr>
      </p:sp>
      <p:sp>
        <p:nvSpPr>
          <p:cNvPr id="27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Protesting Globalization in France</a:t>
            </a:r>
            <a:r>
              <a:rPr b="1" lang="en-US" sz="9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describes the anti-globalization protests going on in France.  The protests, led by activist Jose Bove, started when the U.S. retaliated against EU bans on beef imports by imposing a 100% tariff on some EU products.  Bove and his associates targeted McDonald’s, and also California winemaker Mondavi as symbols of their opposition to American investments.  Still, despite the protests, foreign investment in France is at record highs, and ironically, so are French investments abro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Consider the trade war that initiated the protests led by Bove.  The EU instituted restrictions on the import of hormone treated beef because it was feared that the product might lead to health problems.  The WTO stated that the restrictions were prohibited under WTO agreements and ordered the EU to lift the restrictions or face retaliatory measures.  In your opinion, did the WTO act appropriately?   Should a government be permitted to make decisions as to what products are or are not available to consumers?  Should the WTO?  What do you think would have happened if the WTO had ruled in favor of the EU?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any students will probably argue that the European Union’s restrictions against hormone treated beef were nothing more than thinly veiled protectionism.  Accordingly, students will probably feel that the World Trade Organization was justified in its ruling.  Some students however, may suggest that the European Union was looking out for its citizens when it instituted the bans, and that therefore the World Trade Organization was overstepping its bound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Why was McDonald’s chosen as the target for anti-globalization protests?   How can companies like McDonald’s protect themselves from the actions of protesters like Bov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recognize that as an icon of the United States, McDonald’s is a symbol of America and as such was a natural target for protesters.  The fact that its menu is based on beef was probably an added bonus.  Many students will note that companies that are actively involved in local communities are less likely to attract negative feeling than those that are not.  Students might recommend that companies like McDonald’s work to ingratiate themselves with the host country through charitable programs, social activities, and so 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  For more on this case, see Chapter 6’s Country Focus: Trade in Hormone-Treated Bee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 To learn more about ongoing WTO disputes, go the WTO’s homepage: {www.wto.or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deo Note: Protesting against globalization is not uncommon.  The iGlobe </a:t>
            </a:r>
            <a:r>
              <a:rPr b="0" i="1" lang="en-US" sz="900" spc="-1" strike="noStrike">
                <a:solidFill>
                  <a:srgbClr val="000000"/>
                </a:solidFill>
                <a:latin typeface="Times New Roman"/>
              </a:rPr>
              <a:t>Environmental Activist Questions the Goals of Globalization </a:t>
            </a:r>
            <a:r>
              <a:rPr b="0" lang="en-US" sz="900" spc="-1" strike="noStrike">
                <a:solidFill>
                  <a:srgbClr val="000000"/>
                </a:solidFill>
                <a:latin typeface="Times New Roman"/>
              </a:rPr>
              <a:t>also explores the negative effects of globalization. </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3671F5A-1F88-4A8E-9778-E4BF40621BB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9" name="PlaceHolder 1"/>
          <p:cNvSpPr>
            <a:spLocks noGrp="1"/>
          </p:cNvSpPr>
          <p:nvPr>
            <p:ph type="sldImg"/>
          </p:nvPr>
        </p:nvSpPr>
        <p:spPr>
          <a:xfrm>
            <a:off x="536400" y="531720"/>
            <a:ext cx="2356200" cy="1766880"/>
          </a:xfrm>
          <a:prstGeom prst="rect">
            <a:avLst/>
          </a:prstGeom>
          <a:ln w="0">
            <a:noFill/>
          </a:ln>
        </p:spPr>
      </p:sp>
      <p:sp>
        <p:nvSpPr>
          <p:cNvPr id="2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swer: The world economy has shifted dramatically over the past 30 years.  As late as the 1960s, four stylized facts described the demographics of the global economy.  The first was U.S. dominance in the world economy and world trade.  The second was U.S. dominance in the world foreign direct investment picture. Related to this, the third fact was the dominance of large, multinational U.S. firms in the international business scene.  The fourth was that roughly fifty percent of the world - the centrally planned economies of the Communist world - was off-limits to Western international businesses. All of these demographic facts have changed.  Although the U.S. remains the world's dominant economic power, its share of world output and world exports have declined significantly since the 1960s.  This trend does not reflect trouble in the U.S. economy, but rather reflects the growing industrialization of developing countries such as China, India, Indonesia, and South Korea.  This trend is also reflected in the world foreign direct investment picture. As depicted in Figure 1.2 in the textbook, the share of world output (or the stock of foreign direct investment) generated by developing countries has been on a steady increase since the 1960s, while the share of world output generated by rich industrial countries has been on a steady decline.  Shifts in the world economy can also be seen through the shifting power of multinational enterprises.  Since the 1960s, there have been two notable trends in the demographics of the multinational enterprise.  The first has been the rise of non-U.S. multinationals, particularly Japanese multinationals.  The second has been the emergence of a growing number of small and medium-sized multinationals, called mini-multinationals.  The fall of Communism in Eastern Europe and the republics of the former Soviet Union have brought about the final shift in the world economy.  Many of the former Communist nations of Europe and Asia seem to share a commitment to democratic politics and free market economies.  Similar developments are being observed in Latin America.  If these trends continue, the opportunities for international business may be enormous.  The implications of these shifts are similar for North America and Britain.  The United States and Britain once had the luxury of being the dominant players in the world arena, with little substantive competition from the developing nations of the world.  That has changed.  Today, U.S. and British manufacturers must compete with competitors from across the world to win orders.  The changing demographics of the world economy favor a city like Hong Kong.  Hong Kong (which is now under Chinese rule) is well located with easy access to markets in Japan, South Korea, Indonesia, and other Asian markets.  Hong Kong has a vibrant labor force that can compete on par with the industrialized nations of the world.  The decline in the influence of the U.S. and Britain on the global economy provides opportunities for companies in Hong Kong to aggressively pursue export markets.</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B76CD70-381D-4914-9038-A7909F973B5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2" name="PlaceHolder 1"/>
          <p:cNvSpPr>
            <a:spLocks noGrp="1"/>
          </p:cNvSpPr>
          <p:nvPr>
            <p:ph type="sldImg"/>
          </p:nvPr>
        </p:nvSpPr>
        <p:spPr>
          <a:xfrm>
            <a:off x="536400" y="531720"/>
            <a:ext cx="2356200" cy="1766880"/>
          </a:xfrm>
          <a:prstGeom prst="rect">
            <a:avLst/>
          </a:prstGeom>
          <a:ln w="0">
            <a:noFill/>
          </a:ln>
        </p:spPr>
      </p:sp>
      <p:sp>
        <p:nvSpPr>
          <p:cNvPr id="28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People who believe in this view, and the firms that they work for, may find that they do not achieve their full potential (at best) and may ultimately fail because of their myopia.  As barriers to trade decrease and state of the art technological developments take place throughout the world, new opportunities and threats exist on a worldwide basis.  The rise of the mini-multinationals suggests there are global opportunities even for small firms.  But staying attuned to international markets is not only important from the perspective of seeking profitable opportunities for small firms; it can also be critical for long-term competitive survival.  Firms from other countries may be developing products that, if sold internationally, may wipe out small domestic competitors.  Scanning international markets for the best suppliers is also important for small firms, for if a domestic competitor is able to tap into a superior supplier from a foreign country, it may be able to seriously erode a small firm's competitive position before the small firm understands the source of its competitor's competitive advantage and can take appropriate counter actions.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2560A2C-F262-45BC-845E-084E5D51C7F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5" name="PlaceHolder 1"/>
          <p:cNvSpPr>
            <a:spLocks noGrp="1"/>
          </p:cNvSpPr>
          <p:nvPr>
            <p:ph type="sldImg"/>
          </p:nvPr>
        </p:nvSpPr>
        <p:spPr>
          <a:xfrm>
            <a:off x="536400" y="531720"/>
            <a:ext cx="2356200" cy="1766880"/>
          </a:xfrm>
          <a:prstGeom prst="rect">
            <a:avLst/>
          </a:prstGeom>
          <a:ln w="0">
            <a:noFill/>
          </a:ln>
        </p:spPr>
      </p:sp>
      <p:sp>
        <p:nvSpPr>
          <p:cNvPr id="2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Changes in technology have contributed to the globalization of markets and of production in a very substantive manner.  For instance, improvements in transportation technology have paved the way for companies like Coca-Cola, Levi Strauss, Sony and McDonalds to make their products available worldwide.  Similarly, improvements in communications technology have had a major impact.  The ability to negotiate across continents has been facilitated by improved communications technology, and the rapidly decreasing cost of communications has lowered the expense of coordinating and controlling a global corporation.  Finally, the impact of information technology has been far reaching.  Companies can now gain worldwide exposure simply by setting up a homepage on the Internet.  This technology was not available just a few short years ago. The globalization of production and markets may have been possible without improvements in technology, but the pace of globalization would have been much slower.  The falling cost of technology has made it affordable for many developing nations, which has been instrumental in helping these nations improve their share of world output and world exports.  The inclusion of these nations, such as China, India, Thailand, and South Korea, has been instrumental in the globalization of markets and production.  In addition, improvements in global transportation and communication have made it relatively easy for business executives from different countries to converse with one another.  If these forms of technology, including air-travel, fax capability, e-mail, and overnight delivery of packages were not available, it would be much more difficult for businesses to conduct international trad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EA7CF94-28C7-4BDE-B5E2-678E02F72F6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8" name="PlaceHolder 1"/>
          <p:cNvSpPr>
            <a:spLocks noGrp="1"/>
          </p:cNvSpPr>
          <p:nvPr>
            <p:ph type="sldImg"/>
          </p:nvPr>
        </p:nvSpPr>
        <p:spPr>
          <a:xfrm>
            <a:off x="536400" y="531720"/>
            <a:ext cx="2356200" cy="1766880"/>
          </a:xfrm>
          <a:prstGeom prst="rect">
            <a:avLst/>
          </a:prstGeom>
          <a:ln w="0">
            <a:noFill/>
          </a:ln>
        </p:spPr>
      </p:sp>
      <p:sp>
        <p:nvSpPr>
          <p:cNvPr id="28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statement reflects a poor understanding of the unique challenges involved in international business. Managing an international business is different from managing a purely domestic business for at least four reasons. These are: (1) countries are different; (2) the range of problems confronted by a manager in an international business is wider and the problems themselves more complex than those confronted by a manager in a domestic business; (3) an international business must find ways to work within the limits imposed by government intervention in the international trade and investment system; and (4) international transactions involve converting money into different currencies.  As a result of these differences, there are ample reasons for studying international business as a specific field of study or discipline.</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713A04E-9974-438A-B421-EA5E28E3964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1" name="PlaceHolder 1"/>
          <p:cNvSpPr>
            <a:spLocks noGrp="1"/>
          </p:cNvSpPr>
          <p:nvPr>
            <p:ph type="sldImg"/>
          </p:nvPr>
        </p:nvSpPr>
        <p:spPr>
          <a:xfrm>
            <a:off x="536400" y="531720"/>
            <a:ext cx="2356200" cy="1766880"/>
          </a:xfrm>
          <a:prstGeom prst="rect">
            <a:avLst/>
          </a:prstGeom>
          <a:ln w="0">
            <a:noFill/>
          </a:ln>
        </p:spPr>
      </p:sp>
      <p:sp>
        <p:nvSpPr>
          <p:cNvPr id="2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ccording to the text, the Internet and World Wide Web (WWW) promise to develop into the information background of tomorrow's global economy.  This improved technology will not only make it easier for individuals and companies in different countries to conduct business with one another, but will also further decrease the cost of communications.  These improvements will undoubtedly hasten the already rapid pace of globalization. Another distinct attribute of the Internet and the WWW is that they act as an equalizer between large (resource rich) and small (resource poor) firms.  For instance, it does not cost any more for a small software firm to gain visibility via the WWW than it does for a large software company like Microsoft.  As a result, the WWW helps small companies reach the size of audience that was previously only within the reach of large, resource rich firms. </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7775390-31C3-43B1-A95F-1E5D815EEEB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4" name="PlaceHolder 1"/>
          <p:cNvSpPr>
            <a:spLocks noGrp="1"/>
          </p:cNvSpPr>
          <p:nvPr>
            <p:ph type="sldImg"/>
          </p:nvPr>
        </p:nvSpPr>
        <p:spPr>
          <a:xfrm>
            <a:off x="536400" y="531720"/>
            <a:ext cx="2356200" cy="1766880"/>
          </a:xfrm>
          <a:prstGeom prst="rect">
            <a:avLst/>
          </a:prstGeom>
          <a:ln w="0">
            <a:noFill/>
          </a:ln>
        </p:spPr>
      </p:sp>
      <p:sp>
        <p:nvSpPr>
          <p:cNvPr id="29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world trading system would clearly be affected by such a development.  Currently China enjoys a somewhat privileged status within the World Trade Organization as a “developing” country.  Such a rise to eminence, however, would clearly force it to become a full and equal member, with all the rights and responsibilities.  China would also be in a position to actively affect the terms of trade between many countries.  On the monetary front, one would expect that China would have to have fully convertible and trading currency, and it could become one of the “benchmark” currencies of the world.  From the perspective of Western global firms, China would represent both a huge market, and potentially the home base of some very capable competitors.  Finally, commodity prices would probably fall. </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957CD02-92C6-4AC1-84E4-06AD20009CB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7" name="PlaceHolder 1"/>
          <p:cNvSpPr>
            <a:spLocks noGrp="1"/>
          </p:cNvSpPr>
          <p:nvPr>
            <p:ph type="sldImg"/>
          </p:nvPr>
        </p:nvSpPr>
        <p:spPr>
          <a:xfrm>
            <a:off x="536400" y="531720"/>
            <a:ext cx="2356200" cy="1766880"/>
          </a:xfrm>
          <a:prstGeom prst="rect">
            <a:avLst/>
          </a:prstGeom>
          <a:ln w="0">
            <a:noFill/>
          </a:ln>
        </p:spPr>
      </p:sp>
      <p:sp>
        <p:nvSpPr>
          <p:cNvPr id="2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sw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Advances in technology are a primary key to making the outsourcing of medical work possible in recent years.  In particular, the Internet makes it possible to quickly transmit large amounts of data to countries such as India where the information can be processed and returned.  In addition, the high cost of medical care in countries like the U.S. is prompting people to consider cheaper alternatives.  The cost to repair a leaky heart valve in India is about $10,000 including airfare, while in the U.S. the same surgery could cost $60,000.</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 This is a difficult question.  Some students might argue that the outsourcing of medical procedures to nations where salaries of medical professional are lower clearly benefits consumers.  However, other students might suggest that the level of care in countries such as India may not be up to the standards found in the United States, and that the process takes some control out of the hands of the consumers.  Certainly, health care professionals in the United States see the outsourcing trend in a negative light, however, medical insurance companies view any means of cutting costs as a positive mov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 When considered from a strictly economic perspective, the globalization of health care should result in a more efficient industry.  Prices in the U.S. should fall as countries like India offer their services as an alternative to higher-priced American ones.  It would follow then, that Americans should have more disposable income which could then be spent in other part of the econom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 Most students will probably agree that the current trend to outsource medical procedures is just the beginning.  The rising cost of health care is likely to continue to put pressure on the industry to find cheaper alternatives to handling not only direct patient care, but also the paperwork involved.  Most students will probably agree that outsourcing to cut costs in the paperwork end of the process makes sense, but may draw the line at the outsourcing of medical procedures.   Others however, might point out that the care being offered by some hospitals in countries like India is on par with American hospitals, indeed many of the doctors are American train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 The answer to this question may depend on the nationality of the student.  Students from countries that have national heath care may already feel that since the government already controls the medical industry, issues related to the outsourcing of medical work is out of their hands.  Students from countries with private health care such as the United States may believe that the government has a certain responsibility to protect its citizens, and that the issue of outsourcing of medical procedures may fall into this realm of protection.  In either case, it would appear that restrictions to limit the practice would almost certainly raise costs further. </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2AE4458-1D88-4E4A-A1C5-221F30A4CF4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2" name="PlaceHolder 1"/>
          <p:cNvSpPr>
            <a:spLocks noGrp="1"/>
          </p:cNvSpPr>
          <p:nvPr>
            <p:ph type="sldImg"/>
          </p:nvPr>
        </p:nvSpPr>
        <p:spPr>
          <a:xfrm>
            <a:off x="536400" y="531720"/>
            <a:ext cx="2356200" cy="17668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Country Focus: Outsourcing American Healthc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the practice of outsourcing medical work to other countries.  In recent years, pressures to cut costs in the medical industry have led to the practice of outsourcing.  Today, not only is paperwork outsourced to countries such as India, but also the reading of x-rays.  In some cases, patients, in an effort to curb costs, are now choosing to have medical procedures conducted in foreign count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A decade ago the idea that medical procedures might move offshore was unthinkable.  Today it is a reality.  What trends have facilitated this process?  Is the globalization of health care good or bad for the American econom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Advances in technology are a primary key to making the outsourcing of medical work possible in recent years.  In particular, the Internet makes it possible to quickly transmit large amounts of data to countries such as India where the information can be processed and returned.  In addition, the high cost of medical care in countries like the U.S. is prompting people to consider cheaper alternatives.  The cost to repair a leaky heart valve in India is about $10,000 including airfare, while in the U.S. the same surgery could cost $60,000. So, when considered from a strictly economic perspective, the globalization of health care should result in a more efficient industry.  Prices in the U.S. should fall as countries like India offer their services as an alternative to higher-priced American ones.  It would follow then, that Americans should have more disposable income which could then be spent in other part of the econom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s the globalization of health care good or bad for patients? Who might benefit from the globalization of health care?  Who might lo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question.  Some students might argue that the outsourcing of medical procedures to nations where salaries of medical professional are lower clearly benefits consumers.  However, other students might suggest that the level of care in countries such as India may not be up to the standards found in the United States, and that the process takes some control out of the hands of the consumers.  Certainly, health care professionals in the United States see the outsourcing trend in a negative light, however, medical insurance companies view any means of cutting costs as a positive move. Most students will probably agree that the current trend to outsource medical procedures is just the beginning.  The rising cost of health care is likely to continue to put pressure on the industry to find cheaper alternatives to handling not only direct patient care, but also the paperwork involved.  Most students will probably agree that outsourcing to cut costs in the paperwork end of the process makes sense, but may draw the line at the outsourcing of medical procedures.   Others however, might point out that the care being offered by some hospitals in countries like India is on par with American hospitals, indeed many of the doctors are American train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o learn how heath insurance companies are using outsourcing to cut costs, go to {http://www.businessweek.com/magazine/content/08_12/b4076036777780.htm?chan=search}. </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4843C47-4908-45C3-BB39-DB81CC9489F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5" name="PlaceHolder 1"/>
          <p:cNvSpPr>
            <a:spLocks noGrp="1"/>
          </p:cNvSpPr>
          <p:nvPr>
            <p:ph type="sldImg"/>
          </p:nvPr>
        </p:nvSpPr>
        <p:spPr>
          <a:xfrm>
            <a:off x="536400" y="531720"/>
            <a:ext cx="2356200" cy="1766880"/>
          </a:xfrm>
          <a:prstGeom prst="rect">
            <a:avLst/>
          </a:prstGeom>
          <a:ln w="0">
            <a:noFill/>
          </a:ln>
        </p:spPr>
      </p:sp>
      <p:sp>
        <p:nvSpPr>
          <p:cNvPr id="25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Rectangle 102"/>
          <p:cNvSpPr/>
          <p:nvPr/>
        </p:nvSpPr>
        <p:spPr>
          <a:xfrm>
            <a:off x="8127360" y="648972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4DC5777-71A9-4B31-8159-655174228D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Text Box 46"/>
          <p:cNvSpPr/>
          <p:nvPr/>
        </p:nvSpPr>
        <p:spPr>
          <a:xfrm>
            <a:off x="685800" y="6203880"/>
            <a:ext cx="8086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4"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International Trade &amp; Business (PMM5363)</a:t>
            </a:r>
            <a:r>
              <a:rPr b="1" lang="en-US" sz="2800" spc="-1" strike="noStrike">
                <a:solidFill>
                  <a:srgbClr val="ff0000"/>
                </a:solidFill>
                <a:latin typeface="Arial"/>
                <a:ea typeface="Arial"/>
              </a:rPr>
              <a:t> </a:t>
            </a:r>
            <a:endParaRPr b="1" lang="en-US" sz="2800" spc="-1" strike="noStrike">
              <a:solidFill>
                <a:srgbClr val="c6040b"/>
              </a:solidFill>
              <a:latin typeface="Arial"/>
            </a:endParaRPr>
          </a:p>
        </p:txBody>
      </p:sp>
      <p:sp>
        <p:nvSpPr>
          <p:cNvPr id="148"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 Abdul Hamid Moha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mergence </a:t>
            </a:r>
            <a:br>
              <a:rPr sz="3600"/>
            </a:br>
            <a:r>
              <a:rPr b="1" lang="en-US" sz="3600" spc="-1" strike="noStrike">
                <a:solidFill>
                  <a:srgbClr val="336699"/>
                </a:solidFill>
                <a:latin typeface="Arial"/>
              </a:rPr>
              <a:t>of Global Institutions</a:t>
            </a:r>
            <a:endParaRPr b="1" lang="en-US" sz="3600" spc="-1" strike="noStrike">
              <a:solidFill>
                <a:srgbClr val="c6040b"/>
              </a:solidFill>
              <a:latin typeface="Arial"/>
            </a:endParaRPr>
          </a:p>
        </p:txBody>
      </p:sp>
      <p:sp>
        <p:nvSpPr>
          <p:cNvPr id="16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ble global institutions include</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0" lang="en-US" sz="2800" spc="-1" strike="noStrike">
                <a:solidFill>
                  <a:srgbClr val="6a96d3"/>
                </a:solidFill>
                <a:latin typeface="Arial"/>
              </a:rPr>
              <a:t> World Trade Organization (WTO)</a:t>
            </a:r>
            <a:r>
              <a:rPr b="0" lang="en-US" sz="2800" spc="-1" strike="noStrike">
                <a:solidFill>
                  <a:srgbClr val="000000"/>
                </a:solidFill>
                <a:latin typeface="Arial"/>
              </a:rPr>
              <a:t> which is responsible for policing the world trading system and ensuring that nations adhere to the rules established in WTO treaties</a:t>
            </a:r>
            <a:endParaRPr b="0" lang="en-US" sz="28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8, 151 nations accounting for 97%  of world trade were members of the WTO</a:t>
            </a:r>
            <a:endParaRPr b="0" lang="en-US" sz="2400" spc="-1" strike="noStrike">
              <a:solidFill>
                <a:srgbClr val="000000"/>
              </a:solidFill>
              <a:latin typeface="Arial"/>
            </a:endParaRPr>
          </a:p>
          <a:p>
            <a:pPr marL="281160" indent="-2811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International Monetary Fund (IMF)</a:t>
            </a:r>
            <a:r>
              <a:rPr b="0" lang="en-US" sz="2800" spc="-1" strike="noStrike">
                <a:solidFill>
                  <a:srgbClr val="000000"/>
                </a:solidFill>
                <a:latin typeface="Arial"/>
              </a:rPr>
              <a:t> which maintains order in the international monetary system</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mergence </a:t>
            </a:r>
            <a:br>
              <a:rPr sz="3600"/>
            </a:br>
            <a:r>
              <a:rPr b="1" lang="en-US" sz="3600" spc="-1" strike="noStrike">
                <a:solidFill>
                  <a:srgbClr val="336699"/>
                </a:solidFill>
                <a:latin typeface="Arial"/>
              </a:rPr>
              <a:t>of Global Institutions</a:t>
            </a:r>
            <a:endParaRPr b="1" lang="en-US" sz="3600" spc="-1" strike="noStrike">
              <a:solidFill>
                <a:srgbClr val="c6040b"/>
              </a:solidFill>
              <a:latin typeface="Arial"/>
            </a:endParaRPr>
          </a:p>
        </p:txBody>
      </p:sp>
      <p:sp>
        <p:nvSpPr>
          <p:cNvPr id="169" name="PlaceHolder 2"/>
          <p:cNvSpPr>
            <a:spLocks noGrp="1"/>
          </p:cNvSpPr>
          <p:nvPr>
            <p:ph/>
          </p:nvPr>
        </p:nvSpPr>
        <p:spPr>
          <a:xfrm>
            <a:off x="1883880" y="1798560"/>
            <a:ext cx="7031160" cy="4525920"/>
          </a:xfrm>
          <a:prstGeom prst="rect">
            <a:avLst/>
          </a:prstGeom>
          <a:noFill/>
          <a:ln w="0">
            <a:noFill/>
          </a:ln>
        </p:spPr>
        <p:txBody>
          <a:bodyPr anchor="t">
            <a:normAutofit/>
          </a:bodyPr>
          <a:p>
            <a:pPr marL="339840" indent="-33984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World Bank</a:t>
            </a:r>
            <a:r>
              <a:rPr b="0" lang="en-US" sz="2800" spc="-1" strike="noStrike">
                <a:solidFill>
                  <a:srgbClr val="000000"/>
                </a:solidFill>
                <a:latin typeface="Arial"/>
              </a:rPr>
              <a:t> which promotes economic development </a:t>
            </a:r>
            <a:endParaRPr b="0" lang="en-US" sz="2800" spc="-1" strike="noStrike">
              <a:solidFill>
                <a:srgbClr val="000000"/>
              </a:solidFill>
              <a:latin typeface="Arial"/>
            </a:endParaRPr>
          </a:p>
          <a:p>
            <a:pPr marL="339840" indent="-33984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United Nations (UN)</a:t>
            </a:r>
            <a:r>
              <a:rPr b="0" lang="en-US" sz="2800" spc="-1" strike="noStrike">
                <a:solidFill>
                  <a:srgbClr val="000000"/>
                </a:solidFill>
                <a:latin typeface="Arial"/>
              </a:rPr>
              <a:t> which maintains international peace and security, develops friendly relations among nations, cooperates in solving international problems and promotes respect for human rights, and is a center for harmonizing the actions of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rivers of Globalization</a:t>
            </a:r>
            <a:endParaRPr b="1" lang="en-US" sz="3600" spc="-1" strike="noStrike">
              <a:solidFill>
                <a:srgbClr val="c6040b"/>
              </a:solidFill>
              <a:latin typeface="Arial"/>
            </a:endParaRPr>
          </a:p>
        </p:txBody>
      </p:sp>
      <p:sp>
        <p:nvSpPr>
          <p:cNvPr id="171"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driving the move toward greater globalization?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macro factors underlying the trend toward greater globalization</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ing trade and investment barriers</a:t>
            </a:r>
            <a:endParaRPr b="0" lang="en-US" sz="2800" spc="-1" strike="noStrike">
              <a:solidFill>
                <a:srgbClr val="000000"/>
              </a:solidFill>
              <a:latin typeface="Arial"/>
            </a:endParaRPr>
          </a:p>
          <a:p>
            <a:pPr lvl="1" marL="990720" indent="-53352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change</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Cola, Sony Playstations, and McDonald’s hamburgers are all examples of</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merican product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product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ustrial product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ional product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lining Trade </a:t>
            </a:r>
            <a:br>
              <a:rPr sz="3600"/>
            </a:br>
            <a:r>
              <a:rPr b="1" lang="en-US" sz="3600" spc="-1" strike="noStrike">
                <a:solidFill>
                  <a:srgbClr val="336699"/>
                </a:solidFill>
                <a:latin typeface="Arial"/>
              </a:rPr>
              <a:t>and Investment Barriers</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International trade</a:t>
            </a:r>
            <a:r>
              <a:rPr b="1" lang="en-US" sz="2800" spc="-1" strike="noStrike">
                <a:solidFill>
                  <a:srgbClr val="000000"/>
                </a:solidFill>
                <a:latin typeface="Arial"/>
              </a:rPr>
              <a:t> </a:t>
            </a:r>
            <a:r>
              <a:rPr b="0" lang="en-US" sz="2800" spc="-1" strike="noStrike">
                <a:solidFill>
                  <a:srgbClr val="000000"/>
                </a:solidFill>
                <a:latin typeface="Arial"/>
              </a:rPr>
              <a:t>occurs when a firm exports goods or services to consumers in another country</a:t>
            </a:r>
            <a:endParaRPr b="0" lang="en-US" sz="2800" spc="-1" strike="noStrike">
              <a:solidFill>
                <a:srgbClr val="000000"/>
              </a:solidFill>
              <a:latin typeface="Arial"/>
            </a:endParaRPr>
          </a:p>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Foreign direct investment (FDI)</a:t>
            </a:r>
            <a:r>
              <a:rPr b="1" lang="en-US" sz="2800" spc="-1" strike="noStrike">
                <a:solidFill>
                  <a:srgbClr val="000000"/>
                </a:solidFill>
                <a:latin typeface="Arial"/>
              </a:rPr>
              <a:t> </a:t>
            </a:r>
            <a:r>
              <a:rPr b="0" lang="en-US" sz="2800" spc="-1" strike="noStrike">
                <a:solidFill>
                  <a:srgbClr val="000000"/>
                </a:solidFill>
                <a:latin typeface="Arial"/>
              </a:rPr>
              <a:t>occurs when a firm invests resources in business activities outside its home country </a:t>
            </a:r>
            <a:endParaRPr b="0" lang="en-US" sz="2800" spc="-1" strike="noStrike">
              <a:solidFill>
                <a:srgbClr val="000000"/>
              </a:solidFill>
              <a:latin typeface="Arial"/>
            </a:endParaRPr>
          </a:p>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920s and 1930s, many nations erected barriers to international trade and FDI to protect domestic industries from foreign compet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lining Trade </a:t>
            </a:r>
            <a:br>
              <a:rPr sz="3600"/>
            </a:br>
            <a:r>
              <a:rPr b="1" lang="en-US" sz="3600" spc="-1" strike="noStrike">
                <a:solidFill>
                  <a:srgbClr val="336699"/>
                </a:solidFill>
                <a:latin typeface="Arial"/>
              </a:rPr>
              <a:t>and Investment Barriers</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WII, advanced Western countries began removing trade and investment barriers </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GATT (the forerunner of the WTO), over 100 nations negotiated further decreases in tariffs and made significant progress on a number of non-tariff issues </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WTO, a mechanism now exists for dispute resolution and the enforcement of trade laws, and there is a push to cut tariffs on industrial goods, services, and agricultural products</a:t>
            </a:r>
            <a:endParaRPr b="0" lang="en-US" sz="2400" spc="-1" strike="noStrike">
              <a:solidFill>
                <a:srgbClr val="000000"/>
              </a:solidFill>
              <a:latin typeface="Arial"/>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lining Trade </a:t>
            </a:r>
            <a:br>
              <a:rPr sz="3600"/>
            </a:br>
            <a:r>
              <a:rPr b="1" lang="en-US" sz="3600" spc="-1" strike="noStrike">
                <a:solidFill>
                  <a:srgbClr val="336699"/>
                </a:solidFill>
                <a:latin typeface="Arial"/>
              </a:rPr>
              <a:t>and Investment Barriers</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trade barriers enable companies to view the world as a single market and establish production activities in optimal locations around the globe</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led to an acceleration in the  volume of world trade and investment since the early 1980s</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lining Trade </a:t>
            </a:r>
            <a:br>
              <a:rPr sz="3600"/>
            </a:br>
            <a:r>
              <a:rPr b="1" lang="en-US" sz="3600" spc="-1" strike="noStrike">
                <a:solidFill>
                  <a:srgbClr val="336699"/>
                </a:solidFill>
                <a:latin typeface="Arial"/>
              </a:rPr>
              <a:t>and Investment Barriers</a:t>
            </a:r>
            <a:endParaRPr b="1" lang="en-US" sz="36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in World Merchandise Trade and Production, 1950 - 2006 </a:t>
            </a:r>
            <a:endParaRPr b="0" lang="en-US" sz="2800" spc="-1" strike="noStrike">
              <a:solidFill>
                <a:srgbClr val="000000"/>
              </a:solidFill>
              <a:latin typeface="Arial"/>
            </a:endParaRPr>
          </a:p>
        </p:txBody>
      </p:sp>
      <p:pic>
        <p:nvPicPr>
          <p:cNvPr id="182" name="Picture 7" descr="hiL8139X_0101"/>
          <p:cNvPicPr/>
          <p:nvPr/>
        </p:nvPicPr>
        <p:blipFill>
          <a:blip r:embed="rId1"/>
          <a:stretch/>
        </p:blipFill>
        <p:spPr>
          <a:xfrm>
            <a:off x="1884240" y="2819520"/>
            <a:ext cx="565956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a:t>
            </a:r>
            <a:br>
              <a:rPr sz="3600"/>
            </a:br>
            <a:r>
              <a:rPr b="1" lang="en-US" sz="3600" spc="-1" strike="noStrike">
                <a:solidFill>
                  <a:srgbClr val="336699"/>
                </a:solidFill>
                <a:latin typeface="Arial"/>
              </a:rPr>
              <a:t>Technological Change</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39840" indent="-33984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ing of trade barriers made globalization of markets and production a theoretical possibility, technological change made it a tangible reality</a:t>
            </a:r>
            <a:endParaRPr b="0" lang="en-US" sz="2800" spc="-1" strike="noStrike">
              <a:solidFill>
                <a:srgbClr val="000000"/>
              </a:solidFill>
              <a:latin typeface="Arial"/>
            </a:endParaRPr>
          </a:p>
          <a:p>
            <a:pPr marL="339840" indent="-33984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orld War II, there have been major advances in communication, information processing, and transpor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a:t>
            </a:r>
            <a:br>
              <a:rPr sz="3600"/>
            </a:br>
            <a:r>
              <a:rPr b="1" lang="en-US" sz="3600" spc="-1" strike="noStrike">
                <a:solidFill>
                  <a:srgbClr val="336699"/>
                </a:solidFill>
                <a:latin typeface="Arial"/>
              </a:rPr>
              <a:t>Technological Change</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the microprocessor has lowered the cost of global communication and therefore the cost of coordinating and controlling a global organization</a:t>
            </a:r>
            <a:endParaRPr b="0" lang="en-US" sz="2400" spc="-1" strike="noStrike">
              <a:solidFill>
                <a:srgbClr val="000000"/>
              </a:solidFill>
              <a:latin typeface="Arial"/>
            </a:endParaRPr>
          </a:p>
          <a:p>
            <a:pPr marL="281160" indent="-2811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transactions have grown from virtually zero in 1994 to $250 billion in 2007 in the U.S. alone, and Internet usage is up from fewer than 1 million users in 1990 to 1.3 billion users in 2007 </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jet aircraft and super freighters and the introduction of containerization have greatly simplified trans-shipment from one mode of transport to another</a:t>
            </a: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51"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a:t>
            </a:r>
            <a:br>
              <a:rPr sz="3600"/>
            </a:br>
            <a:r>
              <a:rPr b="1" lang="en-US" sz="3600" spc="-1" strike="noStrike">
                <a:solidFill>
                  <a:srgbClr val="336699"/>
                </a:solidFill>
                <a:latin typeface="Arial"/>
              </a:rPr>
              <a:t>Technological Change</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re the implications of technological change for the globalization of production?</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transportation costs make a geographically dispersed production system more economical and allow firms to better respond to international customer demands</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a:t>
            </a:r>
            <a:br>
              <a:rPr sz="3600"/>
            </a:br>
            <a:r>
              <a:rPr b="1" lang="en-US" sz="3600" spc="-1" strike="noStrike">
                <a:solidFill>
                  <a:srgbClr val="336699"/>
                </a:solidFill>
                <a:latin typeface="Arial"/>
              </a:rPr>
              <a:t>Technological Change</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implications of technological change for the globalization of markets?</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 communications networks have helped create electronic global marketplaces</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 transportation have enabled firms to create global markets, and have facilitated the movement of people from country to country promoting a convergence of consumer tastes and pre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Demographics </a:t>
            </a:r>
            <a:br>
              <a:rPr sz="3200"/>
            </a:br>
            <a:r>
              <a:rPr b="1" lang="en-US" sz="3200" spc="-1" strike="noStrike">
                <a:solidFill>
                  <a:srgbClr val="336699"/>
                </a:solidFill>
                <a:latin typeface="Arial"/>
              </a:rPr>
              <a:t>of the Global Economy</a:t>
            </a:r>
            <a:endParaRPr b="1" lang="en-US" sz="32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60s: </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ominated the world economy and the world trade picture</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ominated world FDI  </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multinationals dominated the international business scene </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half the world-- the centrally planned economies of the communist world-- was off limits to Western international business</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much of this has changed.</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World Output </a:t>
            </a:r>
            <a:br>
              <a:rPr sz="3200"/>
            </a:br>
            <a:r>
              <a:rPr b="1" lang="en-US" sz="3200" spc="-1" strike="noStrike">
                <a:solidFill>
                  <a:srgbClr val="336699"/>
                </a:solidFill>
                <a:latin typeface="Arial"/>
              </a:rPr>
              <a:t>and World Trade Picture</a:t>
            </a:r>
            <a:endParaRPr b="1" lang="en-US" sz="32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60s, the U.S. was the world's dominant industrial power accounting for about 40.3% of world manufacturing output  </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07, the U.S. accounted for only 20.7%</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eveloped nations experienced a similar decline</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World Output </a:t>
            </a:r>
            <a:br>
              <a:rPr sz="3200"/>
            </a:br>
            <a:r>
              <a:rPr b="1" lang="en-US" sz="3200" spc="-1" strike="noStrike">
                <a:solidFill>
                  <a:srgbClr val="336699"/>
                </a:solidFill>
                <a:latin typeface="Arial"/>
              </a:rPr>
              <a:t>and World Trade Picture</a:t>
            </a:r>
            <a:endParaRPr b="1" lang="en-US" sz="32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236520" indent="-236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economic growth is now being experienced by countries such as China, Thailand, and Malaysia</a:t>
            </a:r>
            <a:endParaRPr b="0" lang="en-US" sz="2400" spc="-1" strike="noStrike">
              <a:solidFill>
                <a:srgbClr val="000000"/>
              </a:solidFill>
              <a:latin typeface="Arial"/>
            </a:endParaRPr>
          </a:p>
          <a:p>
            <a:pPr marL="236520" indent="-236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relative decline in the U.S. share of world output and world exports seems likely</a:t>
            </a:r>
            <a:endParaRPr b="0" lang="en-US" sz="2400" spc="-1" strike="noStrike">
              <a:solidFill>
                <a:srgbClr val="000000"/>
              </a:solidFill>
              <a:latin typeface="Arial"/>
            </a:endParaRPr>
          </a:p>
          <a:p>
            <a:pPr marL="236520" indent="-236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s predict a rapid rise in the share of world output accounted for by developing nations such as China, India, Indonesia, Thailand, and South Korea, and a  decline in the share by industrialized countries such as Britain, Japan, and the United States</a:t>
            </a:r>
            <a:endParaRPr b="0" lang="en-US" sz="2400" spc="-1" strike="noStrike">
              <a:solidFill>
                <a:srgbClr val="000000"/>
              </a:solidFill>
              <a:latin typeface="Arial"/>
            </a:endParaRPr>
          </a:p>
          <a:p>
            <a:pPr marL="236520" indent="-236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companies may find both new markets and new competitors in the developing regions of the world </a:t>
            </a:r>
            <a:endParaRPr b="0" lang="en-US" sz="2400" spc="-1" strike="noStrike">
              <a:solidFill>
                <a:srgbClr val="000000"/>
              </a:solidFill>
              <a:latin typeface="Arial"/>
            </a:endParaRPr>
          </a:p>
          <a:p>
            <a:pPr marL="23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World Output and World Trade Picture</a:t>
            </a:r>
            <a:endParaRPr b="1" lang="en-US" sz="32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ing Demographics of World GDP and Trad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Picture 6" descr="hiL8139X_tb0102"/>
          <p:cNvPicPr/>
          <p:nvPr/>
        </p:nvPicPr>
        <p:blipFill>
          <a:blip r:embed="rId1"/>
          <a:stretch/>
        </p:blipFill>
        <p:spPr>
          <a:xfrm>
            <a:off x="1523880" y="2979720"/>
            <a:ext cx="6553440" cy="35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Foreign </a:t>
            </a:r>
            <a:br>
              <a:rPr sz="3200"/>
            </a:br>
            <a:r>
              <a:rPr b="1" lang="en-US" sz="3200" spc="-1" strike="noStrike">
                <a:solidFill>
                  <a:srgbClr val="336699"/>
                </a:solidFill>
                <a:latin typeface="Arial"/>
              </a:rPr>
              <a:t>Direct Investment Picture</a:t>
            </a:r>
            <a:endParaRPr b="1" lang="en-US" sz="32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re of world output generated by developing countries has been steadily increasing since the 1960s</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stock</a:t>
            </a:r>
            <a:r>
              <a:rPr b="0" lang="en-US" sz="2800" spc="-1" strike="noStrike">
                <a:solidFill>
                  <a:srgbClr val="000000"/>
                </a:solidFill>
                <a:latin typeface="Arial"/>
              </a:rPr>
              <a:t> </a:t>
            </a:r>
            <a:r>
              <a:rPr b="0" lang="en-US" sz="2800" spc="-1" strike="noStrike">
                <a:solidFill>
                  <a:srgbClr val="6a96d3"/>
                </a:solidFill>
                <a:latin typeface="Arial"/>
              </a:rPr>
              <a:t>of foreign direct investment</a:t>
            </a:r>
            <a:r>
              <a:rPr b="0" lang="en-US" sz="2800" spc="-1" strike="noStrike">
                <a:solidFill>
                  <a:srgbClr val="000000"/>
                </a:solidFill>
                <a:latin typeface="Arial"/>
              </a:rPr>
              <a:t> (total cumulative value of foreign investments) generated by rich industrial countries has been on a steady decline</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s been a sustained growth in cross-border flows of foreign direct investment</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recipient of FDI has been China </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Foreign </a:t>
            </a:r>
            <a:br>
              <a:rPr sz="3200"/>
            </a:br>
            <a:r>
              <a:rPr b="1" lang="en-US" sz="3200" spc="-1" strike="noStrike">
                <a:solidFill>
                  <a:srgbClr val="336699"/>
                </a:solidFill>
                <a:latin typeface="Arial"/>
              </a:rPr>
              <a:t>Direct Investment Picture</a:t>
            </a:r>
            <a:endParaRPr b="1" lang="en-US" sz="32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Share of Total FDI Stock, 1980 - 2006</a:t>
            </a:r>
            <a:endParaRPr b="0" lang="en-US" sz="2800" spc="-1" strike="noStrike">
              <a:solidFill>
                <a:srgbClr val="000000"/>
              </a:solidFill>
              <a:latin typeface="Arial"/>
            </a:endParaRPr>
          </a:p>
        </p:txBody>
      </p:sp>
      <p:pic>
        <p:nvPicPr>
          <p:cNvPr id="204" name="Picture 4" descr="hiL8139X_0102"/>
          <p:cNvPicPr/>
          <p:nvPr/>
        </p:nvPicPr>
        <p:blipFill>
          <a:blip r:embed="rId1"/>
          <a:stretch/>
        </p:blipFill>
        <p:spPr>
          <a:xfrm>
            <a:off x="1884240" y="2743200"/>
            <a:ext cx="6193080" cy="352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Foreign </a:t>
            </a:r>
            <a:br>
              <a:rPr sz="3200"/>
            </a:br>
            <a:r>
              <a:rPr b="1" lang="en-US" sz="3200" spc="-1" strike="noStrike">
                <a:solidFill>
                  <a:srgbClr val="336699"/>
                </a:solidFill>
                <a:latin typeface="Arial"/>
              </a:rPr>
              <a:t>Direct Investment Picture</a:t>
            </a:r>
            <a:endParaRPr b="1" lang="en-US" sz="32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Inflows, 1988 - 2007</a:t>
            </a:r>
            <a:endParaRPr b="0" lang="en-US" sz="2800" spc="-1" strike="noStrike">
              <a:solidFill>
                <a:srgbClr val="000000"/>
              </a:solidFill>
              <a:latin typeface="Arial"/>
            </a:endParaRPr>
          </a:p>
        </p:txBody>
      </p:sp>
      <p:pic>
        <p:nvPicPr>
          <p:cNvPr id="207" name="Picture 4" descr="hiL8139X_0103"/>
          <p:cNvPicPr/>
          <p:nvPr/>
        </p:nvPicPr>
        <p:blipFill>
          <a:blip r:embed="rId1"/>
          <a:stretch/>
        </p:blipFill>
        <p:spPr>
          <a:xfrm>
            <a:off x="1600200" y="2438280"/>
            <a:ext cx="6853320" cy="38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Nature of </a:t>
            </a:r>
            <a:br>
              <a:rPr sz="3200"/>
            </a:br>
            <a:r>
              <a:rPr b="1" lang="en-US" sz="3200" spc="-1" strike="noStrike">
                <a:solidFill>
                  <a:srgbClr val="336699"/>
                </a:solidFill>
                <a:latin typeface="Arial"/>
              </a:rPr>
              <a:t>the Multinational Enterprise</a:t>
            </a:r>
            <a:endParaRPr b="1" lang="en-US" sz="32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39840" indent="-33984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multinational enterprise</a:t>
            </a:r>
            <a:r>
              <a:rPr b="0" lang="en-US" sz="2800" spc="-1" strike="noStrike">
                <a:solidFill>
                  <a:srgbClr val="000000"/>
                </a:solidFill>
                <a:latin typeface="Arial"/>
              </a:rPr>
              <a:t> is any business that has productive activities in two or more countries</a:t>
            </a:r>
            <a:endParaRPr b="0" lang="en-US" sz="2800" spc="-1" strike="noStrike">
              <a:solidFill>
                <a:srgbClr val="000000"/>
              </a:solidFill>
              <a:latin typeface="Arial"/>
            </a:endParaRPr>
          </a:p>
          <a:p>
            <a:pPr marL="339840" indent="-33984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1960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s been a rise in non-U.S. multinational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s been a rise in mini-multinationals</a:t>
            </a:r>
            <a:endParaRPr b="0" lang="en-US" sz="2800" spc="-1" strike="noStrike">
              <a:solidFill>
                <a:srgbClr val="000000"/>
              </a:solidFill>
              <a:latin typeface="Arial"/>
            </a:endParaRPr>
          </a:p>
          <a:p>
            <a:pPr marL="339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3" name="PlaceHolder 2"/>
          <p:cNvSpPr>
            <a:spLocks noGrp="1"/>
          </p:cNvSpPr>
          <p:nvPr>
            <p:ph/>
          </p:nvPr>
        </p:nvSpPr>
        <p:spPr>
          <a:xfrm>
            <a:off x="1883880" y="1798560"/>
            <a:ext cx="7031160" cy="4525920"/>
          </a:xfrm>
          <a:prstGeom prst="rect">
            <a:avLst/>
          </a:prstGeom>
          <a:noFill/>
          <a:ln w="0">
            <a:noFill/>
          </a:ln>
        </p:spPr>
        <p:txBody>
          <a:bodyPr anchor="t">
            <a:normAutofit/>
          </a:bodyPr>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world economy today, we see</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ift away from self-contained national economies with high barriers to cross-border trade and investment</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ve toward a more integrated global economic system with lower barriers to trade and investment</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3 trillion in foreign exchange transactions taking place everyday</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2 million of goods and some $3 trillion of services being sold across national borders</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ablishment of international instit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Nature of </a:t>
            </a:r>
            <a:br>
              <a:rPr sz="3200"/>
            </a:br>
            <a:r>
              <a:rPr b="1" lang="en-US" sz="3200" spc="-1" strike="noStrike">
                <a:solidFill>
                  <a:srgbClr val="336699"/>
                </a:solidFill>
                <a:latin typeface="Arial"/>
              </a:rPr>
              <a:t>the Multinational Enterprise</a:t>
            </a:r>
            <a:endParaRPr b="1" lang="en-US" sz="32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236520" indent="-236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ization of the world economy has resulted in a decline in the dominance of U.S. firms in the global marketplac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3, 48.5 % of the world’s 260 largest MNEs were U.S. firms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2006, just 24 of the world’s 100 largest non-financial MNEs were from the U.S., 13 were from France, 12 from Germany, 12 were from Britain, and 9 were from Japan, and 7 of the world’s largest 100 MNEs were from developing econom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hanging Nature of </a:t>
            </a:r>
            <a:br>
              <a:rPr sz="3200"/>
            </a:br>
            <a:r>
              <a:rPr b="1" lang="en-US" sz="3200" spc="-1" strike="noStrike">
                <a:solidFill>
                  <a:srgbClr val="336699"/>
                </a:solidFill>
                <a:latin typeface="Arial"/>
              </a:rPr>
              <a:t>the Multinational Enterprise</a:t>
            </a:r>
            <a:endParaRPr b="1" lang="en-US" sz="32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39840" indent="-33984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most international trade and investment is conducted by large MNEs, many small and medium-size firms are expanding internationall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has made it easier for many smaller companies to build international s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Changing World Order</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many markets that had been closed to Western firms are ope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pse of communism in Eastern Europe has created a host of export and investment opportunitie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development in China has created huge opportunities despite continued Communist control</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market reforms and democracy in Latin America have created opportunities for new markets and new sources of materials and production</a:t>
            </a: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Global Economy </a:t>
            </a:r>
            <a:br>
              <a:rPr sz="3200"/>
            </a:br>
            <a:r>
              <a:rPr b="1" lang="en-US" sz="3200" spc="-1" strike="noStrike">
                <a:solidFill>
                  <a:srgbClr val="336699"/>
                </a:solidFill>
                <a:latin typeface="Arial"/>
              </a:rPr>
              <a:t>of the Twenty-First Century</a:t>
            </a:r>
            <a:endParaRPr b="1" lang="en-US" sz="32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re integrated global economy presents new opportunities for firms, but it can also result in political and economic disruptions that may throw plans into dis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Globalization Debate</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Is the shift toward a more integrated and interdependent global economy a good thing?  </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believe that globalization is promoting greater prosperity in the global economy, more jobs, and lower prices for goods and services</a:t>
            </a: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feel that globalization is not benefi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ntiglobalization Protests</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re the concerns of critics of globalization?  </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obalization protesters now turn up at almost every major meeting of a global institution</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sters fear that globalization is forever changing the world in a negative way</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lobalization, Jobs, and Income</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275400" indent="-2754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s of globalization worry that jobs in advanced economies are being lost to low-wage nations </a:t>
            </a:r>
            <a:endParaRPr b="0" lang="en-US" sz="2400" spc="-1" strike="noStrike">
              <a:solidFill>
                <a:srgbClr val="000000"/>
              </a:solidFill>
              <a:latin typeface="Arial"/>
            </a:endParaRPr>
          </a:p>
          <a:p>
            <a:pPr marL="275400" indent="-2754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globalization disagree, claiming that the benefits of free trade outweigh its costs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jobs may be lost, the economy as a whole is better off</a:t>
            </a:r>
            <a:endParaRPr b="0" lang="en-US" sz="2400" spc="-1" strike="noStrike">
              <a:solidFill>
                <a:srgbClr val="000000"/>
              </a:solidFill>
              <a:latin typeface="Arial"/>
            </a:endParaRPr>
          </a:p>
          <a:p>
            <a:pPr marL="275400" indent="-2754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argue that free trade will result in countries specializing in the production of those goods and services that they can produce most efficiently, while importing goods and services that they cannot produce as efficiently, and that in doing so, </a:t>
            </a:r>
            <a:r>
              <a:rPr b="0" i="1" lang="en-US" sz="2400" spc="-1" strike="noStrike">
                <a:solidFill>
                  <a:srgbClr val="000000"/>
                </a:solidFill>
                <a:latin typeface="Arial"/>
              </a:rPr>
              <a:t>all </a:t>
            </a:r>
            <a:r>
              <a:rPr b="0" lang="en-US" sz="2400" spc="-1" strike="noStrike">
                <a:solidFill>
                  <a:srgbClr val="000000"/>
                </a:solidFill>
                <a:latin typeface="Arial"/>
              </a:rPr>
              <a:t>countries will 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lobalization, Labor Policies, </a:t>
            </a:r>
            <a:br>
              <a:rPr sz="3200"/>
            </a:br>
            <a:r>
              <a:rPr b="1" lang="en-US" sz="3200" spc="-1" strike="noStrike">
                <a:solidFill>
                  <a:srgbClr val="336699"/>
                </a:solidFill>
                <a:latin typeface="Arial"/>
              </a:rPr>
              <a:t>and the Environment</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5745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s of globalization argue that that free trade encourages firms from advanced nations to move manufacturing facilities offshore to less developed countries with lax environmental and labor regulations </a:t>
            </a:r>
            <a:endParaRPr b="0" lang="en-US" sz="2400" spc="-1" strike="noStrike">
              <a:solidFill>
                <a:srgbClr val="000000"/>
              </a:solidFill>
              <a:latin typeface="Arial"/>
            </a:endParaRPr>
          </a:p>
          <a:p>
            <a:pPr marL="5745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free trade point out that tougher environmental regulation and stricter labor standards go hand in hand with economic progress and that as countries get richer as a result of globalization, they raise their environmental and labor standards </a:t>
            </a:r>
            <a:endParaRPr b="0" lang="en-US" sz="2400" spc="-1" strike="noStrike">
              <a:solidFill>
                <a:srgbClr val="000000"/>
              </a:solidFill>
              <a:latin typeface="Arial"/>
            </a:endParaRPr>
          </a:p>
          <a:p>
            <a:pPr lvl="1" marL="974880" indent="-28584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trade does not lead to more pollution and labor exploitation, it leads to less</a:t>
            </a:r>
            <a:endParaRPr b="0" lang="en-US" sz="2400" spc="-1" strike="noStrike">
              <a:solidFill>
                <a:srgbClr val="000000"/>
              </a:solidFill>
              <a:latin typeface="Arial"/>
            </a:endParaRPr>
          </a:p>
          <a:p>
            <a:pPr marL="574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lobalization and </a:t>
            </a:r>
            <a:br>
              <a:rPr sz="3200"/>
            </a:br>
            <a:r>
              <a:rPr b="1" lang="en-US" sz="3200" spc="-1" strike="noStrike">
                <a:solidFill>
                  <a:srgbClr val="336699"/>
                </a:solidFill>
                <a:latin typeface="Arial"/>
              </a:rPr>
              <a:t>National Sovereignty</a:t>
            </a:r>
            <a:endParaRPr b="1" lang="en-US" sz="32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s of globalization worry that economic power is shifting away from national governments and toward supranational organizations such as the WTO, the European Union (EU), and the UN</a:t>
            </a:r>
            <a:endParaRPr b="0" lang="en-US" sz="2400" spc="-1" strike="noStrike">
              <a:solidFill>
                <a:srgbClr val="000000"/>
              </a:solidFill>
              <a:latin typeface="Arial"/>
            </a:endParaRPr>
          </a:p>
          <a:p>
            <a:pPr marL="236520" indent="-236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globalization argue that the power of these organizations is limited to what nation-states collectively agree to gra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ganizations must be able to persuade members states to follow certain action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support of members, the organizations have no power </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lobalization and the World’s Poor</a:t>
            </a:r>
            <a:endParaRPr b="1" lang="en-US" sz="32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39840" indent="-3398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s of globalization argue that the gap between rich and poor has gotten wider and that the benefits of globalization have not been shared equally</a:t>
            </a:r>
            <a:endParaRPr b="0" lang="en-US" sz="2400" spc="-1" strike="noStrike">
              <a:solidFill>
                <a:srgbClr val="000000"/>
              </a:solidFill>
              <a:latin typeface="Arial"/>
            </a:endParaRPr>
          </a:p>
          <a:p>
            <a:pPr marL="339840" indent="-3398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free trade suggest that the actions of governments have made limited economic improvement in many countri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world’s poorest nations are under totalitarian regimes, suffer from endemic corruption, have few property rights, are involved in war, and are burdened by high debt </a:t>
            </a:r>
            <a:endParaRPr b="0" lang="en-US" sz="2400" spc="-1" strike="noStrike">
              <a:solidFill>
                <a:srgbClr val="000000"/>
              </a:solidFill>
              <a:latin typeface="Arial"/>
            </a:endParaRPr>
          </a:p>
          <a:p>
            <a:pPr marL="339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this trend can be seen</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rs people drive</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ood people eat</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jobs where people work </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othes people wear</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other ways</a:t>
            </a:r>
            <a:endParaRPr b="0" lang="en-US" sz="28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Managing in the Global Marketplace</a:t>
            </a:r>
            <a:endParaRPr b="1" lang="en-US" sz="32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does the shift toward a global economy mean for managers within an international business?</a:t>
            </a:r>
            <a:endParaRPr b="0" lang="en-US" sz="2800" spc="-1" strike="noStrike">
              <a:solidFill>
                <a:srgbClr val="000000"/>
              </a:solidFill>
              <a:latin typeface="Arial"/>
            </a:endParaRPr>
          </a:p>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n </a:t>
            </a:r>
            <a:r>
              <a:rPr b="0" lang="en-US" sz="2800" spc="-1" strike="noStrike">
                <a:solidFill>
                  <a:srgbClr val="6a96d3"/>
                </a:solidFill>
                <a:latin typeface="Arial"/>
              </a:rPr>
              <a:t>international business</a:t>
            </a:r>
            <a:r>
              <a:rPr b="0" lang="en-US" sz="2800" spc="-1" strike="noStrike">
                <a:solidFill>
                  <a:srgbClr val="000000"/>
                </a:solidFill>
                <a:latin typeface="Arial"/>
              </a:rPr>
              <a:t> (any firm that engages in international trade or investment) differs from managing a domestic business in four key way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Managing in the Global Marketplace</a:t>
            </a:r>
            <a:endParaRPr b="1" lang="en-US" sz="32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80880" indent="-38088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differences require companies to vary their practices country by country</a:t>
            </a:r>
            <a:endParaRPr b="0" lang="en-US" sz="2800" spc="-1" strike="noStrike">
              <a:solidFill>
                <a:srgbClr val="000000"/>
              </a:solidFill>
              <a:latin typeface="Arial"/>
            </a:endParaRPr>
          </a:p>
          <a:p>
            <a:pPr marL="380880" indent="-38088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face a greater and more complex range of problems</a:t>
            </a:r>
            <a:endParaRPr b="0" lang="en-US" sz="2800" spc="-1" strike="noStrike">
              <a:solidFill>
                <a:srgbClr val="000000"/>
              </a:solidFill>
              <a:latin typeface="Arial"/>
            </a:endParaRPr>
          </a:p>
          <a:p>
            <a:pPr marL="380880" indent="-38088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companies must work within the limits imposed by governmental intervention and the global trading system</a:t>
            </a:r>
            <a:endParaRPr b="0" lang="en-US" sz="2800" spc="-1" strike="noStrike">
              <a:solidFill>
                <a:srgbClr val="000000"/>
              </a:solidFill>
              <a:latin typeface="Arial"/>
            </a:endParaRPr>
          </a:p>
          <a:p>
            <a:pPr marL="380880" indent="-38088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nsactions require converting funds and being susceptible to exchange rate changes</a:t>
            </a:r>
            <a:endParaRPr b="0" lang="en-US" sz="2800" spc="-1" strike="noStrike">
              <a:solidFill>
                <a:srgbClr val="000000"/>
              </a:solidFill>
              <a:latin typeface="Arial"/>
            </a:endParaRPr>
          </a:p>
          <a:p>
            <a:pPr lvl="1" marL="800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3200" spc="-1" strike="noStrike">
                <a:solidFill>
                  <a:srgbClr val="000000"/>
                </a:solidFill>
                <a:latin typeface="Arial"/>
              </a:rPr>
              <a:t>1. Describe the shifts in the world economy over the last 30 years.  What are the implications of these shifts for international businesses based in Great Britain? North America? Hong Kong?</a:t>
            </a:r>
            <a:endParaRPr b="0" lang="en-US" sz="3200" spc="-1" strike="noStrike">
              <a:solidFill>
                <a:srgbClr val="000000"/>
              </a:solidFill>
              <a:latin typeface="Arial"/>
            </a:endParaRPr>
          </a:p>
          <a:p>
            <a:pPr marL="2811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000000"/>
                </a:solidFill>
                <a:latin typeface="Arial"/>
              </a:rPr>
              <a:t>2. "The study of international business is fine if you are going to work in a large multinational enterprise, but it has no relevance for individuals who are going to work in smaller firms."  Evaluate th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000000"/>
                </a:solidFill>
                <a:latin typeface="Arial"/>
              </a:rPr>
              <a:t>3. How have changes in technology contributed to the globalization of markets and of production?  Would the globalization of production and markets have been possible without these technologic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1"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000000"/>
                </a:solidFill>
                <a:latin typeface="Arial"/>
              </a:rPr>
              <a:t>4. "Ultimately, the study of international business is no different from the study of domestic business.  Thus, there is no point in having a separate course on international business."  Evaluate th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3"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000000"/>
                </a:solidFill>
                <a:latin typeface="Arial"/>
              </a:rPr>
              <a:t>5. How might the Internet and the associated World Wide Web affect international business activity and the globalization of the world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5"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000000"/>
                </a:solidFill>
                <a:latin typeface="Arial"/>
              </a:rPr>
              <a:t>6. If current trends continue, China may emerge as the world's largest economy by 2020.  Discuss the possible implications of such a development for:</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trading system.</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monetary system.</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strategy of today's European and U.S. based global corporations.</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modity prices.</a:t>
            </a:r>
            <a:endParaRPr b="0" lang="en-US" sz="2400" spc="-1" strike="noStrike">
              <a:solidFill>
                <a:srgbClr val="000000"/>
              </a:solidFill>
              <a:latin typeface="Arial"/>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ead the Country Focus “Outsourcing American Healthcare,” then answer the following questions:  </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decade ago the idea that medical procedures might move offshore was unthinkable.  Today it is a reality.  What trends have facilitated this process?</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s the globalization of health care good or bad for patients?</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s the globalization of health care good or bad for the American economy?  </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ho might benefit from the globalization of health care?  Who might lose?</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Do you think that the U.S. government should restrict the outsourcing of medical work to developing nations?  What if physicians in those countries are certified by U.S. medical instit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6699"/>
                </a:solidFill>
                <a:latin typeface="Arial"/>
              </a:rPr>
              <a:t>What Is Globalization?</a:t>
            </a:r>
            <a:br>
              <a:rPr sz="3600"/>
            </a:br>
            <a:endParaRPr b="1" lang="en-US" sz="3600" spc="-1" strike="noStrike">
              <a:solidFill>
                <a:srgbClr val="c6040b"/>
              </a:solidFill>
              <a:latin typeface="Arial"/>
            </a:endParaRPr>
          </a:p>
        </p:txBody>
      </p:sp>
      <p:sp>
        <p:nvSpPr>
          <p:cNvPr id="157"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 </a:t>
            </a:r>
            <a:r>
              <a:rPr b="0" lang="en-US" sz="2800" spc="-1" strike="noStrike">
                <a:solidFill>
                  <a:srgbClr val="000000"/>
                </a:solidFill>
                <a:latin typeface="Arial"/>
              </a:rPr>
              <a:t>What is globalization?</a:t>
            </a:r>
            <a:r>
              <a:rPr b="0" lang="en-US" sz="2800" spc="-1" strike="noStrike">
                <a:solidFill>
                  <a:srgbClr val="6a96d3"/>
                </a:solidFill>
                <a:latin typeface="Arial"/>
              </a:rPr>
              <a:t> </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Globalization</a:t>
            </a:r>
            <a:r>
              <a:rPr b="0" lang="en-US" sz="2800" spc="-1" strike="noStrike">
                <a:solidFill>
                  <a:srgbClr val="000000"/>
                </a:solidFill>
                <a:latin typeface="Arial"/>
              </a:rPr>
              <a:t> refers to the trend towards a more integrated global economic system</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key facets of globalization are:</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lobalization of markets</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lobalization of production  </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159"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nd away from distinct national economic units and toward one huge global market is known a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nationalization</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integration</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ization</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iza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Globalization of Markets</a:t>
            </a:r>
            <a:endParaRPr b="1" lang="en-US" sz="3600" spc="-1" strike="noStrike">
              <a:solidFill>
                <a:srgbClr val="c6040b"/>
              </a:solidFill>
              <a:latin typeface="Arial"/>
            </a:endParaRPr>
          </a:p>
        </p:txBody>
      </p:sp>
      <p:sp>
        <p:nvSpPr>
          <p:cNvPr id="161"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globalization of markets</a:t>
            </a:r>
            <a:r>
              <a:rPr b="0" lang="en-US" sz="2800" spc="-1" strike="noStrike">
                <a:solidFill>
                  <a:srgbClr val="000000"/>
                </a:solidFill>
                <a:latin typeface="Arial"/>
              </a:rPr>
              <a:t> refers to the merging of historically distinct and separate national markets into one huge global marketplace </a:t>
            </a:r>
            <a:endParaRPr b="0" lang="en-US" sz="2800" spc="-1" strike="noStrike">
              <a:solidFill>
                <a:srgbClr val="000000"/>
              </a:solidFill>
              <a:latin typeface="Arial"/>
            </a:endParaRPr>
          </a:p>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markets today, the tastes and preferences of consumers in different nations are converging upon some global norm</a:t>
            </a:r>
            <a:endParaRPr b="0" lang="en-US" sz="2800" spc="-1" strike="noStrike">
              <a:solidFill>
                <a:srgbClr val="000000"/>
              </a:solidFill>
              <a:latin typeface="Arial"/>
            </a:endParaRPr>
          </a:p>
          <a:p>
            <a:pPr marL="281160" indent="-28116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this trend include Coca Cola, Starbucks, Sony PlayStation, and McDonald’s hambur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6699"/>
                </a:solidFill>
                <a:latin typeface="Arial"/>
              </a:rPr>
              <a:t>The Globalization of Production</a:t>
            </a:r>
            <a:endParaRPr b="1" lang="en-US" sz="3600" spc="-1" strike="noStrike">
              <a:solidFill>
                <a:srgbClr val="c6040b"/>
              </a:solidFill>
              <a:latin typeface="Arial"/>
            </a:endParaRPr>
          </a:p>
        </p:txBody>
      </p:sp>
      <p:sp>
        <p:nvSpPr>
          <p:cNvPr id="163"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globalization of production</a:t>
            </a:r>
            <a:r>
              <a:rPr b="0" lang="en-US" sz="2400" spc="-1" strike="noStrike">
                <a:solidFill>
                  <a:srgbClr val="000000"/>
                </a:solidFill>
                <a:latin typeface="Arial"/>
              </a:rPr>
              <a:t> refers to the sourcing of goods and services from locations around the globe to take advantage of national differences in the cost and quality of </a:t>
            </a:r>
            <a:r>
              <a:rPr b="0" lang="en-US" sz="2400" spc="-1" strike="noStrike">
                <a:solidFill>
                  <a:srgbClr val="6a96d3"/>
                </a:solidFill>
                <a:latin typeface="Arial"/>
              </a:rPr>
              <a:t>factors of production</a:t>
            </a:r>
            <a:r>
              <a:rPr b="0" lang="en-US" sz="2400" spc="-1" strike="noStrike">
                <a:solidFill>
                  <a:srgbClr val="000000"/>
                </a:solidFill>
                <a:latin typeface="Arial"/>
              </a:rPr>
              <a:t> (labor energy, land, and capital) </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for companies is to lower their overall cost structure or improve the quality or functionality of their product and gain competitive advantage</a:t>
            </a:r>
            <a:endParaRPr b="0" lang="en-US" sz="2400" spc="-1" strike="noStrike">
              <a:solidFill>
                <a:srgbClr val="000000"/>
              </a:solidFill>
              <a:latin typeface="Arial"/>
            </a:endParaRPr>
          </a:p>
          <a:p>
            <a:pPr marL="281160" indent="-2811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companies doing this include Boeing and Vizio   </a:t>
            </a:r>
            <a:endParaRPr b="0" lang="en-US" sz="2400" spc="-1" strike="noStrike">
              <a:solidFill>
                <a:srgbClr val="000000"/>
              </a:solidFill>
              <a:latin typeface="Arial"/>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mergence </a:t>
            </a:r>
            <a:br>
              <a:rPr sz="3600"/>
            </a:br>
            <a:r>
              <a:rPr b="1" lang="en-US" sz="3600" spc="-1" strike="noStrike">
                <a:solidFill>
                  <a:srgbClr val="336699"/>
                </a:solidFill>
                <a:latin typeface="Arial"/>
              </a:rPr>
              <a:t>of Global Institutions</a:t>
            </a:r>
            <a:endParaRPr b="1" lang="en-US" sz="3600" spc="-1" strike="noStrike">
              <a:solidFill>
                <a:srgbClr val="c6040b"/>
              </a:solidFill>
              <a:latin typeface="Arial"/>
            </a:endParaRPr>
          </a:p>
        </p:txBody>
      </p:sp>
      <p:sp>
        <p:nvSpPr>
          <p:cNvPr id="165" name="PlaceHolder 2"/>
          <p:cNvSpPr>
            <a:spLocks noGrp="1"/>
          </p:cNvSpPr>
          <p:nvPr>
            <p:ph/>
          </p:nvPr>
        </p:nvSpPr>
        <p:spPr>
          <a:xfrm>
            <a:off x="1883880" y="1798560"/>
            <a:ext cx="7031160" cy="4525920"/>
          </a:xfrm>
          <a:prstGeom prst="rect">
            <a:avLst/>
          </a:prstGeom>
          <a:noFill/>
          <a:ln w="0">
            <a:noFill/>
          </a:ln>
        </p:spPr>
        <p:txBody>
          <a:bodyPr anchor="t">
            <a:normAutofit/>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global institutions have emerged to</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manage, regulate, and police the global market place</a:t>
            </a:r>
            <a:endParaRPr b="0" lang="en-US" sz="2800" spc="-1" strike="noStrike">
              <a:solidFill>
                <a:srgbClr val="000000"/>
              </a:solidFill>
              <a:latin typeface="Arial"/>
            </a:endParaRPr>
          </a:p>
          <a:p>
            <a:pPr marL="281160" indent="-28116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the establishment of multinational treaties to govern the global business system</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3:41:10Z</dcterms:modified>
  <cp:revision>22</cp:revision>
  <dc:subject/>
  <dc:title>Slide 1</dc:title>
</cp:coreProperties>
</file>