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6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12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68.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97.xml.rels" ContentType="application/vnd.openxmlformats-package.relationships+xml"/>
  <Override PartName="/ppt/slides/_rels/slide59.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33.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0.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160.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26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2.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C3D1C-42DD-483A-A207-EB65BC64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DF249-CE0C-4889-9F27-5F141DE8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F8CC0-A652-417F-B0C3-B71BDE05A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61B46-6B12-4F96-9A9D-56AFDE262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76CA0-CCBA-42C4-8C5D-68ABFCE97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67CB5-4DD7-42E4-B3CA-088F106A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20E8B-1A2B-45E6-B121-018320675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00B8B-514E-48F5-8188-1AD9664F7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ED88D-B206-4460-B23C-81F21EECE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B68B-C3CC-4C45-8DBE-868E5171F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8E718-5F07-40FF-9E77-D21A5B9D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51FA-D3C4-4DDF-BE6A-698A5F4D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0468D-7C88-4589-BCCB-1D086D1D4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9C6B6-7D92-41D6-AFDD-AA22F491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6204B-5008-4D17-9852-5D83834DA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F871D-E55B-4D64-B40F-F232A2427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E6D66-D830-4725-A5CC-B78D7313E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DA031-14AE-4869-86A4-C8B5DB02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049B-FBF9-4D58-BB7A-31323344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BE997-1CC6-463B-B8B0-67ACB0651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FF45-85A1-4576-8C27-DD5FAE568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217A-E986-43EF-BA53-CFBEE1D85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24F8-E0E8-4849-AAE3-35F6947D1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B4C1-50F5-4B1D-88EB-70FCB179C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4"/>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 name="Group 77"/>
          <p:cNvGrpSpPr/>
          <p:nvPr/>
        </p:nvGrpSpPr>
        <p:grpSpPr>
          <a:xfrm>
            <a:off x="3240" y="4267080"/>
            <a:ext cx="9140760" cy="2590920"/>
            <a:chOff x="3240" y="4267080"/>
            <a:chExt cx="9140760" cy="2590920"/>
          </a:xfrm>
        </p:grpSpPr>
        <p:sp>
          <p:nvSpPr>
            <p:cNvPr id="2"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 name="Group 74"/>
            <p:cNvGrpSpPr/>
            <p:nvPr/>
          </p:nvGrpSpPr>
          <p:grpSpPr>
            <a:xfrm>
              <a:off x="5600880" y="5897520"/>
              <a:ext cx="1256760" cy="827280"/>
              <a:chOff x="5600880" y="5897520"/>
              <a:chExt cx="1256760" cy="827280"/>
            </a:xfrm>
          </p:grpSpPr>
          <p:sp>
            <p:nvSpPr>
              <p:cNvPr id="4" name="Oval 1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Oval 1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Oval 1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Oval 1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Oval 1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2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2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 name="Freeform 2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 name="Freeform 2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2000" spc="-1" strike="noStrike">
                  <a:solidFill>
                    <a:srgbClr val="ffffff"/>
                  </a:solidFill>
                  <a:latin typeface="Arial"/>
                </a:endParaRPr>
              </a:p>
            </p:txBody>
          </p:sp>
          <p:sp>
            <p:nvSpPr>
              <p:cNvPr id="14" name="Oval 53"/>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000" spc="-1" strike="noStrike">
                  <a:solidFill>
                    <a:srgbClr val="ffffff"/>
                  </a:solidFill>
                  <a:latin typeface="Arial"/>
                </a:endParaRPr>
              </a:p>
            </p:txBody>
          </p:sp>
        </p:grpSp>
        <p:grpSp>
          <p:nvGrpSpPr>
            <p:cNvPr id="15" name="Group 73"/>
            <p:cNvGrpSpPr/>
            <p:nvPr/>
          </p:nvGrpSpPr>
          <p:grpSpPr>
            <a:xfrm>
              <a:off x="2819520" y="5764320"/>
              <a:ext cx="2581200" cy="1084320"/>
              <a:chOff x="2819520" y="5764320"/>
              <a:chExt cx="2581200" cy="1084320"/>
            </a:xfrm>
          </p:grpSpPr>
          <p:sp>
            <p:nvSpPr>
              <p:cNvPr id="16"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24"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4" name="Group 76"/>
            <p:cNvGrpSpPr/>
            <p:nvPr/>
          </p:nvGrpSpPr>
          <p:grpSpPr>
            <a:xfrm>
              <a:off x="6553080" y="5334120"/>
              <a:ext cx="2144880" cy="1303200"/>
              <a:chOff x="6553080" y="5334120"/>
              <a:chExt cx="2144880" cy="1303200"/>
            </a:xfrm>
          </p:grpSpPr>
          <p:sp>
            <p:nvSpPr>
              <p:cNvPr id="35"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 name="Freeform 4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 name="Freeform 4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grpSp>
        <p:grpSp>
          <p:nvGrpSpPr>
            <p:cNvPr id="52" name="Group 75"/>
            <p:cNvGrpSpPr/>
            <p:nvPr/>
          </p:nvGrpSpPr>
          <p:grpSpPr>
            <a:xfrm>
              <a:off x="8381880" y="4800600"/>
              <a:ext cx="674640" cy="409680"/>
              <a:chOff x="8381880" y="4800600"/>
              <a:chExt cx="674640" cy="409680"/>
            </a:xfrm>
          </p:grpSpPr>
          <p:sp>
            <p:nvSpPr>
              <p:cNvPr id="53"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5"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7"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0" name="Group 61"/>
              <p:cNvGrpSpPr/>
              <p:nvPr/>
            </p:nvGrpSpPr>
            <p:grpSpPr>
              <a:xfrm>
                <a:off x="8542440" y="4897440"/>
                <a:ext cx="360360" cy="209520"/>
                <a:chOff x="8542440" y="4897440"/>
                <a:chExt cx="360360" cy="209520"/>
              </a:xfrm>
            </p:grpSpPr>
            <p:sp>
              <p:nvSpPr>
                <p:cNvPr id="61"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4"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0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7879-4C45-42F4-A21D-C41F53A69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71"/>
          <p:cNvGrpSpPr/>
          <p:nvPr/>
        </p:nvGrpSpPr>
        <p:grpSpPr>
          <a:xfrm>
            <a:off x="3240" y="4267080"/>
            <a:ext cx="9140760" cy="2590920"/>
            <a:chOff x="3240" y="4267080"/>
            <a:chExt cx="9140760" cy="2590920"/>
          </a:xfrm>
        </p:grpSpPr>
        <p:sp>
          <p:nvSpPr>
            <p:cNvPr id="107" name="Freeform 72"/>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73"/>
            <p:cNvGrpSpPr/>
            <p:nvPr/>
          </p:nvGrpSpPr>
          <p:grpSpPr>
            <a:xfrm>
              <a:off x="5600880" y="5897520"/>
              <a:ext cx="1256760" cy="827280"/>
              <a:chOff x="5600880" y="5897520"/>
              <a:chExt cx="1256760" cy="827280"/>
            </a:xfrm>
          </p:grpSpPr>
          <p:sp>
            <p:nvSpPr>
              <p:cNvPr id="109" name="Oval 74"/>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0" name="Oval 75"/>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 name="Oval 76"/>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 name="Oval 77"/>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3" name="Oval 78"/>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Freeform 79"/>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Freeform 80"/>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6" name="Freeform 81"/>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7" name="Freeform 82"/>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 name="Freeform 83"/>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2000" spc="-1" strike="noStrike">
                  <a:solidFill>
                    <a:srgbClr val="ffffff"/>
                  </a:solidFill>
                  <a:latin typeface="Arial"/>
                </a:endParaRPr>
              </a:p>
            </p:txBody>
          </p:sp>
          <p:sp>
            <p:nvSpPr>
              <p:cNvPr id="119" name="Oval 84"/>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000" spc="-1" strike="noStrike">
                  <a:solidFill>
                    <a:srgbClr val="ffffff"/>
                  </a:solidFill>
                  <a:latin typeface="Arial"/>
                </a:endParaRPr>
              </a:p>
            </p:txBody>
          </p:sp>
        </p:grpSp>
        <p:grpSp>
          <p:nvGrpSpPr>
            <p:cNvPr id="120" name="Group 85"/>
            <p:cNvGrpSpPr/>
            <p:nvPr/>
          </p:nvGrpSpPr>
          <p:grpSpPr>
            <a:xfrm>
              <a:off x="2819520" y="5764320"/>
              <a:ext cx="2581200" cy="1084320"/>
              <a:chOff x="2819520" y="5764320"/>
              <a:chExt cx="2581200" cy="1084320"/>
            </a:xfrm>
          </p:grpSpPr>
          <p:sp>
            <p:nvSpPr>
              <p:cNvPr id="121" name="Oval 8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2" name="Oval 8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3" name="Oval 8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Oval 8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Oval 9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Oval 9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7" name="Oval 9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Oval 9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29" name="Freeform 94"/>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95"/>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96"/>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97"/>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8"/>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99"/>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00"/>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01"/>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02"/>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03"/>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9" name="Group 104"/>
            <p:cNvGrpSpPr/>
            <p:nvPr/>
          </p:nvGrpSpPr>
          <p:grpSpPr>
            <a:xfrm>
              <a:off x="6553080" y="5334120"/>
              <a:ext cx="2144880" cy="1303200"/>
              <a:chOff x="6553080" y="5334120"/>
              <a:chExt cx="2144880" cy="1303200"/>
            </a:xfrm>
          </p:grpSpPr>
          <p:sp>
            <p:nvSpPr>
              <p:cNvPr id="140" name="Freeform 10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 name="Freeform 10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2" name="Freeform 10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3" name="Freeform 10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 name="Freeform 10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5" name="Freeform 11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6" name="Freeform 11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Freeform 112"/>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8" name="Freeform 113"/>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Freeform 11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Freeform 11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1" name="Oval 116"/>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2" name="Oval 117"/>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3" name="Oval 118"/>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4" name="Oval 119"/>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Oval 120"/>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Oval 121"/>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grpSp>
        <p:grpSp>
          <p:nvGrpSpPr>
            <p:cNvPr id="157" name="Group 122"/>
            <p:cNvGrpSpPr/>
            <p:nvPr/>
          </p:nvGrpSpPr>
          <p:grpSpPr>
            <a:xfrm>
              <a:off x="8381880" y="4800600"/>
              <a:ext cx="674640" cy="409680"/>
              <a:chOff x="8381880" y="4800600"/>
              <a:chExt cx="674640" cy="409680"/>
            </a:xfrm>
          </p:grpSpPr>
          <p:sp>
            <p:nvSpPr>
              <p:cNvPr id="158" name="Freeform 123"/>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9" name="Freeform 124"/>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 name="Freeform 125"/>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1" name="Freeform 126"/>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Freeform 127"/>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3" name="Freeform 128"/>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Freeform 129"/>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65" name="Group 130"/>
              <p:cNvGrpSpPr/>
              <p:nvPr/>
            </p:nvGrpSpPr>
            <p:grpSpPr>
              <a:xfrm>
                <a:off x="8542440" y="4897440"/>
                <a:ext cx="360360" cy="209520"/>
                <a:chOff x="8542440" y="4897440"/>
                <a:chExt cx="360360" cy="209520"/>
              </a:xfrm>
            </p:grpSpPr>
            <p:sp>
              <p:nvSpPr>
                <p:cNvPr id="166" name="Oval 131"/>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7" name="Oval 132"/>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8" name="Oval 133"/>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 name="Oval 134"/>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0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B0E0-C1C7-4EB4-B3E5-0371576BC4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77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LAYSIAN BUSINESS LAW</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SUHAIMI AB RAHMA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ARTMENT OF MANAGEMENT AND MARKETING</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ULTY OF ECONOMICS AND MANAGEMENT</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M</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OF POLICY AND MANAGEMENT</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AL PRODUCTS RESEARCH INSTITUT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M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2209680" y="5867280"/>
            <a:ext cx="4562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l: 03-89467656/03-8943795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suhaimi@econ.upm.edu.m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NATURAL SCHOOL OF THOUGHT</a:t>
            </a:r>
            <a:endParaRPr b="0" lang="en-US" sz="36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SHOULD BE BASED UPON GOOD MOR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GMENT ON WHAT IS LAW IS BASED UPON THE PRINCIPLE OF WHAT IS GOOD AND WHAT IS WRO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D LAW’ IS NOT A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CAPACITY</a:t>
            </a:r>
            <a:endParaRPr b="0" lang="en-US" sz="4000" spc="-1" strike="noStrike">
              <a:solidFill>
                <a:srgbClr val="ccecff"/>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IES WHO INTEND TO ENTER INTO AN AGREEMENT SHOULD HAVE FULL CONTRACTUAL CAPAC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IES SHOULD BE LEGALLY COMPET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t>
            </a:r>
            <a:r>
              <a:rPr b="0" lang="en-US" sz="3600" spc="-1" strike="noStrike">
                <a:solidFill>
                  <a:srgbClr val="ccecff"/>
                </a:solidFill>
                <a:latin typeface="Arial"/>
              </a:rPr>
              <a:t>COMPETENT’</a:t>
            </a:r>
            <a:br>
              <a:rPr sz="3600"/>
            </a:br>
            <a:r>
              <a:rPr b="0" lang="en-US" sz="3600" spc="-1" strike="noStrike">
                <a:solidFill>
                  <a:srgbClr val="ccecff"/>
                </a:solidFill>
                <a:latin typeface="Arial"/>
              </a:rPr>
              <a:t>SECTION 11 CONTRACT ACT 1950</a:t>
            </a:r>
            <a:endParaRPr b="0" lang="en-US" sz="3600" spc="-1" strike="noStrike">
              <a:solidFill>
                <a:srgbClr val="ccecff"/>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WHO IS OF AGE OF MAJO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WHO IS OF SOUND MI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WHO IS NOT DISQUALIFIED BY ANY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LEGAL EFFECT OF INCOMPETENCE</a:t>
            </a:r>
            <a:endParaRPr b="0" lang="en-US" sz="3600" spc="-1" strike="noStrike">
              <a:solidFill>
                <a:srgbClr val="ccecff"/>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REEMENT WILL BE RENDERED VOID</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Mohori Bibee v Dharmodas Ghose </a:t>
            </a:r>
            <a:r>
              <a:rPr b="0" lang="en-US" sz="3200" spc="-1" strike="noStrike">
                <a:solidFill>
                  <a:srgbClr val="ffffff"/>
                </a:solidFill>
                <a:latin typeface="Arial"/>
              </a:rPr>
              <a:t>	</a:t>
            </a:r>
            <a:r>
              <a:rPr b="0" lang="en-US" sz="3200" spc="-1" strike="noStrike">
                <a:solidFill>
                  <a:srgbClr val="ffffff"/>
                </a:solidFill>
                <a:latin typeface="Arial"/>
              </a:rPr>
              <a:t>(1903)ILR 30 Cal 539</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an Hee Juan v Teh Boon Keat [1934] </a:t>
            </a:r>
            <a:r>
              <a:rPr b="0" lang="en-US" sz="3200" spc="-1" strike="noStrike">
                <a:solidFill>
                  <a:srgbClr val="ffffff"/>
                </a:solidFill>
                <a:latin typeface="Arial"/>
              </a:rPr>
              <a:t>	</a:t>
            </a:r>
            <a:r>
              <a:rPr b="0" lang="en-US" sz="3200" spc="-1" strike="noStrike">
                <a:solidFill>
                  <a:srgbClr val="ffffff"/>
                </a:solidFill>
                <a:latin typeface="Arial"/>
              </a:rPr>
              <a:t>MLJ 96</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XCEPTIONS TO GENERAL RULE</a:t>
            </a:r>
            <a:endParaRPr b="0" lang="en-US" sz="3600" spc="-1" strike="noStrike">
              <a:solidFill>
                <a:srgbClr val="ccecff"/>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IE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LARSHIP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CESSARIES</a:t>
            </a:r>
            <a:endParaRPr b="0" lang="en-US" sz="4000" spc="-1" strike="noStrike">
              <a:solidFill>
                <a:srgbClr val="ccecff"/>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ESSARIES INCLUDE EVERYTHING THAT IS ESSENTIAL AND BENEFICIAL TO THE MINOR</a:t>
            </a:r>
            <a:endParaRPr b="0" lang="en-US" sz="24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FOOD, DRINK, CLOTHING AND EDUCATION</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 ON WHAT CONSTITUTES NECESSARY VARIES AND DEPENDANT UPON CIRCUMSTANCES AND CASES</a:t>
            </a:r>
            <a:endParaRPr b="0" lang="en-US" sz="24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WINTER COAT</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OR WILL HAVE TO PAY A REASONABLE PRICE FOR THE NECESS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CESSARIES</a:t>
            </a:r>
            <a:endParaRPr b="0" lang="en-US" sz="4000" spc="-1" strike="noStrike">
              <a:solidFill>
                <a:srgbClr val="ccecff"/>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IM FOR NECESSARIES SUPPLIED TO PERSON INCAPABLE OF CONTRACTING, OR ON HIS ACCOU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ERSON INCAPABLE OF ENTERING INTO A CONTRACT, OR ANYONE WHOM HE IS LEGALLY BOUND TO SUPPORT, IS SUPPLIED BY ANOTHER PERSON WITH NECESSARIES SUITED TO HIS CONDITION IN LIFE, THE PERSON WHO HAS FURNISHED SUCH SUPPLIES IS ENTITLED TO BE REIMBURSED FROM THE PROPERTY OF SUCH INCAPABLE PERS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69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CESSARIES</a:t>
            </a:r>
            <a:endParaRPr b="0" lang="en-US" sz="4000" spc="-1" strike="noStrike">
              <a:solidFill>
                <a:srgbClr val="ccecff"/>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S</a:t>
            </a:r>
            <a:endParaRPr b="0" lang="en-US" sz="32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PPLIES B, A MENTALLY DISODERED PERSON, WITH NECESSARIES SUITED TO HIS CONDITION IN LIFE, A IS ENTITLED TO BE REIMBURSED FROM B’S PROPER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PPLIES THE WIFE AND CHILDREN OF B, A MENTALLY DISODERED PERSON, WITH NECESSARIES SUITABLE TO THEIR CONDITION OF LIFE. A IS ENTITLED TO BE REIMBURSED FROM B’S PROPE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HOLARSHIPS</a:t>
            </a:r>
            <a:endParaRPr b="0" lang="en-US" sz="4000" spc="-1" strike="noStrike">
              <a:solidFill>
                <a:srgbClr val="ccecff"/>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WITHSTANDING ANYTHING TO THE CONTRARY CONTAINED IN THE PRINCIPAL ACT, NO SCHOLARSHIP AGREEMENT SHALL BE INVALIDATED ON THE GROUND TH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THE SCHOLAR ENTERING ONTO SUCH AGREEMENT IS NOT OF THE AGE OF MAJORI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SUCH AGREEMENT IS CONTRARY TO ANY PROVISION OF ANY LAW IN FORCE RELATING TO MONEY LENDERS, 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SUCH AGREEMENT LACKS CONSIDERA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ION 4(a) CONTRACT (AMENDMENT) ACT 197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RRIAGES</a:t>
            </a:r>
            <a:endParaRPr b="0" lang="en-US" sz="4000" spc="-1" strike="noStrike">
              <a:solidFill>
                <a:srgbClr val="ccecff"/>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MARRIAGE HAS BEEN HELD TO BE VALID. A MINOR MAY SUE OR BE SUED FOR BREA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RAJESWARY V BALAKRISHN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SURANCES</a:t>
            </a:r>
            <a:endParaRPr b="0" lang="en-US" sz="4000" spc="-1" strike="noStrike">
              <a:solidFill>
                <a:srgbClr val="ccecff"/>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NOR OVER THE AGE OF TEN MAY ENTER INTO A CONTRACT OF INSURANCE BUT IF HE OR SHE IS UNDER THE AGE OF SIXTEEN YEARS, THE WRITTEN CONSENT OF THE PARENTS OR GUARDIANS IS ESSENTI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RANCE ACT 196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OSITIVIST SCHOOL OF THOUGHT</a:t>
            </a:r>
            <a:endParaRPr b="0" lang="en-US" sz="36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IS DEFINED AS THE COMMAND OF THE SOVEREIGN AUTHORITY IN A SOCIE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IS ALSO DEFINED AS THE BODY OF PRINCIPLES RECOGNISED AND APPLIED BY THE STATE IN THE ADMINISTRATION OF JUS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ERVICES</a:t>
            </a:r>
            <a:endParaRPr b="0" lang="en-US" sz="4000" spc="-1" strike="noStrike">
              <a:solidFill>
                <a:srgbClr val="ccec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WITHSTANDING ANYTHING TO THE CONTRARY CONTAINED IN THE CONTRACTS ACT 1950 OR THE PROVISIONS OF ANY OTHER WRITTEN LAW, ANY CHILD OR YOUNG PERSON SHALL BE COMPETENT TO ENTER INTO A CONTRACT OF SERVICE UNDER THIS ACT OTHERWISE THAN AS AN EMPLOYER , AND MAY SUE AS PLAINTIFF WITHOUT HIS NEXT FRIEND OR DEFEND ANY ACTION WITHOUT A GUARDIAN AD LIT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DREN AND YOUNG PERSONS (EMPLOYMENT)  ACT 1966</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FALSE REPRESENTATION ON AGE</a:t>
            </a:r>
            <a:endParaRPr b="0" lang="en-US" sz="3600" spc="-1" strike="noStrike">
              <a:solidFill>
                <a:srgbClr val="ccecff"/>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NOR IS NOT ESTOPPED FROM PLEADING MINORITY IN AVOIDING A CONTR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NATESAN V THANALETCHUM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ERTAINTY</a:t>
            </a:r>
            <a:endParaRPr b="0" lang="en-US" sz="4000" spc="-1" strike="noStrike">
              <a:solidFill>
                <a:srgbClr val="ccecff"/>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HAT TERMS AND CONDITIONS OF A CONTRACT BE CLEAR AND CERTAIN. COURTS WILL NEVER ACCEPT TERMS OR CONDITIONS WHICH ARE VAGUE AND OBSCUR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Karuppan Chetty v Suah Thian (1916) 1 FMSLR 300</a:t>
            </a:r>
            <a:endParaRPr b="0" lang="en-US" sz="4000" spc="-1" strike="noStrike">
              <a:solidFill>
                <a:srgbClr val="ccecff"/>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declared that the contract was void. The terms used in the contract was too vague and too obscure. The parties agreed to a lease of RM 35 per month ‘for as long as he lik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LEGAL EFFECT OF UNCERTAINTY</a:t>
            </a:r>
            <a:endParaRPr b="0" lang="en-US" sz="3600" spc="-1" strike="noStrike">
              <a:solidFill>
                <a:srgbClr val="ccecff"/>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EEMENTS, THE MEANING OF WHICH IS NOT CERTAIN OR CAPABLE OF BEING MADE CERTAIN, IS VO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30 CONTRACT ACT 1950</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a:t>
            </a:r>
            <a:endParaRPr b="0" lang="en-US" sz="4000" spc="-1" strike="noStrike">
              <a:solidFill>
                <a:srgbClr val="ccecff"/>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A agrees to sell to B ‘a hundred tons of oil’. There is nothing whatever to show what kind of oil was intended. The agreement is void for uncertaint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A agrees to sell to B one hundred tons of oil of a specified description, known as an article of commerce. There is no uncertainty here to make the agreement voi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A, who is a dealer in coconut oil only, agrees to sell to B ‘one hundred tons of oil’. The nature of A’s trade affords an indication of the meaning of the words, and A has entered into a contract for the sale of one hundred tons of coconut oi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REE CONSENT</a:t>
            </a:r>
            <a:endParaRPr b="0" lang="en-US" sz="4000" spc="-1" strike="noStrike">
              <a:solidFill>
                <a:srgbClr val="ccecff"/>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PERSON ARE SAID TO CONSENT WHEN THEY AGREE UPON THE SAME THING IN THE SAME SEN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SENT SHOULD BE GIVEN FREELY IF ONE WOULD LIKE TO MAINTAIN THE VALIDITY OF A CONTRA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LEMENTS THAT VITIATE CONSENT</a:t>
            </a:r>
            <a:endParaRPr b="0" lang="en-US" sz="3600" spc="-1" strike="noStrike">
              <a:solidFill>
                <a:srgbClr val="ccecff"/>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erc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Undue Influ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Frau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Misrepresent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Mist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EFFECT</a:t>
            </a:r>
            <a:endParaRPr b="0" lang="en-US" sz="4000" spc="-1" strike="noStrike">
              <a:solidFill>
                <a:srgbClr val="ccecff"/>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exception of ‘mistake’ the effect of those elements to contract is that it will render that contract to be voidab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SE LAW</a:t>
            </a:r>
            <a:endParaRPr b="0" lang="en-US" sz="4000" spc="-1" strike="noStrike">
              <a:solidFill>
                <a:srgbClr val="ccecff"/>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Kesarmal s/o Lecthman Das v Valiappa Chettiar [1954] MLJ 11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hin Nam Bee Development Sdn Bhd v Tai Kim Choo &amp; 4 Ors [1988] 2 MLJ 11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Diagram 5"/>
          <p:cNvGrpSpPr/>
          <p:nvPr/>
        </p:nvGrpSpPr>
        <p:grpSpPr>
          <a:xfrm>
            <a:off x="2225520" y="1701720"/>
            <a:ext cx="4692960" cy="3378240"/>
            <a:chOff x="2225520" y="1701720"/>
            <a:chExt cx="4692960" cy="3378240"/>
          </a:xfrm>
        </p:grpSpPr>
        <p:sp>
          <p:nvSpPr>
            <p:cNvPr id="242" name="_s1028"/>
            <p:cNvSpPr/>
            <p:nvPr/>
          </p:nvSpPr>
          <p:spPr>
            <a:xfrm>
              <a:off x="3714840" y="2301840"/>
              <a:ext cx="1714320" cy="1714680"/>
            </a:xfrm>
            <a:prstGeom prst="ellipse">
              <a:avLst/>
            </a:prstGeom>
            <a:solidFill>
              <a:srgbClr val="0088e4">
                <a:alpha val="50000"/>
              </a:srgbClr>
            </a:solidFill>
            <a:ln w="4680">
              <a:solidFill>
                <a:srgbClr val="99ff9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_s1029"/>
            <p:cNvSpPr/>
            <p:nvPr/>
          </p:nvSpPr>
          <p:spPr>
            <a:xfrm>
              <a:off x="4127400" y="1701720"/>
              <a:ext cx="890640" cy="428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_s1030"/>
            <p:cNvSpPr/>
            <p:nvPr/>
          </p:nvSpPr>
          <p:spPr>
            <a:xfrm>
              <a:off x="4278240" y="3279600"/>
              <a:ext cx="1714680" cy="1714680"/>
            </a:xfrm>
            <a:prstGeom prst="ellipse">
              <a:avLst/>
            </a:prstGeom>
            <a:solidFill>
              <a:srgbClr val="99ff99">
                <a:alpha val="50000"/>
              </a:srgbClr>
            </a:solidFill>
            <a:ln w="4680">
              <a:solidFill>
                <a:srgbClr val="99ff9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_s1031"/>
            <p:cNvSpPr/>
            <p:nvPr/>
          </p:nvSpPr>
          <p:spPr>
            <a:xfrm>
              <a:off x="6027840" y="4651200"/>
              <a:ext cx="890640" cy="428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_s1032"/>
            <p:cNvSpPr/>
            <p:nvPr/>
          </p:nvSpPr>
          <p:spPr>
            <a:xfrm>
              <a:off x="3149640" y="3278160"/>
              <a:ext cx="1714320" cy="1714680"/>
            </a:xfrm>
            <a:prstGeom prst="ellipse">
              <a:avLst/>
            </a:prstGeom>
            <a:solidFill>
              <a:srgbClr val="afe1ff">
                <a:alpha val="50000"/>
              </a:srgbClr>
            </a:solidFill>
            <a:ln w="4680">
              <a:solidFill>
                <a:srgbClr val="99ff9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_s1033"/>
            <p:cNvSpPr/>
            <p:nvPr/>
          </p:nvSpPr>
          <p:spPr>
            <a:xfrm>
              <a:off x="2225520" y="4651200"/>
              <a:ext cx="890640" cy="428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48" name="Text Box 12"/>
          <p:cNvSpPr/>
          <p:nvPr/>
        </p:nvSpPr>
        <p:spPr>
          <a:xfrm>
            <a:off x="4116960" y="281952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249" name="Text Box 13"/>
          <p:cNvSpPr/>
          <p:nvPr/>
        </p:nvSpPr>
        <p:spPr>
          <a:xfrm>
            <a:off x="3277440" y="3962520"/>
            <a:ext cx="97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T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BEY</a:t>
            </a:r>
            <a:endParaRPr b="0" lang="en-US" sz="1400" spc="-1" strike="noStrike">
              <a:solidFill>
                <a:srgbClr val="ffffff"/>
              </a:solidFill>
              <a:latin typeface="Arial"/>
            </a:endParaRPr>
          </a:p>
        </p:txBody>
      </p:sp>
      <p:sp>
        <p:nvSpPr>
          <p:cNvPr id="250" name="Text Box 14"/>
          <p:cNvSpPr/>
          <p:nvPr/>
        </p:nvSpPr>
        <p:spPr>
          <a:xfrm>
            <a:off x="4878360" y="396252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NCTION</a:t>
            </a:r>
            <a:endParaRPr b="0" lang="en-US" sz="1400" spc="-1" strike="noStrike">
              <a:solidFill>
                <a:srgbClr val="ffffff"/>
              </a:solidFill>
              <a:latin typeface="Arial"/>
            </a:endParaRPr>
          </a:p>
        </p:txBody>
      </p:sp>
      <p:sp>
        <p:nvSpPr>
          <p:cNvPr id="251" name="Text Box 15"/>
          <p:cNvSpPr/>
          <p:nvPr/>
        </p:nvSpPr>
        <p:spPr>
          <a:xfrm>
            <a:off x="2058120" y="1143000"/>
            <a:ext cx="509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IMPORTANT ELEMENTS OF LAW</a:t>
            </a:r>
            <a:endParaRPr b="0" lang="en-US" sz="2000" spc="-1" strike="noStrike">
              <a:solidFill>
                <a:srgbClr val="ffffff"/>
              </a:solidFill>
              <a:latin typeface="Arial"/>
            </a:endParaRPr>
          </a:p>
        </p:txBody>
      </p:sp>
      <p:sp>
        <p:nvSpPr>
          <p:cNvPr id="252" name="Text Box 16"/>
          <p:cNvSpPr/>
          <p:nvPr/>
        </p:nvSpPr>
        <p:spPr>
          <a:xfrm>
            <a:off x="4192200" y="563868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a:t>
            </a:r>
            <a:endParaRPr b="0" lang="en-US" sz="2000" spc="-1" strike="noStrike">
              <a:solidFill>
                <a:srgbClr val="ffffff"/>
              </a:solidFill>
              <a:latin typeface="Arial"/>
            </a:endParaRPr>
          </a:p>
        </p:txBody>
      </p:sp>
      <p:sp>
        <p:nvSpPr>
          <p:cNvPr id="253" name="Line 18"/>
          <p:cNvSpPr/>
          <p:nvPr/>
        </p:nvSpPr>
        <p:spPr>
          <a:xfrm flipV="1">
            <a:off x="4495680" y="38098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ERCION</a:t>
            </a:r>
            <a:endParaRPr b="0" lang="en-US" sz="4000" spc="-1" strike="noStrike">
              <a:solidFill>
                <a:srgbClr val="ccecff"/>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rcion is the committing, or threatening to commit any act forbidden by the Penal Code, or the unlawful detaining or threatening to detain, any property, to the prejudice of any person whatever, with the intention of causing any person to enter into an agreem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5 Contract Act 19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PUDIATION</a:t>
            </a:r>
            <a:endParaRPr b="0" lang="en-US" sz="4000" spc="-1" strike="noStrike">
              <a:solidFill>
                <a:srgbClr val="ccecff"/>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pudiation of contract should be made within a reasonable ti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ng Ah Fook v Kerajaan Negeri Johor [1937] MLJ Rep 1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DUE INFLUENCE</a:t>
            </a:r>
            <a:endParaRPr b="0" lang="en-US" sz="4000" spc="-1" strike="noStrike">
              <a:solidFill>
                <a:srgbClr val="ccecff"/>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who has made a contract under ‘undue influence’ may rescind the contract at his choice. The law gives such right to that person because the contract was not made upon ‘free wil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HAT CONSTITUTES UNDUE INFLUENCE</a:t>
            </a:r>
            <a:endParaRPr b="0" lang="en-US" sz="3600" spc="-1" strike="noStrike">
              <a:solidFill>
                <a:srgbClr val="ccecff"/>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ract is said to be induced by ‘undue influence’ where the relations subsisting between the parties are such that one of the parties is in a position to dominate the will of the other and uses that position to obtain an unfair advantage over the other.</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6 (1) Contract Act 195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agunath Prasad v Sarju Prasad AIR 1924 PC 60</a:t>
            </a:r>
            <a:endParaRPr b="0" lang="en-US" sz="4000" spc="-1" strike="noStrike">
              <a:solidFill>
                <a:srgbClr val="ccec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should be at least </a:t>
            </a:r>
            <a:r>
              <a:rPr b="0" lang="en-US" sz="2800" spc="-1" strike="noStrike" u="sng">
                <a:solidFill>
                  <a:srgbClr val="ffffff"/>
                </a:solidFill>
                <a:uFillTx/>
                <a:latin typeface="Arial"/>
              </a:rPr>
              <a:t>THREE</a:t>
            </a:r>
            <a:r>
              <a:rPr b="0" lang="en-US" sz="2800" spc="-1" strike="noStrike">
                <a:solidFill>
                  <a:srgbClr val="ffffff"/>
                </a:solidFill>
                <a:latin typeface="Arial"/>
              </a:rPr>
              <a:t> important points that exist within that arrangement before a particular contract could be rescind;</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exists a situation where one person is in a position to dominate the will of the other</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person uses his position to gain an unfair advantag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ain should be in a manner that is unf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ECTION 16 (2) </a:t>
            </a:r>
            <a:br>
              <a:rPr sz="4000"/>
            </a:br>
            <a:r>
              <a:rPr b="0" lang="en-US" sz="4000" spc="-1" strike="noStrike">
                <a:solidFill>
                  <a:srgbClr val="ccecff"/>
                </a:solidFill>
                <a:latin typeface="Arial"/>
              </a:rPr>
              <a:t>CONTRACT ACT 1950</a:t>
            </a:r>
            <a:endParaRPr b="0" lang="en-US" sz="4000" spc="-1" strike="noStrike">
              <a:solidFill>
                <a:srgbClr val="ccecff"/>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is said to have been in a position to dominate the will of the other when;</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olds a real or apparent authority over the other</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tands in a fiduciary relation to the other</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act is made with a person whose mental capacity is temporarily or permanently affected by reason of age, illness or mental or bodily distres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VES OF ‘NO DOMINATION’</a:t>
            </a:r>
            <a:endParaRPr b="0" lang="en-US" sz="4000" spc="-1" strike="noStrike">
              <a:solidFill>
                <a:srgbClr val="ccecff"/>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 person who is in a position to dominate the will of another, enters into a contract with him, and the transaction appears, on the face of it or on the evidence adduce, to be unconscionable, the burden of proving that the contract was not induced by undue influence shall lie upon the person in a position to dominate the will of the other.</a:t>
            </a:r>
            <a:endParaRPr b="0" lang="en-US" sz="2800" spc="-1" strike="noStrike">
              <a:solidFill>
                <a:srgbClr val="ffffff"/>
              </a:solidFill>
              <a:latin typeface="Arial"/>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6 (3) (a) Contract Act 19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wath Haneem v Hadjee Abdullah (1894) 2 SSLR 57</a:t>
            </a:r>
            <a:endParaRPr b="0" lang="en-US" sz="4000" spc="-1" strike="noStrike">
              <a:solidFill>
                <a:srgbClr val="ccec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rden of proof lies upon the defendants who have ‘a confidential relationship’ with the plainti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O PROVE</a:t>
            </a:r>
            <a:endParaRPr b="0" lang="en-US" sz="4000" spc="-1" strike="noStrike">
              <a:solidFill>
                <a:srgbClr val="ccecff"/>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way to prove is through the advice of someone who has the expertise to do so.</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he Noriah v Shaik Allie bin Omar (1929) AC 127</a:t>
            </a:r>
            <a:endParaRPr b="0" lang="en-US" sz="3200" spc="-1" strike="noStrike">
              <a:solidFill>
                <a:srgbClr val="ffffff"/>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dvice has been given to the dominated party by a lawyer.</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RAUD</a:t>
            </a:r>
            <a:endParaRPr b="0" lang="en-US" sz="4000" spc="-1" strike="noStrike">
              <a:solidFill>
                <a:srgbClr val="ccecff"/>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ud is being committed when one person makes a ‘false representation’, which;</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elieves that it is not tru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not confident that the statement is tru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never care whether the statement is true or not</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intention of causing any person to enter into a contract.</a:t>
            </a:r>
            <a:endParaRPr b="0" lang="en-US" sz="2800" spc="-1" strike="noStrike">
              <a:solidFill>
                <a:srgbClr val="ffffff"/>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7 Contract Act 1950</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OSITIVIST VIEW</a:t>
            </a:r>
            <a:endParaRPr b="0" lang="en-US" sz="36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D LAW’ COULD BE LAW UNDER THE POSITIVIST VIEW SO LONG AS IT IS ENFORCEABLE IN THE COURT OF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a:t>
            </a:r>
            <a:endParaRPr b="0" lang="en-US" sz="4000" spc="-1" strike="noStrike">
              <a:solidFill>
                <a:srgbClr val="ccecff"/>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A, intending to deceive B, falsely represents that five hundred gantangs of indigo are made annually at A’s factory, and thereby induces B to buy the factory. The contract is voidable at the option of B</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B, having discovered a vein of ore on the estate of A, adopts means to conceal, and does conceal, the existence of the ore from A. Through A’s ignorance B is enabled to buy the estate at an undervalue. The contract is voidable at the option of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CTIVE FALSE REPRESENTATION</a:t>
            </a:r>
            <a:endParaRPr b="0" lang="en-US" sz="3600" spc="-1" strike="noStrike">
              <a:solidFill>
                <a:srgbClr val="ccecff"/>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has not been committed even if one person failed to disclose the true fact. A mere non-disclosure is not a frau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a:t>
            </a:r>
            <a:endParaRPr b="0" lang="en-US" sz="4000" spc="-1" strike="noStrike">
              <a:solidFill>
                <a:srgbClr val="ccecff"/>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 sells, by auction, to B, a horse which A knows to be unsound. A says nothing to B about the horse’s unsoundness. This is not fraud in 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 and B, being traders, enter upon a contract. A has private information of a change in prices which would affect B’s willingness to proceed with the contract. A is not bound to inform 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ramuthu v Kerajaan Negeri Pah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planation of Section 17</a:t>
            </a:r>
            <a:endParaRPr b="0" lang="en-US" sz="4000" spc="-1" strike="noStrike">
              <a:solidFill>
                <a:srgbClr val="ccecff"/>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e silence as to facts likely to affect the willingness of a person to enter into a contract is not fraud, unless the circumstances of the case are such that, regard being had to them, it is the duty of the person keeping silence to speak, or unless his silence is, in itself, equivalent to speec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a:r>
            <a:r>
              <a:rPr b="0" lang="en-US" sz="4000" spc="-1" strike="noStrike">
                <a:solidFill>
                  <a:srgbClr val="ccecff"/>
                </a:solidFill>
                <a:latin typeface="Arial"/>
              </a:rPr>
              <a:t>it is the duty of the person keeping silence to speak’</a:t>
            </a:r>
            <a:endParaRPr b="0" lang="en-US" sz="4000" spc="-1" strike="noStrike">
              <a:solidFill>
                <a:srgbClr val="ccecff"/>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ntract of Insu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Sale Through Prospect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he Creation of Partner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a:r>
            <a:r>
              <a:rPr b="0" lang="en-US" sz="4000" spc="-1" strike="noStrike">
                <a:solidFill>
                  <a:srgbClr val="ccecff"/>
                </a:solidFill>
                <a:latin typeface="Arial"/>
              </a:rPr>
              <a:t>his silence is, in itself, equivalent to speech’</a:t>
            </a:r>
            <a:endParaRPr b="0" lang="en-US" sz="4000" spc="-1" strike="noStrike">
              <a:solidFill>
                <a:srgbClr val="ccecff"/>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trine of ‘buyers bewar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question is being posed to the seller, he is expected to give the answer. At this point, whether he speaks or not, both will be regarded as the ‘answer’ for the ques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a:t>
            </a:r>
            <a:endParaRPr b="0" lang="en-US" sz="40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ays to A, ‘If you do not deny it, I shall assume that the horse is sound’. A says nothing. Here, A’s silence is equivalent to spee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ISREPRESENTATION</a:t>
            </a:r>
            <a:endParaRPr b="0" lang="en-US" sz="4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alse statement has been made without the intention to deceive ano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tion 18 Contract Act 1950</a:t>
            </a:r>
            <a:endParaRPr b="0" lang="en-US" sz="4400" spc="-1" strike="noStrike">
              <a:solidFill>
                <a:srgbClr val="ccecff"/>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epresentation includ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sitive assertion, in a manner not warranted by the information of the person making it, of that which is not true, though he believes it to be tru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breach of duty which, without an intent to deceive, gives an advantage to the person committing it, or anyone claiming under him, by misleading another to his prejudice, or to the prejudice of anyone claiming under him; and</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ing, however innocently, a party to an agreement to make a mistake as to the substance of the thing which is the subject of the agreemen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LAW?</a:t>
            </a:r>
            <a:endParaRPr b="0" lang="en-US" sz="40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Difference Between Fraud and Misrepresentation</a:t>
            </a:r>
            <a:endParaRPr b="0" lang="en-US" sz="4000" spc="-1" strike="noStrike">
              <a:solidFill>
                <a:srgbClr val="ccecff"/>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sic difference between fraud and misrepresentation is that in fraud the person making the representation does not himself believe in its truth whereas, in cases of misrepresentation, he may believe the representation to be tr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raud and Misrepresentation Must Influence the Other Party to Make Contract</a:t>
            </a:r>
            <a:endParaRPr b="0" lang="en-US" sz="4000" spc="-1" strike="noStrike">
              <a:solidFill>
                <a:srgbClr val="ccecff"/>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aud or misrepresentation is rendered irrelevant if it has not induced or caused the other party to enter into the contract. A false statement does not per se give rise to a cause of action. The representee must have relied on the statement of the representa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 of Fraud and Misrepresentation</a:t>
            </a:r>
            <a:endParaRPr b="0" lang="en-US" sz="4000" spc="-1" strike="noStrike">
              <a:solidFill>
                <a:srgbClr val="ccecff"/>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consent to an agreement is caused by coercion, fraud, or misrepresentation, the agreement is a contract voidable at the option of the party whose consent was so caused.</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9(1) Contract Act 19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ception to the General Principle</a:t>
            </a:r>
            <a:endParaRPr b="0" lang="en-US" sz="4000" spc="-1" strike="noStrike">
              <a:solidFill>
                <a:srgbClr val="ccecff"/>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such consent was caused by misrepresentation or by silence, fraudulent within the meaning of section 17, the contract, nevertheless, is not voidable, if the parties whose consent was so caused had the means of discovering the truth with ordinary dilig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 Section 19 Contract Act 19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ENTS OF CONTRACT</a:t>
            </a:r>
            <a:endParaRPr b="0" lang="en-US" sz="4000" spc="-1" strike="noStrike">
              <a:solidFill>
                <a:srgbClr val="ccecff"/>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s been agreed in an agreement is the content of a contract. It is also known as the TERMS of contr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 and Representation</a:t>
            </a:r>
            <a:endParaRPr b="0" lang="en-US" sz="4400" spc="-1" strike="noStrike">
              <a:solidFill>
                <a:srgbClr val="ccecff"/>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erm is a condition or a warranty that is contained in a contr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epresentation is a mere statement that is not included in a contr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ifications of Term</a:t>
            </a:r>
            <a:endParaRPr b="0" lang="en-US" sz="44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Express Term</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s that are clearly stated and included in a contract</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Implied Term</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s that are not expressly stated but the court assumes that such terms exist in a contract</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ed Terms</a:t>
            </a:r>
            <a:endParaRPr b="0" lang="en-US" sz="4400" spc="-1" strike="noStrike">
              <a:solidFill>
                <a:srgbClr val="ccecff"/>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o give effect to the commercial practi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o realize the intention of the contracting part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equired by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ed Terms</a:t>
            </a:r>
            <a:endParaRPr b="0" lang="en-US" sz="4400" spc="-1" strike="noStrike">
              <a:solidFill>
                <a:srgbClr val="ccecff"/>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lied term is a term that is not included in a contract during negotiation but the law or the court assumes that such term exists in the contrac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however, will be very careful in this case in the sense that ‘the freedom of contract should be preser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rcial Practices</a:t>
            </a:r>
            <a:endParaRPr b="0" lang="en-US" sz="44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will normally imply terms in a contract when it thinks fit or when it thinks it is important as to give the effect to commercial practi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suma Pharmacal Corpn. v McAlister &amp; Co. Ltd. [1965] 1 MLJ 22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u="sng">
                <a:solidFill>
                  <a:srgbClr val="ffffff"/>
                </a:solidFill>
                <a:uFillTx/>
                <a:latin typeface="Arial"/>
              </a:rPr>
              <a:t>Good Faith</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ASIC FUNCTION OF LAW</a:t>
            </a:r>
            <a:endParaRPr b="0" lang="en-US" sz="40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ECURE THE ORDER IN A SOCIE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CHIEVE THE GREATEST HAPPINESS OF THE LARGEST NUMBER OF PEO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MOTE RECONCILIATION OF THE WILL OF ONE PERSON WITH THE LIBERTY OF ANOTH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rcial Practices</a:t>
            </a:r>
            <a:endParaRPr b="0" lang="en-US" sz="4400" spc="-1" strike="noStrike">
              <a:solidFill>
                <a:srgbClr val="ccecff"/>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practices mean that the use of such terms in commercial transactions is very common, certain and reasonab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on Corp. Sdn. Bhd. v Edward Leong &amp; Ors. [1982] 2 MLJ 22</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keeping of the first film negative and the cost of printing”</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rcial Practices</a:t>
            </a:r>
            <a:endParaRPr b="0" lang="en-US" sz="4400" spc="-1" strike="noStrike">
              <a:solidFill>
                <a:srgbClr val="ccecff"/>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uch practice has been well accepted by the court; and it has been part of the la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mbangunan Maha Murni Sdn. Bhd. v Jururus Ladang Sdn. Bhd. [1986] 2 MLJ 3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entions of the Contracting Parties</a:t>
            </a:r>
            <a:endParaRPr b="0" lang="en-US" sz="4000" spc="-1" strike="noStrike">
              <a:solidFill>
                <a:srgbClr val="ccecff"/>
              </a:solidFill>
              <a:latin typeface="Arial"/>
            </a:endParaRPr>
          </a:p>
        </p:txBody>
      </p:sp>
      <p:sp>
        <p:nvSpPr>
          <p:cNvPr id="5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will also implied a term in a contract when it thinks that it is important as to give effect to the intention of the contracting par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ng Ung Kai v Enting [1965] 2 MLJ 9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al Requirements</a:t>
            </a:r>
            <a:endParaRPr b="0" lang="en-US" sz="4400" spc="-1" strike="noStrike">
              <a:solidFill>
                <a:srgbClr val="ccecff"/>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will implied a term in a contract when the law requires s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Sale of Goods (Malay States) Act 195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Hire Purchase Act 196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National Land Code 196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tegories of Term</a:t>
            </a:r>
            <a:endParaRPr b="0" lang="en-US" sz="4400" spc="-1" strike="noStrike">
              <a:solidFill>
                <a:srgbClr val="ccecff"/>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ndition – an essence of a contract. A breach of a condition would render to a recess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Warranty – a supportive factor to a contract. A breach of a warranty will not render the contract be rescind but the law will allow the injured party to make a cla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ndard Form Contracts</a:t>
            </a:r>
            <a:endParaRPr b="0" lang="en-US" sz="4400" spc="-1" strike="noStrike">
              <a:solidFill>
                <a:srgbClr val="ccecff"/>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contract being made to different pers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edite the transac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duce the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ndard Form Contracts</a:t>
            </a:r>
            <a:endParaRPr b="0" lang="en-US" sz="4400" spc="-1" strike="noStrike">
              <a:solidFill>
                <a:srgbClr val="ccecff"/>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in a package. One side is imposing a set of terms on the other party. ‘Take it or leave i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roblem is the inclusion of an ‘exemption clause’ in that particular transa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tion Clause</a:t>
            </a:r>
            <a:endParaRPr b="0" lang="en-US" sz="4400" spc="-1" strike="noStrike">
              <a:solidFill>
                <a:srgbClr val="ccecff"/>
              </a:solidFill>
              <a:latin typeface="Arial"/>
            </a:endParaRPr>
          </a:p>
        </p:txBody>
      </p:sp>
      <p:sp>
        <p:nvSpPr>
          <p:cNvPr id="6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urpose of Exemption Clause is ei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void liability; 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to limit li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Cs in Contracts</a:t>
            </a:r>
            <a:endParaRPr b="0" lang="en-US" sz="4400" spc="-1" strike="noStrike">
              <a:solidFill>
                <a:srgbClr val="ccecff"/>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emption Clause would be considered as part of contract/valid term of contract if it has been proper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in a contrac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er notice has been giv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Incorporation of the ECs</a:t>
            </a:r>
            <a:endParaRPr b="0" lang="en-US" sz="4400" spc="-1" strike="noStrike">
              <a:solidFill>
                <a:srgbClr val="ccecff"/>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n exemption clause has been incorporated into a contract the clause is considered as part of the contract. The fact that the party did not aware about the term does not affect the validity of the clau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trange v F Graucob Ltd. [1934] 2 KB 3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GULATE CONDUCT OF PEOP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MEANS OF SETTLING DISPU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tice About the ECs</a:t>
            </a:r>
            <a:endParaRPr b="0" lang="en-US" sz="4400" spc="-1" strike="noStrike">
              <a:solidFill>
                <a:srgbClr val="ccecff"/>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tice should be made either before or at the time the contract being m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otice must be served before or at the time the contract is mad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lley v Marlborough Court Ltd [1949] 1 KB 532</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rnton v Shoe Lane Parking [1971] 2 QB 163</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r as a Notice – ‘Course of Dealing’</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istent course of dealing would lead to the application of the principle of noti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urling v Bradshaw [1956] 1 WLR 461</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cket Rule</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the terms that contain in a ticket valid reasonable steps must be taken so as to informed the other party about the EC before the contract being made</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apelton v Barry UDC [1940] 1 KB 532</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ker v  South Eastern Railway Co. [1877] 2 CPD 41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le of Contra Proferentem</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ords used is unclear or ambiguous the term will be interpreted in favor of the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al Statement</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re are two different wordings as regard to the EC, one in an oral form the other in a written form, the oral form will take precedent over the written form</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rtis v Chemical Cleaning and Dyeing Co. [1951] 1 KB 8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a:t>
            </a:r>
            <a:endParaRPr b="0" lang="en-US" sz="4000" spc="-1" strike="noStrike">
              <a:solidFill>
                <a:srgbClr val="ccecff"/>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lessness</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 lost or an injury has happened as a result of carelessness the party sought to avoid liability cannot rely upon the EC</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in Hui Nam v Comprehensive Motor Cleaning &amp; Corpo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Effectiveness of an EC in a Contract </a:t>
            </a:r>
            <a:endParaRPr b="0" lang="en-US" sz="4000" spc="-1" strike="noStrike">
              <a:solidFill>
                <a:srgbClr val="ccecff"/>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representation or Fraud</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one party has misrepresented as to the effect of an EC, this will automatically invalidate the effectiveness of an EC</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rtis v Chemical Cleaning and Dyeing Co [1951] 1 KB 8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harge of Contract</a:t>
            </a:r>
            <a:endParaRPr b="0" lang="en-US" sz="4400" spc="-1" strike="noStrike">
              <a:solidFill>
                <a:srgbClr val="ccecff"/>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ntract will give rise to rights and liabil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Discharge – parties to contract will be free from further obligation under the contr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ights and liabilities will be termin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ntract will be termin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harge of Contract</a:t>
            </a:r>
            <a:endParaRPr b="0" lang="en-US" sz="4400" spc="-1" strike="noStrike">
              <a:solidFill>
                <a:srgbClr val="ccecff"/>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Perform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gre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Brea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Frust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LAW AND OTHER FORMS OF SOCIAL CONTROLS </a:t>
            </a:r>
            <a:endParaRPr b="0" lang="en-US" sz="36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IS DISTINGUISHABLE FROM OTHER FORMS OF SOCIAL CONTROLS SUCH AS JUSTICE, ETHICS AND MOR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a:t>
            </a:r>
            <a:endParaRPr b="0" lang="en-US" sz="4400" spc="-1" strike="noStrike">
              <a:solidFill>
                <a:srgbClr val="ccecff"/>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mmon way of discharging a contrac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Parties have performed their obligations</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If only one has performed, he alone is discharged, the other will not be discharged until he performs his obligations under the contr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a:t>
            </a:r>
            <a:endParaRPr b="0" lang="en-US" sz="4400" spc="-1" strike="noStrike">
              <a:solidFill>
                <a:srgbClr val="ccecff"/>
              </a:solidFill>
              <a:latin typeface="Arial"/>
            </a:endParaRPr>
          </a:p>
        </p:txBody>
      </p:sp>
      <p:sp>
        <p:nvSpPr>
          <p:cNvPr id="6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ies to a contract must either perform, or offer to perform, their respective promises, unless the performance is dispensed with or excused under this Act, or of any other law.</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38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a:t>
            </a:r>
            <a:endParaRPr b="0" lang="en-US" sz="4400" spc="-1" strike="noStrike">
              <a:solidFill>
                <a:srgbClr val="ccecff"/>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omplete perform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Substantial perform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Quantum Mer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te Performance</a:t>
            </a:r>
            <a:endParaRPr b="0" lang="en-US" sz="4400" spc="-1" strike="noStrike">
              <a:solidFill>
                <a:srgbClr val="ccecff"/>
              </a:solidFill>
              <a:latin typeface="Arial"/>
            </a:endParaRPr>
          </a:p>
        </p:txBody>
      </p:sp>
      <p:sp>
        <p:nvSpPr>
          <p:cNvPr id="6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Entire Contract’ – the performance must be made wholly – failure to do so will give the right to the other party to refuse perform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Cutter v Po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tantial Performance</a:t>
            </a:r>
            <a:endParaRPr b="0" lang="en-US" sz="4400" spc="-1" strike="noStrike">
              <a:solidFill>
                <a:srgbClr val="ccecff"/>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 plaintiff will be able to recover the sum due under the contract less the sum the defendant could claim in damag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Kunchi Raman v Goh Bros. Sdn. Bh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antum Meruit</a:t>
            </a:r>
            <a:endParaRPr b="0" lang="en-US" sz="4400" spc="-1" strike="noStrike">
              <a:solidFill>
                <a:srgbClr val="ccecff"/>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laim can be made on the basis of what has been do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ji Hasnan v Tan Ah Ki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For Performance</a:t>
            </a:r>
            <a:endParaRPr b="0" lang="en-US" sz="4400" spc="-1" strike="noStrike">
              <a:solidFill>
                <a:srgbClr val="ccecff"/>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must be made within the period that has been fixed</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5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as the Essence</a:t>
            </a:r>
            <a:endParaRPr b="0" lang="en-US" sz="4400" spc="-1" strike="noStrike">
              <a:solidFill>
                <a:srgbClr val="ccecff"/>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to comply with the time result to repudiation</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56(1)(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RUSTRATION</a:t>
            </a:r>
            <a:endParaRPr b="0" lang="en-US" sz="4000" spc="-1" strike="noStrike">
              <a:solidFill>
                <a:srgbClr val="ccecff"/>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ACT TO DO AN ACT WHICH, AFTER THE CONTRACT IS MADE, BECOMES IMPOSSIBLE, OR BY REASON OF SOME EVENT WHICH THE PROMISOR COULD NOT PREVENT, UNLAWFUL, BECOMES VOID WHEN THE ACT BECOMES IMPOSSIBLE OR UNLAWFU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57(2) CONTRACT ACT 19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RUSTRATION</a:t>
            </a:r>
            <a:endParaRPr b="0" lang="en-US" sz="4000" spc="-1" strike="noStrike">
              <a:solidFill>
                <a:srgbClr val="ccecff"/>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RUCTION OF THE PURPOSE</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ELL V HENRY</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OO THAM SOOI V CHAN CHIAU HEE</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RUCTION OF SUBJECT MATTER</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CALDWELL</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AN DAU YAU V KIM NAM REALTY</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RE IS A NEW LAW</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ERED CHARTERED BANK V KUALA LUMPUR LANDMARK SDN BHD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RE IS A WAR</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A BERNEY V TRONOH MI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USTICE</a:t>
            </a:r>
            <a:endParaRPr b="0" lang="en-US" sz="40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CE IS AN ABSTRACT IDEA OF RIGHT AND WRONG, FAIRNESS AND E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W OF AGENCY</a:t>
            </a:r>
            <a:endParaRPr b="0" lang="en-US" sz="4000" spc="-1" strike="noStrike">
              <a:solidFill>
                <a:srgbClr val="ccecff"/>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gency is a tripartite contract that involves ‘principal’, ‘agent’ and ‘third par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35 Contract 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EATION OF AGENCY</a:t>
            </a:r>
            <a:endParaRPr b="0" lang="en-US" sz="4000" spc="-1" strike="noStrike">
              <a:solidFill>
                <a:srgbClr val="ccecff"/>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xpress Appoint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mplied Appoint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Ratific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Necess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tion 140 Contract Act</a:t>
            </a:r>
            <a:endParaRPr b="0" lang="en-US" sz="4400" spc="-1" strike="noStrike">
              <a:solidFill>
                <a:srgbClr val="ccecff"/>
              </a:solidFill>
              <a:latin typeface="Arial"/>
            </a:endParaRPr>
          </a:p>
        </p:txBody>
      </p:sp>
      <p:sp>
        <p:nvSpPr>
          <p:cNvPr id="6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uthority is said to be express when it is given by words spoken or written. An authority is said to be implied when it is to be inferred from the circumstances of the case; and things spoken or written, or the ordinary course of dealing, may be accounted circumstances of the c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ed Appointment</a:t>
            </a:r>
            <a:endParaRPr b="0" lang="en-US" sz="4400" spc="-1" strike="noStrike">
              <a:solidFill>
                <a:srgbClr val="ccecff"/>
              </a:solidFill>
              <a:latin typeface="Arial"/>
            </a:endParaRPr>
          </a:p>
        </p:txBody>
      </p:sp>
      <p:sp>
        <p:nvSpPr>
          <p:cNvPr id="6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person by words or conducts holds out that the other has the authority to act on his behalf - that other person will be considered in law as his ag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lustration</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owns a shop in Kajang, living himself in Kuala Lumpur, and visiting the shop occasionally. The shop is managed by B, and he is in the habit of ordering goods from C in the name of A for the purpose of the shop, and of paying for them out of A’s funds with A’s knowledge. B has an implied authority from A to order goods from C in the name of A for the purposes of the sh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tuations Where Contract of Agency are Implied</a:t>
            </a:r>
            <a:endParaRPr b="0" lang="en-US" sz="4000" spc="-1" strike="noStrike">
              <a:solidFill>
                <a:srgbClr val="ccecff"/>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relationship that exists between a husband and wif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relationship that exists between partners in a contract of partner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tification </a:t>
            </a:r>
            <a:endParaRPr b="0" lang="en-US" sz="4400" spc="-1" strike="noStrike">
              <a:solidFill>
                <a:srgbClr val="ccecff"/>
              </a:solidFill>
              <a:latin typeface="Arial"/>
            </a:endParaRPr>
          </a:p>
        </p:txBody>
      </p:sp>
      <p:sp>
        <p:nvSpPr>
          <p:cNvPr id="6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cts are done by one person on behalf of another but without his knowledge or authority, he may elect to ratify or disown the acts. If he ratifies them, the same effects will follow as if they had been performed by his author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49 Contract 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a:t>
            </a:r>
            <a:endParaRPr b="0" lang="en-US" sz="4400" spc="-1" strike="noStrike">
              <a:solidFill>
                <a:srgbClr val="ccecff"/>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an P appoints A as agent to buy a car of not more than RM 50,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Jan T makes an offer to sell a car for RM 51,000 to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Jan A accepts the off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ditions for Ratification</a:t>
            </a:r>
            <a:endParaRPr b="0" lang="en-US" sz="4400" spc="-1" strike="noStrike">
              <a:solidFill>
                <a:srgbClr val="ccecff"/>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Unauthorised 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he act is for a prin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principal must be in exis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atification must not injure a third par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principal must have full knowled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ffect of Ratification</a:t>
            </a:r>
            <a:endParaRPr b="0" lang="en-US" sz="4400" spc="-1" strike="noStrike">
              <a:solidFill>
                <a:srgbClr val="ccecff"/>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fication validates the unauthorised act, and it will operate retrospectively, i.e. it dates back to the time when the original contract was made, not from the date of ratific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ton and Partners v Lambert (1889) 41 Ch D 2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cessity </a:t>
            </a:r>
            <a:endParaRPr b="0" lang="en-US" sz="4400" spc="-1" strike="noStrike">
              <a:solidFill>
                <a:srgbClr val="ccecff"/>
              </a:solidFill>
              <a:latin typeface="Arial"/>
            </a:endParaRPr>
          </a:p>
        </p:txBody>
      </p:sp>
      <p:sp>
        <p:nvSpPr>
          <p:cNvPr id="6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gent has authority, in an emergency, to do all such acts for the purpose of protecting his principal from loss as would be done by a person of ordinary prudence, in his own case, under similar circumstan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42 Contract 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Oval 4"/>
          <p:cNvSpPr/>
          <p:nvPr/>
        </p:nvSpPr>
        <p:spPr>
          <a:xfrm>
            <a:off x="2590920" y="457200"/>
            <a:ext cx="3809880" cy="1600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CE</a:t>
            </a:r>
            <a:endParaRPr b="0" lang="en-US" sz="2000" spc="-1" strike="noStrike">
              <a:solidFill>
                <a:srgbClr val="ffffff"/>
              </a:solidFill>
              <a:latin typeface="Arial"/>
            </a:endParaRPr>
          </a:p>
        </p:txBody>
      </p:sp>
      <p:sp>
        <p:nvSpPr>
          <p:cNvPr id="267" name="Rectangle 5"/>
          <p:cNvSpPr/>
          <p:nvPr/>
        </p:nvSpPr>
        <p:spPr>
          <a:xfrm>
            <a:off x="1143000" y="3429000"/>
            <a:ext cx="1676520" cy="838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a:t>
            </a:r>
            <a:endParaRPr b="0" lang="en-US" sz="2000" spc="-1" strike="noStrike">
              <a:solidFill>
                <a:srgbClr val="ffffff"/>
              </a:solidFill>
              <a:latin typeface="Arial"/>
            </a:endParaRPr>
          </a:p>
        </p:txBody>
      </p:sp>
      <p:sp>
        <p:nvSpPr>
          <p:cNvPr id="268" name="Rectangle 6"/>
          <p:cNvSpPr/>
          <p:nvPr/>
        </p:nvSpPr>
        <p:spPr>
          <a:xfrm>
            <a:off x="3733920" y="4572000"/>
            <a:ext cx="1752480" cy="838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ALITY</a:t>
            </a:r>
            <a:endParaRPr b="0" lang="en-US" sz="2000" spc="-1" strike="noStrike">
              <a:solidFill>
                <a:srgbClr val="ffffff"/>
              </a:solidFill>
              <a:latin typeface="Arial"/>
            </a:endParaRPr>
          </a:p>
        </p:txBody>
      </p:sp>
      <p:sp>
        <p:nvSpPr>
          <p:cNvPr id="269" name="Rectangle 7"/>
          <p:cNvSpPr/>
          <p:nvPr/>
        </p:nvSpPr>
        <p:spPr>
          <a:xfrm>
            <a:off x="6400800" y="3352680"/>
            <a:ext cx="1752480" cy="838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HICS</a:t>
            </a:r>
            <a:endParaRPr b="0" lang="en-US" sz="2000" spc="-1" strike="noStrike">
              <a:solidFill>
                <a:srgbClr val="ffffff"/>
              </a:solidFill>
              <a:latin typeface="Arial"/>
            </a:endParaRPr>
          </a:p>
        </p:txBody>
      </p:sp>
      <p:sp>
        <p:nvSpPr>
          <p:cNvPr id="270" name="AutoShape 12"/>
          <p:cNvSpPr/>
          <p:nvPr/>
        </p:nvSpPr>
        <p:spPr>
          <a:xfrm rot="16200000">
            <a:off x="3907440" y="3407400"/>
            <a:ext cx="1509840" cy="48564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1" name="AutoShape 13"/>
          <p:cNvSpPr/>
          <p:nvPr/>
        </p:nvSpPr>
        <p:spPr>
          <a:xfrm rot="16200000">
            <a:off x="6841080" y="2454840"/>
            <a:ext cx="976320" cy="48564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2" name="AutoShape 14"/>
          <p:cNvSpPr/>
          <p:nvPr/>
        </p:nvSpPr>
        <p:spPr>
          <a:xfrm rot="16200000">
            <a:off x="1507320" y="2531160"/>
            <a:ext cx="976320" cy="48600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signs provisions to B at Taiping, with directions to send them immediately to C at Parit Buntar. B may sell the provisions at Taiping, if they will not bear the journey to Parit Buntar without spoil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Northern Railway v Swaffield (1874) LR 9 Ex. 1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ditions that Must be Satisfied</a:t>
            </a:r>
            <a:endParaRPr b="0" lang="en-US" sz="4000" spc="-1" strike="noStrike">
              <a:solidFill>
                <a:srgbClr val="ccecff"/>
              </a:solidFill>
              <a:latin typeface="Arial"/>
            </a:endParaRPr>
          </a:p>
        </p:txBody>
      </p:sp>
      <p:sp>
        <p:nvSpPr>
          <p:cNvPr id="6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tempts have been made to get the principal’s instru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re exists a state of emergenc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act is for the benefit of the prin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agent has acted in a good fai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uthority of an Agent</a:t>
            </a:r>
            <a:endParaRPr b="0" lang="en-US" sz="4400" spc="-1" strike="noStrike">
              <a:solidFill>
                <a:srgbClr val="ccecff"/>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gent having an authority to do an act has authority to do every lawful thing which is necessary in order to do the a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41 Contract 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uthority of an Agent</a:t>
            </a:r>
            <a:endParaRPr b="0" lang="en-US" sz="4400" spc="-1" strike="noStrike">
              <a:solidFill>
                <a:srgbClr val="ccecff"/>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ctual Authority</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that is stated in the agreement</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pparent Authority</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that is implied by a third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arent Authority</a:t>
            </a:r>
            <a:endParaRPr b="0" lang="en-US" sz="4400" spc="-1" strike="noStrike">
              <a:solidFill>
                <a:srgbClr val="ccecff"/>
              </a:solidFill>
              <a:latin typeface="Arial"/>
            </a:endParaRPr>
          </a:p>
        </p:txBody>
      </p:sp>
      <p:sp>
        <p:nvSpPr>
          <p:cNvPr id="6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n agent has, without authority, done acts or incurred obligations to third persons on behalf of his principal, the principal is bound by those acts or obligations if he has by his words or conduct induced such third persons to believe that those acts and obligations were within the scope of the agent’s authority</a:t>
            </a:r>
            <a:endParaRPr b="0" lang="en-US" sz="2800" spc="-1" strike="noStrike">
              <a:solidFill>
                <a:srgbClr val="ffffff"/>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190 Contract Act</a:t>
            </a:r>
            <a:endParaRPr b="0" lang="en-US" sz="2800" spc="-1" strike="noStrike">
              <a:solidFill>
                <a:srgbClr val="ffffff"/>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orama Development (Guildford) Ltd. V Furnishing Fabric  Ltd. [1971] 2 QB 7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uties of an Agent</a:t>
            </a:r>
            <a:endParaRPr b="0" lang="en-US" sz="4400" spc="-1" strike="noStrike">
              <a:solidFill>
                <a:srgbClr val="ccecff"/>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obey the principal’s instruc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act according to the custom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exercise care and diligen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render proper accounts when require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pay all sums receive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o communicate with the prin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flict of interes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cret profi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fidential informa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Delegation of authorit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uties of a Principal</a:t>
            </a:r>
            <a:endParaRPr b="0" lang="en-US" sz="4400" spc="-1" strike="noStrike">
              <a:solidFill>
                <a:srgbClr val="ccecff"/>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o pay the commi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Not to prevent the agent from earning his commi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o reimburse the ag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ffects of Contracts Made by Agents</a:t>
            </a:r>
            <a:endParaRPr b="0" lang="en-US" sz="4000" spc="-1" strike="noStrike">
              <a:solidFill>
                <a:srgbClr val="ccecff"/>
              </a:solidFill>
              <a:latin typeface="Arial"/>
            </a:endParaRPr>
          </a:p>
        </p:txBody>
      </p:sp>
      <p:sp>
        <p:nvSpPr>
          <p:cNvPr id="6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ntract made under a named prin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ntract made under a disclosed prin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ntract made under an undisclosed princip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ination of Agency</a:t>
            </a:r>
            <a:endParaRPr b="0" lang="en-US" sz="4400" spc="-1" strike="noStrike">
              <a:solidFill>
                <a:srgbClr val="ccecff"/>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gency is terminated by the principal revoking his authority; or by the agent renouncing the business of agency; or by the business of the agency being completed; or by either the principal or agent dying or becoming of unsound mind; or by the principal being adjudicated or declared a bankrupt or an insolv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15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ination of Agency</a:t>
            </a:r>
            <a:endParaRPr b="0" lang="en-US" sz="4400" spc="-1" strike="noStrike">
              <a:solidFill>
                <a:srgbClr val="ccecff"/>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By the Act of the Par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By Operation of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TURE OF BUSINESS LAW</a:t>
            </a:r>
            <a:endParaRPr b="0" lang="en-US" sz="40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 SHOU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 TO MODERN SITU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GMATIC AND RESPONS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TI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IS A FORMAL SYSTEM THAT EMBODIES EXPLICIT RULES OF CONDUC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GIVES POWER TO THE COURTS TO RESOLVE DISPU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ENABLES INDIVIDUALS TO MAKE WILL OR CONTR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 the Act of the Parties</a:t>
            </a:r>
            <a:endParaRPr b="0" lang="en-US" sz="4400" spc="-1" strike="noStrike">
              <a:solidFill>
                <a:srgbClr val="ccecff"/>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principal revoking his autho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agent renouncing the business of ag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cannot revoke the contract wh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job has been don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gent has an interest in the contra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tion 155 Contract Act</a:t>
            </a:r>
            <a:endParaRPr b="0" lang="en-US" sz="4400" spc="-1" strike="noStrike">
              <a:solidFill>
                <a:srgbClr val="ccecff"/>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agent has himself an interest in the property which forms the subject-matter of the agency, the agency cannot, in the absence of an express contract, be terminated to the prejudice of such interes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ustration</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ives authority to B to sell A’s land, and to pay himself, out of the proceeds, the debts due to him from A. A cannot revoke this authority, not can it be terminated by his unsoundness of mind or de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eriod of the business of the agency has been fixed, the contract could not be terminated unless the time has laps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 Operation of Law</a:t>
            </a:r>
            <a:endParaRPr b="0" lang="en-US" sz="4400" spc="-1" strike="noStrike">
              <a:solidFill>
                <a:srgbClr val="ccecff"/>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business of the agency being comple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death of the principal or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principal or agent becomes unsou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principal becomes insolvent or being declared bank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of Goods</a:t>
            </a:r>
            <a:endParaRPr b="0" lang="en-US" sz="4000" spc="-1" strike="noStrike">
              <a:solidFill>
                <a:srgbClr val="ccecff"/>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e of Goods Act 1957 (Revised 1989)</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GA applies to contracts for the sale of all types of goods;</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sales/Private sales </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lesale/Retail</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econd-hand good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act of Sale</a:t>
            </a:r>
            <a:endParaRPr b="0" lang="en-US" sz="4000" spc="-1" strike="noStrike">
              <a:solidFill>
                <a:srgbClr val="ccecff"/>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ract of sale of goods is a contract whereby the seller </a:t>
            </a:r>
            <a:r>
              <a:rPr b="0" lang="en-US" sz="3200" spc="-1" strike="noStrike" u="sng">
                <a:solidFill>
                  <a:srgbClr val="ffffff"/>
                </a:solidFill>
                <a:uFillTx/>
                <a:latin typeface="Arial"/>
              </a:rPr>
              <a:t>transfers</a:t>
            </a:r>
            <a:r>
              <a:rPr b="0" lang="en-US" sz="3200" spc="-1" strike="noStrike">
                <a:solidFill>
                  <a:srgbClr val="ffffff"/>
                </a:solidFill>
                <a:latin typeface="Arial"/>
              </a:rPr>
              <a:t> or </a:t>
            </a:r>
            <a:r>
              <a:rPr b="0" lang="en-US" sz="3200" spc="-1" strike="noStrike" u="sng">
                <a:solidFill>
                  <a:srgbClr val="ffffff"/>
                </a:solidFill>
                <a:uFillTx/>
                <a:latin typeface="Arial"/>
              </a:rPr>
              <a:t>agrees to transfer</a:t>
            </a:r>
            <a:r>
              <a:rPr b="0" lang="en-US" sz="3200" spc="-1" strike="noStrike">
                <a:solidFill>
                  <a:srgbClr val="ffffff"/>
                </a:solidFill>
                <a:latin typeface="Arial"/>
              </a:rPr>
              <a:t> the property in goods to the buyer for a pri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ction 4(1) SOGA 195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and Agreement to Sell</a:t>
            </a:r>
            <a:endParaRPr b="0" lang="en-US" sz="4000" spc="-1" strike="noStrike">
              <a:solidFill>
                <a:srgbClr val="ccecff"/>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 contract of sale</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y in the goods transfers to the buyers at the time the contract is made</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n agreement to sale</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y in the goods will transfer at future time (e.g. when condition has been fulfil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and Agreement to Sell</a:t>
            </a:r>
            <a:endParaRPr b="0" lang="en-US" sz="4000" spc="-1" strike="noStrike">
              <a:solidFill>
                <a:srgbClr val="ccecff"/>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under a contract of sale the property in the goods is transferred from the seller to the buyer, the contract is called </a:t>
            </a:r>
            <a:r>
              <a:rPr b="0" lang="en-US" sz="2800" spc="-1" strike="noStrike" u="sng">
                <a:solidFill>
                  <a:srgbClr val="ffffff"/>
                </a:solidFill>
                <a:uFillTx/>
                <a:latin typeface="Arial"/>
              </a:rPr>
              <a:t>a sale [contract</a:t>
            </a:r>
            <a:r>
              <a:rPr b="0" lang="en-US" sz="2800" spc="-1" strike="noStrike">
                <a:solidFill>
                  <a:srgbClr val="ffffff"/>
                </a:solidFill>
                <a:latin typeface="Arial"/>
              </a:rPr>
              <a:t>], but where the transfer of the property in the goods is to take place at a future time or subject to some condition thereafter to be fulfilled, the contract is called </a:t>
            </a:r>
            <a:r>
              <a:rPr b="0" lang="en-US" sz="2800" spc="-1" strike="noStrike" u="sng">
                <a:solidFill>
                  <a:srgbClr val="ffffff"/>
                </a:solidFill>
                <a:uFillTx/>
                <a:latin typeface="Arial"/>
              </a:rPr>
              <a:t>an agreement to sell</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3) SOGA 195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a:t>
            </a:r>
            <a:endParaRPr b="0" lang="en-US" sz="4000" spc="-1" strike="noStrike">
              <a:solidFill>
                <a:srgbClr val="ccecff"/>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a Contracts Act 1950 consideration can be anything of values (in the eyes of the la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 thing be accepted as consideratio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it be in the form of money?</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bout thing +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304920" y="1397160"/>
          <a:ext cx="8610480" cy="4063680"/>
        </p:xfrm>
        <a:graphic>
          <a:graphicData uri="http://schemas.openxmlformats.org/drawingml/2006/table">
            <a:tbl>
              <a:tblPr/>
              <a:tblGrid>
                <a:gridCol w="1722240"/>
                <a:gridCol w="1722600"/>
                <a:gridCol w="1720800"/>
                <a:gridCol w="1722240"/>
                <a:gridCol w="1722600"/>
              </a:tblGrid>
              <a:tr h="812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S OF REFERENC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ST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THI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A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TY TO OBE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NC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CHINERY FOR ENFORCEMEN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 name="Text Box 106"/>
          <p:cNvSpPr/>
          <p:nvPr/>
        </p:nvSpPr>
        <p:spPr>
          <a:xfrm>
            <a:off x="456840" y="609480"/>
            <a:ext cx="812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 BETWEEN LAW, JUSTICE, ETHICS AND MOR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a:t>
            </a:r>
            <a:endParaRPr b="0" lang="en-US" sz="4000" spc="-1" strike="noStrike">
              <a:solidFill>
                <a:srgbClr val="ccecff"/>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4(1) provides that a contract of sale is a contract whereby the seller transfers or agrees to transfer the property in goods to the buyer for a </a:t>
            </a:r>
            <a:r>
              <a:rPr b="0" lang="en-US" sz="3200" spc="-1" strike="noStrike" u="sng">
                <a:solidFill>
                  <a:srgbClr val="ffffff"/>
                </a:solidFill>
                <a:uFillTx/>
                <a:latin typeface="Arial"/>
              </a:rPr>
              <a:t>pric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oods</a:t>
            </a:r>
            <a:endParaRPr b="0" lang="en-US" sz="4000" spc="-1" strike="noStrike">
              <a:solidFill>
                <a:srgbClr val="ccecff"/>
              </a:solidFill>
              <a:latin typeface="Arial"/>
            </a:endParaRPr>
          </a:p>
        </p:txBody>
      </p:sp>
      <p:sp>
        <p:nvSpPr>
          <p:cNvPr id="7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s means every kind of movable property other than actionable claims and money; and includes stock and shares, growing crops, grass, and things attached to or forming part of the land which are agreed to be severed before sale or under the contract of s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2 SOGA 195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lassification of Goods</a:t>
            </a:r>
            <a:endParaRPr b="0" lang="en-US" sz="4000" spc="-1" strike="noStrike">
              <a:solidFill>
                <a:srgbClr val="ccecff"/>
              </a:solidFill>
              <a:latin typeface="Arial"/>
            </a:endParaRPr>
          </a:p>
        </p:txBody>
      </p:sp>
      <p:sp>
        <p:nvSpPr>
          <p:cNvPr id="7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Rectangle 7"/>
          <p:cNvSpPr/>
          <p:nvPr/>
        </p:nvSpPr>
        <p:spPr>
          <a:xfrm>
            <a:off x="3809880" y="1523880"/>
            <a:ext cx="129564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s</a:t>
            </a:r>
            <a:endParaRPr b="0" lang="en-US" sz="2000" spc="-1" strike="noStrike">
              <a:solidFill>
                <a:srgbClr val="ffffff"/>
              </a:solidFill>
              <a:latin typeface="Arial"/>
            </a:endParaRPr>
          </a:p>
        </p:txBody>
      </p:sp>
      <p:sp>
        <p:nvSpPr>
          <p:cNvPr id="719" name="Rectangle 8"/>
          <p:cNvSpPr/>
          <p:nvPr/>
        </p:nvSpPr>
        <p:spPr>
          <a:xfrm>
            <a:off x="1447920" y="2819520"/>
            <a:ext cx="19047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sting Goods</a:t>
            </a:r>
            <a:endParaRPr b="0" lang="en-US" sz="2000" spc="-1" strike="noStrike">
              <a:solidFill>
                <a:srgbClr val="ffffff"/>
              </a:solidFill>
              <a:latin typeface="Arial"/>
            </a:endParaRPr>
          </a:p>
        </p:txBody>
      </p:sp>
      <p:sp>
        <p:nvSpPr>
          <p:cNvPr id="720" name="Rectangle 9"/>
          <p:cNvSpPr/>
          <p:nvPr/>
        </p:nvSpPr>
        <p:spPr>
          <a:xfrm>
            <a:off x="5791320" y="2895480"/>
            <a:ext cx="1904760" cy="6858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Goods</a:t>
            </a:r>
            <a:endParaRPr b="0" lang="en-US" sz="2000" spc="-1" strike="noStrike">
              <a:solidFill>
                <a:srgbClr val="ffffff"/>
              </a:solidFill>
              <a:latin typeface="Arial"/>
            </a:endParaRPr>
          </a:p>
        </p:txBody>
      </p:sp>
      <p:sp>
        <p:nvSpPr>
          <p:cNvPr id="721" name="Rectangle 10"/>
          <p:cNvSpPr/>
          <p:nvPr/>
        </p:nvSpPr>
        <p:spPr>
          <a:xfrm>
            <a:off x="380880" y="4724280"/>
            <a:ext cx="175284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
            </a:r>
            <a:endParaRPr b="0" lang="en-US" sz="2000" spc="-1" strike="noStrike">
              <a:solidFill>
                <a:srgbClr val="ffffff"/>
              </a:solidFill>
              <a:latin typeface="Arial"/>
            </a:endParaRPr>
          </a:p>
        </p:txBody>
      </p:sp>
      <p:sp>
        <p:nvSpPr>
          <p:cNvPr id="722" name="Rectangle 11"/>
          <p:cNvSpPr/>
          <p:nvPr/>
        </p:nvSpPr>
        <p:spPr>
          <a:xfrm>
            <a:off x="2514600" y="4724280"/>
            <a:ext cx="175248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scertained</a:t>
            </a:r>
            <a:endParaRPr b="0" lang="en-US" sz="2000" spc="-1" strike="noStrike">
              <a:solidFill>
                <a:srgbClr val="ffffff"/>
              </a:solidFill>
              <a:latin typeface="Arial"/>
            </a:endParaRPr>
          </a:p>
        </p:txBody>
      </p:sp>
      <p:sp>
        <p:nvSpPr>
          <p:cNvPr id="723" name="Rectangle 12"/>
          <p:cNvSpPr/>
          <p:nvPr/>
        </p:nvSpPr>
        <p:spPr>
          <a:xfrm>
            <a:off x="4648320" y="4724280"/>
            <a:ext cx="182880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
            </a:r>
            <a:endParaRPr b="0" lang="en-US" sz="2000" spc="-1" strike="noStrike">
              <a:solidFill>
                <a:srgbClr val="ffffff"/>
              </a:solidFill>
              <a:latin typeface="Arial"/>
            </a:endParaRPr>
          </a:p>
        </p:txBody>
      </p:sp>
      <p:sp>
        <p:nvSpPr>
          <p:cNvPr id="724" name="Rectangle 13"/>
          <p:cNvSpPr/>
          <p:nvPr/>
        </p:nvSpPr>
        <p:spPr>
          <a:xfrm>
            <a:off x="7086600" y="4724280"/>
            <a:ext cx="182880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scertained</a:t>
            </a:r>
            <a:endParaRPr b="0" lang="en-US" sz="2000" spc="-1" strike="noStrike">
              <a:solidFill>
                <a:srgbClr val="ffffff"/>
              </a:solidFill>
              <a:latin typeface="Arial"/>
            </a:endParaRPr>
          </a:p>
        </p:txBody>
      </p:sp>
      <p:sp>
        <p:nvSpPr>
          <p:cNvPr id="725" name="Line 24"/>
          <p:cNvSpPr/>
          <p:nvPr/>
        </p:nvSpPr>
        <p:spPr>
          <a:xfrm>
            <a:off x="4419720" y="2133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25"/>
          <p:cNvSpPr/>
          <p:nvPr/>
        </p:nvSpPr>
        <p:spPr>
          <a:xfrm>
            <a:off x="2438280" y="2438280"/>
            <a:ext cx="4191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26"/>
          <p:cNvSpPr/>
          <p:nvPr/>
        </p:nvSpPr>
        <p:spPr>
          <a:xfrm>
            <a:off x="24382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27"/>
          <p:cNvSpPr/>
          <p:nvPr/>
        </p:nvSpPr>
        <p:spPr>
          <a:xfrm>
            <a:off x="662940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29"/>
          <p:cNvSpPr/>
          <p:nvPr/>
        </p:nvSpPr>
        <p:spPr>
          <a:xfrm>
            <a:off x="2438280" y="3505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0"/>
          <p:cNvSpPr/>
          <p:nvPr/>
        </p:nvSpPr>
        <p:spPr>
          <a:xfrm>
            <a:off x="6629400" y="3581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1"/>
          <p:cNvSpPr/>
          <p:nvPr/>
        </p:nvSpPr>
        <p:spPr>
          <a:xfrm>
            <a:off x="1523880" y="41148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2"/>
          <p:cNvSpPr/>
          <p:nvPr/>
        </p:nvSpPr>
        <p:spPr>
          <a:xfrm>
            <a:off x="5715000" y="41148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3"/>
          <p:cNvSpPr/>
          <p:nvPr/>
        </p:nvSpPr>
        <p:spPr>
          <a:xfrm>
            <a:off x="5715000" y="4114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4"/>
          <p:cNvSpPr/>
          <p:nvPr/>
        </p:nvSpPr>
        <p:spPr>
          <a:xfrm>
            <a:off x="7696080" y="4114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35"/>
          <p:cNvSpPr/>
          <p:nvPr/>
        </p:nvSpPr>
        <p:spPr>
          <a:xfrm>
            <a:off x="3352680" y="4114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36"/>
          <p:cNvSpPr/>
          <p:nvPr/>
        </p:nvSpPr>
        <p:spPr>
          <a:xfrm>
            <a:off x="1523880" y="4114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ditions and Warranties</a:t>
            </a:r>
            <a:endParaRPr b="0" lang="en-US" sz="4000" spc="-1" strike="noStrike">
              <a:solidFill>
                <a:srgbClr val="ccecff"/>
              </a:solidFill>
              <a:latin typeface="Arial"/>
            </a:endParaRPr>
          </a:p>
        </p:txBody>
      </p:sp>
      <p:sp>
        <p:nvSpPr>
          <p:cNvPr id="7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 is a term essential to a contract, a breach of which will allow the other party to treat the contract as repudiated</a:t>
            </a:r>
            <a:endParaRPr b="0" lang="en-US" sz="28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2(2) SOGA</a:t>
            </a:r>
            <a:endParaRPr b="0" lang="en-US" sz="20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ranty is a term collateral to a contract, a breach of which will give rise to a claim for damages but not to repudiate the contrac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2(3) SOG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reach of Conditions</a:t>
            </a:r>
            <a:endParaRPr b="0" lang="en-US" sz="4000" spc="-1" strike="noStrike">
              <a:solidFill>
                <a:srgbClr val="ccecff"/>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four circumstances where a breach of condition is considered as a breach of warranty, hence a contract could not be repudiated:-</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buyer waives the condition</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buyer chooses to treat the breach of </a:t>
            </a:r>
            <a:r>
              <a:rPr b="0" lang="en-US" sz="2800" spc="-1" strike="noStrike">
                <a:solidFill>
                  <a:srgbClr val="ffffff"/>
                </a:solidFill>
                <a:latin typeface="Arial"/>
              </a:rPr>
              <a:t>	</a:t>
            </a:r>
            <a:r>
              <a:rPr b="0" lang="en-US" sz="2800" spc="-1" strike="noStrike">
                <a:solidFill>
                  <a:srgbClr val="ffffff"/>
                </a:solidFill>
                <a:latin typeface="Arial"/>
              </a:rPr>
              <a:t>condition as the breach of warranty</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buyer has accepted the goods or part </a:t>
            </a:r>
            <a:r>
              <a:rPr b="0" lang="en-US" sz="2800" spc="-1" strike="noStrike">
                <a:solidFill>
                  <a:srgbClr val="ffffff"/>
                </a:solidFill>
                <a:latin typeface="Arial"/>
              </a:rPr>
              <a:t>	</a:t>
            </a:r>
            <a:r>
              <a:rPr b="0" lang="en-US" sz="2800" spc="-1" strike="noStrike">
                <a:solidFill>
                  <a:srgbClr val="ffffff"/>
                </a:solidFill>
                <a:latin typeface="Arial"/>
              </a:rPr>
              <a:t>of it</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contract involves the sale of specific goo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Scheme of Consumer Protection</a:t>
            </a:r>
            <a:endParaRPr b="0" lang="en-US" sz="4000" spc="-1" strike="noStrike">
              <a:solidFill>
                <a:srgbClr val="ccecff"/>
              </a:solidFill>
              <a:latin typeface="Arial"/>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 14-17 SOGA provide a scheme of consumer protec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ally, the sections put some obligations on the seller whereby he has to ensure that the buyer will have a good title of the goods; the buyer will enjoy a quiet possession of the goods; the goods are of merchantable quality and fit for purpose and etc.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lied Terms</a:t>
            </a:r>
            <a:endParaRPr b="0" lang="en-US" sz="4000" spc="-1" strike="noStrike">
              <a:solidFill>
                <a:srgbClr val="ccecff"/>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onsumer protection schemes are discussed under the topic of implied te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lied Condition as to Title</a:t>
            </a:r>
            <a:endParaRPr b="0" lang="en-US" sz="4000" spc="-1" strike="noStrike">
              <a:solidFill>
                <a:srgbClr val="ccecff"/>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ss a different intention is shown there is an implied condition on the part of the seller, that, in the case of a sale, he has the right to sell the goods, and that, in the case of an agreement to sell, he will have a right to sell the goods at the time when the property is to pa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4(a)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lied Warranty as to Quiet Possession</a:t>
            </a:r>
            <a:endParaRPr b="0" lang="en-US" sz="4000" spc="-1" strike="noStrike">
              <a:solidFill>
                <a:srgbClr val="ccecff"/>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ss a different intention is shown, there is an implied warranty that the buyer shall have and enjoy quiet possession of the good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4(b)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lied Warranty that the Goods are Free from Encumbrance</a:t>
            </a:r>
            <a:endParaRPr b="0" lang="en-US" sz="4000" spc="-1" strike="noStrike">
              <a:solidFill>
                <a:srgbClr val="ccecff"/>
              </a:solidFill>
              <a:latin typeface="Arial"/>
            </a:endParaRPr>
          </a:p>
        </p:txBody>
      </p:sp>
      <p:sp>
        <p:nvSpPr>
          <p:cNvPr id="7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ss a different intention is shown, there is an implied warranty that the goods shall be free from any charge or encumbrance in favour of any third party not declared or known to the buyer before or at the time when the contract is made</a:t>
            </a: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4(c)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 OF ETHICS</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S IS A STANDARD OF VALUES THAT INVOLVE A CONCEPT OF RIGHT AND WRONG, GOOD AND EVIL, AND RESPONSIBIL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by Description</a:t>
            </a:r>
            <a:endParaRPr b="0" lang="en-US" sz="4000" spc="-1" strike="noStrike">
              <a:solidFill>
                <a:srgbClr val="ccecff"/>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re is a contract for the sale of goods by description there is an implied condition that the goods shall correspond with the description; and, if the sale is by sample as well as by description, it is not sufficient that the bulk of the goods corresponds with the sample if the goods do not also correspond with the descrip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5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lied Condition as to Quality or Fitness</a:t>
            </a:r>
            <a:endParaRPr b="0" lang="en-US" sz="4000" spc="-1" strike="noStrike">
              <a:solidFill>
                <a:srgbClr val="ccecff"/>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implied condition unles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yer makes known to the seller the particular purpose he buys the goo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ansaction was made upon description while at the same time the seller always deal with the goods</a:t>
            </a:r>
            <a:endParaRPr b="0" lang="en-US" sz="2400" spc="-1" strike="noStrike">
              <a:solidFill>
                <a:srgbClr val="ffffff"/>
              </a:solidFill>
              <a:latin typeface="Arial"/>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6 SOG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by Sample</a:t>
            </a:r>
            <a:endParaRPr b="0" lang="en-US" sz="4000" spc="-1" strike="noStrike">
              <a:solidFill>
                <a:srgbClr val="ccecff"/>
              </a:solidFill>
              <a:latin typeface="Arial"/>
            </a:endParaRPr>
          </a:p>
        </p:txBody>
      </p:sp>
      <p:sp>
        <p:nvSpPr>
          <p:cNvPr id="7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case of a contract for sale by sample there is an implied condi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the bulk shall correspond with the sample in quality</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the buyer shall have reasonable opportunity of comparing the bulk with the sampl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the goods shall be free from any defect rendering them unmerchantable which would not be apparent on reasonable examination of the sample</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tion 17 SOG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Transfer of the Property</a:t>
            </a:r>
            <a:endParaRPr b="0" lang="en-US" sz="4000" spc="-1" strike="noStrike">
              <a:solidFill>
                <a:srgbClr val="ccecff"/>
              </a:solidFill>
              <a:latin typeface="Arial"/>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property passes to the bu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determine whether the transfer of the proper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so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wnership and the Risk</a:t>
            </a:r>
            <a:endParaRPr b="0" lang="en-US" sz="4000" spc="-1" strike="noStrike">
              <a:solidFill>
                <a:srgbClr val="ccecff"/>
              </a:solidFill>
              <a:latin typeface="Arial"/>
            </a:endParaRPr>
          </a:p>
        </p:txBody>
      </p:sp>
      <p:sp>
        <p:nvSpPr>
          <p:cNvPr id="7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inciple the person who owns the goods shall bear the risk of the goo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f the goods damaged and the ownership was vested in the buyer, that particular buyer shall bear the lo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isk in Goods</a:t>
            </a:r>
            <a:endParaRPr b="0" lang="en-US" sz="4000" spc="-1" strike="noStrike">
              <a:solidFill>
                <a:srgbClr val="ccecff"/>
              </a:solidFill>
              <a:latin typeface="Arial"/>
            </a:endParaRPr>
          </a:p>
        </p:txBody>
      </p:sp>
      <p:sp>
        <p:nvSpPr>
          <p:cNvPr id="7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ima facie passes with propert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ss otherwise agreed, the goods remain at the seller’s risk until the property therein is transferred to the buyer, but when the property therein is transferred to the buyer, the goods are at the buyer’s risk whether delivery has been made or no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26 SOG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o shall bear the risk?</a:t>
            </a:r>
            <a:endParaRPr b="0" lang="en-US" sz="4000" spc="-1" strike="noStrike">
              <a:solidFill>
                <a:srgbClr val="ccecff"/>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in Mariam phoned Ah Chong ordering six bottles of ‘sos sedap’. Due to the constraint of time Ah Chong has asked his son, Ah Seng to deliver the sauces to Datin Mariam’s house. On his way however Ah Seng involved in an accident. All the bottles were broken and spoil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shall bear the loss? The seller or the buyer?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o shall bear the risk?</a:t>
            </a:r>
            <a:endParaRPr b="0" lang="en-US" sz="4000" spc="-1" strike="noStrike">
              <a:solidFill>
                <a:srgbClr val="ccecff"/>
              </a:solidFill>
              <a:latin typeface="Arial"/>
            </a:endParaRPr>
          </a:p>
        </p:txBody>
      </p:sp>
      <p:sp>
        <p:nvSpPr>
          <p:cNvPr id="7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in Mariam visited Ah Chong’s shop and chose six bottles of ‘sos sedap’. Due to the constraint of time Datin Marian asked Ah Chong to deliver the six bottles of ‘sos sedap’. Ah Seng took the responsibility but on his way however he got involve in an accident. All the bottles were broken and spoil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time who shall bear the loss? The seller or the buyer?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ascertained Goods</a:t>
            </a:r>
            <a:endParaRPr b="0" lang="en-US" sz="4000" spc="-1" strike="noStrike">
              <a:solidFill>
                <a:srgbClr val="ccecff"/>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re is a contract for the sale of unascertained goods, no property in the goods is transferred to the buyer unless and until the goods are ascertain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8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pecific Goods</a:t>
            </a:r>
            <a:endParaRPr b="0" lang="en-US" sz="4000" spc="-1" strike="noStrike">
              <a:solidFill>
                <a:srgbClr val="ccecff"/>
              </a:solidFill>
              <a:latin typeface="Arial"/>
            </a:endParaRPr>
          </a:p>
        </p:txBody>
      </p:sp>
      <p:sp>
        <p:nvSpPr>
          <p:cNvPr id="77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erty in the goods is transferred to the buyer at such time as the parties to the contract intend it to be transferred.</a:t>
            </a:r>
            <a:endParaRPr b="0" lang="en-US" sz="28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9 SOGA</a:t>
            </a: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ard has been made to the terms of contract as to ascertain the intention of the part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s 20-24 also provide guidelines as to ascertain the intention of the par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Diagram 23"/>
          <p:cNvGrpSpPr/>
          <p:nvPr/>
        </p:nvGrpSpPr>
        <p:grpSpPr>
          <a:xfrm>
            <a:off x="1136520" y="2763720"/>
            <a:ext cx="6793200" cy="1713960"/>
            <a:chOff x="1136520" y="2763720"/>
            <a:chExt cx="6793200" cy="1713960"/>
          </a:xfrm>
        </p:grpSpPr>
        <p:sp>
          <p:nvSpPr>
            <p:cNvPr id="280" name="_s2052"/>
            <p:cNvSpPr/>
            <p:nvPr/>
          </p:nvSpPr>
          <p:spPr>
            <a:xfrm>
              <a:off x="4329000" y="2763720"/>
              <a:ext cx="1714680" cy="1713960"/>
            </a:xfrm>
            <a:prstGeom prst="ellipse">
              <a:avLst/>
            </a:prstGeom>
            <a:solidFill>
              <a:srgbClr val="0088e4">
                <a:alpha val="50000"/>
              </a:srgbClr>
            </a:solidFill>
            <a:ln w="4680">
              <a:solidFill>
                <a:srgbClr val="99ff9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_s2053"/>
            <p:cNvSpPr/>
            <p:nvPr/>
          </p:nvSpPr>
          <p:spPr>
            <a:xfrm>
              <a:off x="6215040" y="3406680"/>
              <a:ext cx="1714680" cy="42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_s2054"/>
            <p:cNvSpPr/>
            <p:nvPr/>
          </p:nvSpPr>
          <p:spPr>
            <a:xfrm>
              <a:off x="3024360" y="2763720"/>
              <a:ext cx="1714320" cy="1713960"/>
            </a:xfrm>
            <a:prstGeom prst="ellipse">
              <a:avLst/>
            </a:prstGeom>
            <a:solidFill>
              <a:srgbClr val="ffffff">
                <a:alpha val="50000"/>
              </a:srgbClr>
            </a:solidFill>
            <a:ln w="4680">
              <a:solidFill>
                <a:srgbClr val="afe1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_s2055"/>
            <p:cNvSpPr/>
            <p:nvPr/>
          </p:nvSpPr>
          <p:spPr>
            <a:xfrm>
              <a:off x="1136520" y="3406680"/>
              <a:ext cx="1714680" cy="42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84" name="Text Box 30"/>
          <p:cNvSpPr/>
          <p:nvPr/>
        </p:nvSpPr>
        <p:spPr>
          <a:xfrm>
            <a:off x="3354120" y="342900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a:t>
            </a:r>
            <a:endParaRPr b="0" lang="en-US" sz="2000" spc="-1" strike="noStrike">
              <a:solidFill>
                <a:srgbClr val="ffffff"/>
              </a:solidFill>
              <a:latin typeface="Arial"/>
            </a:endParaRPr>
          </a:p>
        </p:txBody>
      </p:sp>
      <p:sp>
        <p:nvSpPr>
          <p:cNvPr id="285" name="Text Box 31"/>
          <p:cNvSpPr/>
          <p:nvPr/>
        </p:nvSpPr>
        <p:spPr>
          <a:xfrm>
            <a:off x="5334120" y="3276720"/>
            <a:ext cx="18396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sp>
        <p:nvSpPr>
          <p:cNvPr id="286" name="Text Box 32"/>
          <p:cNvSpPr/>
          <p:nvPr/>
        </p:nvSpPr>
        <p:spPr>
          <a:xfrm>
            <a:off x="4802400" y="3429000"/>
            <a:ext cx="11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HICS</a:t>
            </a:r>
            <a:endParaRPr b="0" lang="en-US" sz="2000" spc="-1" strike="noStrike">
              <a:solidFill>
                <a:srgbClr val="ffffff"/>
              </a:solidFill>
              <a:latin typeface="Arial"/>
            </a:endParaRPr>
          </a:p>
        </p:txBody>
      </p:sp>
      <p:sp>
        <p:nvSpPr>
          <p:cNvPr id="287" name="Text Box 38"/>
          <p:cNvSpPr/>
          <p:nvPr/>
        </p:nvSpPr>
        <p:spPr>
          <a:xfrm>
            <a:off x="1828800" y="1371600"/>
            <a:ext cx="5610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 BETWE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 AND ETHICS</a:t>
            </a:r>
            <a:endParaRPr b="0" lang="en-US" sz="2000" spc="-1" strike="noStrike">
              <a:solidFill>
                <a:srgbClr val="ffffff"/>
              </a:solidFill>
              <a:latin typeface="Arial"/>
            </a:endParaRPr>
          </a:p>
        </p:txBody>
      </p:sp>
      <p:sp>
        <p:nvSpPr>
          <p:cNvPr id="288" name="Text Box 39"/>
          <p:cNvSpPr/>
          <p:nvPr/>
        </p:nvSpPr>
        <p:spPr>
          <a:xfrm>
            <a:off x="3583080" y="5181480"/>
            <a:ext cx="197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 &amp; ETHICS</a:t>
            </a:r>
            <a:endParaRPr b="0" lang="en-US" sz="2000" spc="-1" strike="noStrike">
              <a:solidFill>
                <a:srgbClr val="ffffff"/>
              </a:solidFill>
              <a:latin typeface="Arial"/>
            </a:endParaRPr>
          </a:p>
        </p:txBody>
      </p:sp>
      <p:sp>
        <p:nvSpPr>
          <p:cNvPr id="289" name="Line 40"/>
          <p:cNvSpPr/>
          <p:nvPr/>
        </p:nvSpPr>
        <p:spPr>
          <a:xfrm flipV="1">
            <a:off x="4495680" y="365724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oods in a Deliverable State</a:t>
            </a:r>
            <a:endParaRPr b="0" lang="en-US" sz="4000" spc="-1" strike="noStrike">
              <a:solidFill>
                <a:srgbClr val="ccecff"/>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re is an unconditional contract for the sale of specific goods in a deliverable state the property in the goods passes to the buyer when the contract is made, and it is immaterial whether the time of payment of the price, or the time of delivery of the goods, or both, is postponed.</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20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oods to Be Made Deliverable</a:t>
            </a:r>
            <a:endParaRPr b="0" lang="en-US" sz="4000" spc="-1" strike="noStrike">
              <a:solidFill>
                <a:srgbClr val="ccecff"/>
              </a:solidFill>
              <a:latin typeface="Arial"/>
            </a:endParaRPr>
          </a:p>
        </p:txBody>
      </p:sp>
      <p:sp>
        <p:nvSpPr>
          <p:cNvPr id="7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re is a contract for the sale of specific goods and the seller is bound to do something to the goods for the purpose of putting them into a deliverable state, the property does not pass until such thing is done and the buyer has notice thereo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21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mething Has to Be Done in order to Ascertain the Price</a:t>
            </a:r>
            <a:endParaRPr b="0" lang="en-US" sz="4000" spc="-1" strike="noStrike">
              <a:solidFill>
                <a:srgbClr val="ccecff"/>
              </a:solidFill>
              <a:latin typeface="Arial"/>
            </a:endParaRPr>
          </a:p>
        </p:txBody>
      </p:sp>
      <p:sp>
        <p:nvSpPr>
          <p:cNvPr id="7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re is a contract for the sale of specific goods in a deliverable state, but the seller is bound to weigh, measure, test, or do some other act or thing with reference to the goods for the purpose of ascertaining the price, the property does not pass until such act or thing is done and the buyer has notice thereof.</a:t>
            </a:r>
            <a:endParaRPr b="0" lang="en-US" sz="2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22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ture Goods Sold by Description</a:t>
            </a:r>
            <a:endParaRPr b="0" lang="en-US" sz="4000" spc="-1" strike="noStrike">
              <a:solidFill>
                <a:srgbClr val="ccecff"/>
              </a:solidFill>
              <a:latin typeface="Arial"/>
            </a:endParaRPr>
          </a:p>
        </p:txBody>
      </p:sp>
      <p:sp>
        <p:nvSpPr>
          <p:cNvPr id="7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is a contract for the sale of unascertained or future goods by description and goods of that description and in a deliverable state are unconditionally appropriated to the contract, either by the seller with the assent of the buyer or by the buyer with the assent of the seller, the property in the goods thereupon passes to the buy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ssent may be express or implied, and may be given either before or after the appropriation is ma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23 SO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e or Return</a:t>
            </a:r>
            <a:endParaRPr b="0" lang="en-US" sz="4000" spc="-1" strike="noStrike">
              <a:solidFill>
                <a:srgbClr val="ccecff"/>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goods are delivered to the buyer on approval or ‘on sale or return’, or other similar terms, the property there in passes to the buyer:-</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90000"/>
              </a:lnSpc>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he signifies his approval or acceptance to the seller or does any other act adopting the transaction</a:t>
            </a:r>
            <a:endParaRPr b="0" lang="en-US" sz="2000" spc="-1" strike="noStrike">
              <a:solidFill>
                <a:srgbClr val="ffffff"/>
              </a:solidFill>
              <a:latin typeface="Arial"/>
            </a:endParaRPr>
          </a:p>
          <a:p>
            <a:pPr lvl="1" marL="990720" indent="-533520">
              <a:lnSpc>
                <a:spcPct val="90000"/>
              </a:lnSpc>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he does not signify his approval or acceptance to the seller but retains the goods without giving notice of rejection, then if a time has been fixed for the return of goods, on the expiration of such time, and if no time has been fixed, on the expiration of a reasonable time.</a:t>
            </a:r>
            <a:endParaRPr b="0" lang="en-US" sz="2000" spc="-1" strike="noStrike">
              <a:solidFill>
                <a:srgbClr val="ffffff"/>
              </a:solidFill>
              <a:latin typeface="Arial"/>
            </a:endParaRPr>
          </a:p>
          <a:p>
            <a:pPr lvl="1" marL="99072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24 SOG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isk in Goods in the Case of Sale or Return</a:t>
            </a:r>
            <a:endParaRPr b="0" lang="en-US" sz="4000" spc="-1" strike="noStrike">
              <a:solidFill>
                <a:srgbClr val="ccecff"/>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lies on the seller until the property has passed to the buyer unless the damage or loss is caused by the buyer’s defa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W OF PARTNERSHIP</a:t>
            </a:r>
            <a:endParaRPr b="0" lang="en-US" sz="4000" spc="-1" strike="noStrike">
              <a:solidFill>
                <a:srgbClr val="ccecff"/>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ACT 1961 (REVISED 1974)</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 APPLIES THROUGHOUT MALAYSIA (WEST MALAYSIA AND SABAH &amp; SARAWAK)</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NCIPLES OF ENGLISH LAW AND THE RULES OF EQUITY WILL ALSO APPLY SO FAR AS IT IS NOT CONTRADICT TO THE EXPRESS PROVISIONS IN THE A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TURE OF PARTNERSHIP</a:t>
            </a:r>
            <a:endParaRPr b="0" lang="en-US" sz="4000" spc="-1" strike="noStrike">
              <a:solidFill>
                <a:srgbClr val="ccecff"/>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IS THE RELATION WHICH SUBSISTS BETWEEN PERSONS CARRY ON A BUSINESS IN COMMON WITH A VIEW OF PROF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3(1) PARTNERSHIP AC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IMILAR BUSINESS ASSOCIATIONS</a:t>
            </a:r>
            <a:endParaRPr b="0" lang="en-US" sz="3600" spc="-1" strike="noStrike">
              <a:solidFill>
                <a:srgbClr val="ccecff"/>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VE SOCIETIES</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IES</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ETIES</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ETERMINATION OF PARTNERSHIPS</a:t>
            </a:r>
            <a:endParaRPr b="0" lang="en-US" sz="3600" spc="-1" strike="noStrike">
              <a:solidFill>
                <a:srgbClr val="ccecff"/>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READING OF SECTION 3(1) PARTNERSHIP ACT 196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READING OF SECTION 4 PARTNERSHIP ACT 196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OTHER EVIDENCES AND CIRCUMSTANC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URCES OF LAW</a:t>
            </a:r>
            <a:endParaRPr b="0" lang="en-US" sz="40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S WHERE THE LAW COULD BE FOU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SOURCES (THE LEGAL RULES THAT MAKE UP THE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EGISTRATION OF PARTNERSHIP</a:t>
            </a:r>
            <a:endParaRPr b="0" lang="en-US" sz="3600" spc="-1" strike="noStrike">
              <a:solidFill>
                <a:srgbClr val="ccecff"/>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ARTNERSHIP SHOULD BE REGISTE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THE REGISTRATION OF BUSINESSES Act 1956</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CAP. 33 (BUSINESS, PROFESSIONS AND TRADE LICENC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CAP. 64 (BUSINESS NA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TRADES LICENCING ORDINANCE, NO. 16 19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TRACTS OF PARTNERSHIP</a:t>
            </a:r>
            <a:br>
              <a:rPr sz="3600"/>
            </a:br>
            <a:r>
              <a:rPr b="0" lang="en-US" sz="3600" spc="-1" strike="noStrike">
                <a:solidFill>
                  <a:srgbClr val="ccecff"/>
                </a:solidFill>
                <a:latin typeface="Arial"/>
              </a:rPr>
              <a:t>(Articles of Partnership)</a:t>
            </a:r>
            <a:endParaRPr b="0" lang="en-US" sz="3600" spc="-1" strike="noStrike">
              <a:solidFill>
                <a:srgbClr val="ccecff"/>
              </a:solidFill>
              <a:latin typeface="Arial"/>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INCIPLES OF CONTRACT WILL APPLY IN PARTNERSHI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ACT MAY BE ORAL OR WRITTE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ACT MAY CONTAIN DURATION OF PARTNERSHI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ACT MAY CONTAIN RIGHTS AND DUTIES OF PARTN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GHTS AND DUTIES OF PARTNERS</a:t>
            </a:r>
            <a:endParaRPr b="0" lang="en-US" sz="3600" spc="-1" strike="noStrike">
              <a:solidFill>
                <a:srgbClr val="ccecff"/>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WAS NO AGREEMENT WITH REGARDS TO THE RIGHTS AND DUTIES OF PARTNERS THE RULES IN SECTIONS 26, 27, 30, 31, 32, AND 33 SHALL APPLY IN THE PARTNERSHI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RITTEN AGREEMENT</a:t>
            </a:r>
            <a:endParaRPr b="0" lang="en-US" sz="4000" spc="-1" strike="noStrike">
              <a:solidFill>
                <a:srgbClr val="ccecff"/>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DVANTAGES OF WRITTEN AGREEMEN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 CAN AGREE NOT TO FOLLOW RULES PROVIDED UNDER THE ACT</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LS THE COURT WHILE INTERPRETING THE INTENTION OF THE PART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UNSUITABLE RULES</a:t>
            </a:r>
            <a:endParaRPr b="0" lang="en-US" sz="3600" spc="-1" strike="noStrike">
              <a:solidFill>
                <a:srgbClr val="ccecff"/>
              </a:solidFill>
              <a:latin typeface="Arial"/>
            </a:endParaRPr>
          </a:p>
        </p:txBody>
      </p:sp>
      <p:sp>
        <p:nvSpPr>
          <p:cNvPr id="8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ISTENCE OF A PARTNERSHIP AT WILL – WHERE ANY OF THE PARTNERS CAN GIVE NOTICE TO DISSOLVE A PARTNERSHIOP, EVEN IF ITS BUSINESS IS THRIV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SSOLUTION OF A PARTNERSHIP UPON DEATH OR THE BANKRUPTCY OF APARTNER UNLESS IT HAD BEEN AGREED BETWEEN THE PARTNERS, THE DEATH OR BANKCRUPTCY OF ANY OF THE PARTNERS WILL BRING THE PARTNERSHIP TO AN END, EVEN WHERE THE PARTNERSHIP IS ACTIVELY CARRYING ON A SUCCESSFUL BUSINES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AND LIABILITIES OVER PARTNERSHIP PROPERTY – MAY CREATE PROBLEMS WHERE PARTNERS DO NOT CONTRIBUTE EQUALLY TO THE CAPITAL, AND MAY HAVE NOT MEANT FOR PROFITS TO BE SHARED EQU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ELATION BETWEEN PARTNERS AND THIRD PARTIES</a:t>
            </a:r>
            <a:endParaRPr b="0" lang="en-US" sz="3600" spc="-1" strike="noStrike">
              <a:solidFill>
                <a:srgbClr val="ccecff"/>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S OF THE RELATIONSHIP SHALL BE BASED UPON THE POWER THAT THE PARTNERS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INCIPLE OF AGENCY</a:t>
            </a:r>
            <a:endParaRPr b="0" lang="en-US" sz="4000" spc="-1" strike="noStrike">
              <a:solidFill>
                <a:srgbClr val="ccecff"/>
              </a:solidFill>
              <a:latin typeface="Arial"/>
            </a:endParaRPr>
          </a:p>
        </p:txBody>
      </p:sp>
      <p:sp>
        <p:nvSpPr>
          <p:cNvPr id="8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ARTNER IS AN AGENT FOR THE FIRM AND HIS OTHER PARTNERS FOR THE PURPOSE OF THE BUSINESS OF THE PARTNERSHIP; AND THE ACT OF EVERY PARTNER WHO DOES ANY ACT FOR CARRYING ON IN THE USUAL WAY BUSINESS OF THE KIND CARRIED ON BY THE FIRM OF WHICH HE IS A MEMBER BIND THE FIRM AND HIS PARTNERS, UNLESS THE PARTNER SO ACTING HAS IN FACT NO AUTHORITY TO ACT FOR THE FIRM IN THE PARTICULAR MATTER, AND THE PERSON WITH WHOM HE IS DEALING EITHER KNOWS THAT HE HAS NO AUTHORITY OR DOES NOT KNOW OR BELIEVE HIM TO BE A PARTN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7 PARTNERSHIP ACT 196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A PARTNER COULD BIND THE FIRM IF THE FOLLOWING CONDITIONS ARE FULFILL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T DONE MUST BE OF THE TYPE OF BUSINESS THAT IS CARRIED OUT BY THE FIR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ARRIED ON THE USUAL WA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IRD MUST KNOW OR BELIEVE THE PERSON WITH WHOM HE ENTERS INTO THE TRANSACTION IS A PARTNE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IRD PARTY MUST NOT KNOW THE PERSON WITH WHOM HE HAS ENTERED INTO THE TRANSACTION HAS NO AUTHORITY NOR THE PERMISSION OF THE OTHER PARTNERS TO ACT ON BEHALF OF THE FIR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ACTUAL LIABILITY</a:t>
            </a:r>
            <a:endParaRPr b="0" lang="en-US" sz="4000" spc="-1" strike="noStrike">
              <a:solidFill>
                <a:srgbClr val="ccecff"/>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ARTNER IN THE FIRM IS LIABLE JOINTLY WITH THE OTHER PARTNERS FOR ALL DEBTS AND OBLIGATIONS OF THE FIRM INCURRED WHILE HE IS A PARTNER; AND AFTER HIS DEATH HIS ESTATE IS ALSO SEVERALLY LIABLE IN A DUE COURSE OF ADMINISTRATION FOR SUCH DEBTS AND OBLIGATIONS, SO FAR AS THEY REMAIN UNSATISFIED BUT SUBJECT TO THE PRIOR PAYMENT OF HIS SEPARATE DEB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1 PARTNERSHIP A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RTIOUS LIABILITY</a:t>
            </a:r>
            <a:endParaRPr b="0" lang="en-US" sz="4000" spc="-1" strike="noStrike">
              <a:solidFill>
                <a:srgbClr val="ccecff"/>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BY ANY WRONGFUL ACT OR OMISSION OF ANY APRTNER ACTING IN THE ORDINARY COURSE OF THE BUSINESS OF THE FIRM OR WITH THE AUTHORITY OF HIS CO-PARTNERS, LOSS OR INJURY IS CAUSED TO ANY PERSON NOT BEING A PARTNER IN THE FIRM, OR ANY PENALTY IS INCURRED, THE FIRM IS LIABLE THEREFORE TO THE SAME EXTENT AS THE PARTNER SO ACTING OR OMITTING TO 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12 PARTNERSHIP A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LAYSIAN LEGAL SOURCES</a:t>
            </a:r>
            <a:endParaRPr b="0" lang="en-US" sz="4000" spc="-1" strike="noStrike">
              <a:solidFill>
                <a:srgbClr val="ccecff"/>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LA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WRITTEN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MINAL LIABILITY</a:t>
            </a:r>
            <a:endParaRPr b="0" lang="en-US" sz="4000" spc="-1" strike="noStrike">
              <a:solidFill>
                <a:srgbClr val="ccecff"/>
              </a:solidFill>
              <a:latin typeface="Arial"/>
            </a:endParaRPr>
          </a:p>
        </p:txBody>
      </p:sp>
      <p:sp>
        <p:nvSpPr>
          <p:cNvPr id="8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IMINAL LIABILITY IS A PERSONAL LIABILITY OF THE PARTNER WHO COMMITS THE CRI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ARRETT V HOOPER [1973] Crim.L.R. 61, LORD WIDGERY STA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THE GENERAL PRINCIPLE IN CRIMINAL LAW IS THAT A PRINCIPAL CANNOT BE MADE LIABLE FOR AN OFFENCE THAT REQUIRES MENS REA SIMPLY BECAUSE HIS SERVANT OR AGENT HAS THE NECESSARY MENS 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 SHIN KIAN V DPP [1980] 2 MLJ 24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ISAPPLICATION OF MONEY OR PROPERTY OF A THIRD PARTY</a:t>
            </a:r>
            <a:endParaRPr b="0" lang="en-US" sz="3200" spc="-1" strike="noStrike">
              <a:solidFill>
                <a:srgbClr val="ccecff"/>
              </a:solidFill>
              <a:latin typeface="Arial"/>
            </a:endParaRPr>
          </a:p>
        </p:txBody>
      </p:sp>
      <p:sp>
        <p:nvSpPr>
          <p:cNvPr id="8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OLLOWING CASES, NAME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WHERE ONE PARTNER, ACTING WITHIN THE SCOPE OF HIS APPARENT AUTHORITY, RECEIVES THE MONEY OR PROPERTY OF A THIRD PERSON AND MISAPPLIES IT; AN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WHERE A FIRM IN THE COURSE OF ITS BUSINESS RECEIVES THE MONEY OR PROPERTY OF A THIRD PERSON, AND THE MONEY OR PROPERTY SO RECEIVED IS MISAPPLIED BY ONE OR MORE OF THE PARTNERS WHILE IT IS IN THE CUSTODY OF THE FIR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M IS LIABLE TO MAKE GOOD THE LOS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13 PARTNERSHIP A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IABILITY OF INCOMING AND RETIRING PARTNERS</a:t>
            </a:r>
            <a:endParaRPr b="0" lang="en-US" sz="3200" spc="-1" strike="noStrike">
              <a:solidFill>
                <a:srgbClr val="ccecff"/>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SON WHO IS ADMITTED AS A PARTNER INTO AN EXISTING FIRM DOES NOT THEREBY BECOME LIABLE TO THE CREDITORS OF THE FIRM FOR ANYTHING DONE BEFORE HE BECAME A PARTNER</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ARTNER WHO RETIRES FROM A FIRM DOES NOT THEREBY CEASE TO BE LIABLE FOR PARTNERSHIP DEBTS OR OBLIGATIONS INCURRED BEFORE HIS RETIREMENT</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ETIRING PARTNER MAY BE DISCHARGED FROM ANY EXISTING LIABILITIES BY AN AGREEMENT TO THAT EFFECT BETWEEN HIMSELF AND THE MEMBERS OF THE FIRM AS NEWLY CONSTITUTED AND THE CREDITORS, AND THIS AGREEMENT MAY BE EITHER EXPRESS OR INFERRED AS A FACT FROM THE COURSE OF DEALING BETWEEN THE CREDITORS AND THE FIRM AS NEWLY CONSTITUTED</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ION 19 PARTNERSHIP A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ELATION BETWEEN PARTNERS</a:t>
            </a:r>
            <a:endParaRPr b="0" lang="en-US" sz="3600" spc="-1" strike="noStrike">
              <a:solidFill>
                <a:srgbClr val="ccecff"/>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LATIONSHIP BETWEEN PARTNERS SHALL BE BASED UPON EXPRESS AGREE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NO EXPRESS AGREEMENT THE RELATIONSHIP SHALL BE BASED UPON RULES THAT ARE PROVIDED UNDER SECTION 26 OF THE PARTNERSHIP AC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ARTNERSHIP PROPERTY</a:t>
            </a:r>
            <a:endParaRPr b="0" lang="en-US" sz="4000" spc="-1" strike="noStrike">
              <a:solidFill>
                <a:srgbClr val="ccecff"/>
              </a:solidFill>
              <a:latin typeface="Arial"/>
            </a:endParaRPr>
          </a:p>
        </p:txBody>
      </p:sp>
      <p:sp>
        <p:nvSpPr>
          <p:cNvPr id="8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WAYS OF DETERMINING A PARTNERSHIP PROPER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EXPRESS AGREE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INTENTIONS OF THE PARTN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NNUKON V JEBARATNAM [1980] 1 MLJ 28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THER METHODS</a:t>
            </a:r>
            <a:endParaRPr b="0" lang="en-US" sz="4000" spc="-1" strike="noStrike">
              <a:solidFill>
                <a:srgbClr val="ccecff"/>
              </a:solidFill>
              <a:latin typeface="Arial"/>
            </a:endParaRPr>
          </a:p>
        </p:txBody>
      </p:sp>
      <p:sp>
        <p:nvSpPr>
          <p:cNvPr id="8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Y WAS ORIGINALLY BROUGHT INTO THE PARTNERSHIP STOCK</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Y WAS OBTAINED FOR THE FIRM</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Y WAS OBTAINED FOR THE PURPOSE OF PARTNERSHIP BUSINE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ISSOLUTION OF PARTNERSHIP</a:t>
            </a:r>
            <a:endParaRPr b="0" lang="en-US" sz="3600" spc="-1" strike="noStrike">
              <a:solidFill>
                <a:srgbClr val="ccecff"/>
              </a:solidFill>
              <a:latin typeface="Arial"/>
            </a:endParaRPr>
          </a:p>
        </p:txBody>
      </p:sp>
      <p:sp>
        <p:nvSpPr>
          <p:cNvPr id="8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EXPIRATION OR AUTOMATIC DISSOLUTION</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NOTICE</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DEATH, BANKRUPTCY OR CHARGE ON HIS SHARE</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SUPERVENING ILLEGALITY</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ORDER OF THE COU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ISSOLUTION OF PARTNERSHIP</a:t>
            </a:r>
            <a:endParaRPr b="0" lang="en-US" sz="3600" spc="-1" strike="noStrike">
              <a:solidFill>
                <a:srgbClr val="ccecff"/>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EXPIRATION OR AUTOMATIC DISSOLUTION</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NOTICE</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DEATH, BANKRUPTCY OR CHARGE ON HIS SHARE</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SUPERVENING ILLEGALITY</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OLUTION BY ORDER OF THE COU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re Purchase</a:t>
            </a:r>
            <a:endParaRPr b="0" lang="en-US" sz="4400" spc="-1" strike="noStrike">
              <a:solidFill>
                <a:srgbClr val="ccecff"/>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 purchase agreement includes a letting of goods with an option to purchase and an agreement for the purchase of goods by instalments (whether the agreement describes the instalments as rent or hire or otherwise), but does not include any agre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by the property in the goods comprised therein passes at the time of the agreement or upon or at any time before delivery of the goods; or</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which the person by whom the goods are being hired or purchased is a person who is engaged in the trade or business of selling goods of the same nature or description as the goods comprised in the agre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RITTEN LAW</a:t>
            </a: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 CONSTITU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 LEGISL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LEGISL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IDIARY LEGI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ure of Hire Purchase</a:t>
            </a:r>
            <a:endParaRPr b="0" lang="en-US" sz="4400" spc="-1" strike="noStrike">
              <a:solidFill>
                <a:srgbClr val="ccecff"/>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is limited to transactions that involve the owner and the hir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wnership will not transfer at the time the contract being made</a:t>
            </a:r>
            <a:endParaRPr b="0" lang="en-US" sz="28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Cf. </a:t>
            </a:r>
            <a:r>
              <a:rPr b="0" lang="en-US" sz="2000" spc="-1" strike="noStrike">
                <a:solidFill>
                  <a:srgbClr val="ffffff"/>
                </a:solidFill>
                <a:latin typeface="Arial"/>
              </a:rPr>
              <a:t>Credit Sale Agreement]</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hire purchase the hirer will have an option to buy the goods upon the completion of the necessary pay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re Purchase Act 1967</a:t>
            </a:r>
            <a:endParaRPr b="0" lang="en-US" sz="4400" spc="-1" strike="noStrike">
              <a:solidFill>
                <a:srgbClr val="ccecff"/>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pe of Appli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Malay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s as listed in the First Schedu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sang Leasing Sdn Bhd v Mohd Yusof bin Ismail &amp; Anor [199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rst Schedule</a:t>
            </a:r>
            <a:endParaRPr b="0" lang="en-US" sz="4400" spc="-1" strike="noStrike">
              <a:solidFill>
                <a:srgbClr val="ccecff"/>
              </a:solidFill>
              <a:latin typeface="Arial"/>
            </a:endParaRPr>
          </a:p>
        </p:txBody>
      </p:sp>
      <p:sp>
        <p:nvSpPr>
          <p:cNvPr id="83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nsumer goods; an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or vehicles, namely</a:t>
            </a:r>
            <a:endParaRPr b="0" lang="en-US" sz="32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alid carriages</a:t>
            </a:r>
            <a:endParaRPr b="0" lang="en-US" sz="24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ycles</a:t>
            </a:r>
            <a:endParaRPr b="0" lang="en-US" sz="24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ars including taxi cabs and hire cars</a:t>
            </a:r>
            <a:endParaRPr b="0" lang="en-US" sz="24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s vehicles (where the maximum permissible laden weight does not exceed 2540 kilograms)</a:t>
            </a:r>
            <a:endParaRPr b="0" lang="en-US" sz="24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es, including stage buses</a:t>
            </a:r>
            <a:endParaRPr b="0" lang="en-US" sz="24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or to the 1992 Amendment</a:t>
            </a:r>
            <a:endParaRPr b="0" lang="en-US" sz="4400" spc="-1" strike="noStrike">
              <a:solidFill>
                <a:srgbClr val="ccecff"/>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sets, television sets, gramophone sets, tape recorders and any combination thereof</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igerators and deep-freeze food preservers and any combination thereof</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wing machines other than those used for industrial purpos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ing machin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cuum cleaner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 </a:t>
            </a:r>
            <a:endParaRPr b="0" lang="en-US" sz="4400" spc="-1" strike="noStrike">
              <a:solidFill>
                <a:srgbClr val="ccecff"/>
              </a:solidFill>
              <a:latin typeface="Arial"/>
            </a:endParaRPr>
          </a:p>
        </p:txBody>
      </p:sp>
      <p:sp>
        <p:nvSpPr>
          <p:cNvPr id="8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conditioning units other than those used for industrial purpos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or gas cookers and ove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tapes/cassette record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writ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 and piano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stat machines/copi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fi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Formalities</a:t>
            </a:r>
            <a:endParaRPr b="0" lang="en-US" sz="4400" spc="-1" strike="noStrike">
              <a:solidFill>
                <a:srgbClr val="ccecff"/>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Agreement [Pre-Contrac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4(1) (a) &amp; (b)</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Agreement [Contrac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4A, 4B, 4C &amp; 4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greement [After Contrac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5(1)</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fore Agreement</a:t>
            </a:r>
            <a:endParaRPr b="0" lang="en-US" sz="4400" spc="-1" strike="noStrike">
              <a:solidFill>
                <a:srgbClr val="ccecff"/>
              </a:solidFill>
              <a:latin typeface="Arial"/>
            </a:endParaRPr>
          </a:p>
        </p:txBody>
      </p:sp>
      <p:sp>
        <p:nvSpPr>
          <p:cNvPr id="8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ner</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written document, completed and signed – Part I of Second Schedule</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er</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written document, completed and signed – Part I of Second Schedul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written document (i.e. consent), completed and signed by both – Part II of Second Sched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t I of the Second Schedule</a:t>
            </a:r>
            <a:endParaRPr b="0" lang="en-US" sz="4400" spc="-1" strike="noStrike">
              <a:solidFill>
                <a:srgbClr val="ccecff"/>
              </a:solidFill>
              <a:latin typeface="Arial"/>
            </a:endParaRPr>
          </a:p>
        </p:txBody>
      </p:sp>
      <p:sp>
        <p:nvSpPr>
          <p:cNvPr id="8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mmary of the hirer financial obligations; and must set out the following;</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description of the good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econd hand</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he goods will be kep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pric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osi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ight charges, if any</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urance and registration (motor vehicl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s charges (rate per annum, total amount of the terms charg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between cash price and total amount payabl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stalment pay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uring Agreement</a:t>
            </a:r>
            <a:endParaRPr b="0" lang="en-US" sz="4400" spc="-1" strike="noStrike">
              <a:solidFill>
                <a:srgbClr val="ccecff"/>
              </a:solidFill>
              <a:latin typeface="Arial"/>
            </a:endParaRPr>
          </a:p>
        </p:txBody>
      </p:sp>
      <p:sp>
        <p:nvSpPr>
          <p:cNvPr id="8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A – In writing (@ voi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B (2) – Sign the completed form (@ voi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g Lian Corporation Sdn Bhd v Haji Nordi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C – Content of the contrac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D – Separate Agre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 the Agreement</a:t>
            </a:r>
            <a:endParaRPr b="0" lang="en-US" sz="4400" spc="-1" strike="noStrike">
              <a:solidFill>
                <a:srgbClr val="ccecff"/>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5(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py of the agreement should be sent to the hirer within fourteen (14) days – failure will result to unenforc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EDERAL CONSTITUTION</a:t>
            </a:r>
            <a:endParaRPr b="0" lang="en-US" sz="40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REME LAW OF THE LA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RIBES THE RELATIONSHIP BETWEEN STATE AND FED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ossession </a:t>
            </a:r>
            <a:endParaRPr b="0" lang="en-US" sz="4400" spc="-1" strike="noStrike">
              <a:solidFill>
                <a:srgbClr val="ccecff"/>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16(1) – ‘two successive defaults of payments’ or a ‘default in respect of the last pay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s a notice as set out in the Fourth Schedule – the 21 days has expired</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Prosecutor v Mohamed Nor</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notice</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g Brothers Motors Sdn Bhd v Lee Aik Seng</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less than 21 days</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w Nguong Hin v Mayban Finance Bhd</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session before the 21 days laps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 Repossession</a:t>
            </a:r>
            <a:endParaRPr b="0" lang="en-US" sz="4400" spc="-1" strike="noStrike">
              <a:solidFill>
                <a:srgbClr val="ccecff"/>
              </a:solidFill>
              <a:latin typeface="Arial"/>
            </a:endParaRPr>
          </a:p>
        </p:txBody>
      </p:sp>
      <p:sp>
        <p:nvSpPr>
          <p:cNvPr id="8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6(3) – within 21 days, the owner will need to serve a notice [as set out in the Fifth Schedule] to the hir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16(4) – serves a document acknowledging the receipt of the goo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INTH SCHEDULE</a:t>
            </a:r>
            <a:endParaRPr b="0" lang="en-US" sz="40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I    :-  FEDERAL LIST</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II   :-  STATE LIST</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III  :-  CONCURENT L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EDERAL LEGISLATION</a:t>
            </a:r>
            <a:endParaRPr b="0" lang="en-US" sz="40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MADE BY THE PARLIA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INDEPENDENT ALL FEDERAL LEGISLATIONS WERE KNOWN AS ORDIN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LAW?</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IS A SET OF RULES THAT GOVERN AND REGULATE HUMAN BEHAVIO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4191120" y="304920"/>
            <a:ext cx="914400" cy="3045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POLICY</a:t>
            </a:r>
            <a:endParaRPr b="0" lang="en-US" sz="1200" spc="-1" strike="noStrike">
              <a:solidFill>
                <a:srgbClr val="ffffff"/>
              </a:solidFill>
              <a:latin typeface="Arial"/>
            </a:endParaRPr>
          </a:p>
        </p:txBody>
      </p:sp>
      <p:sp>
        <p:nvSpPr>
          <p:cNvPr id="303" name="Rectangle 5"/>
          <p:cNvSpPr/>
          <p:nvPr/>
        </p:nvSpPr>
        <p:spPr>
          <a:xfrm>
            <a:off x="4191120" y="6172200"/>
            <a:ext cx="914400" cy="457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GAZZETTED</a:t>
            </a:r>
            <a:endParaRPr b="0" lang="en-US" sz="1200" spc="-1" strike="noStrike">
              <a:solidFill>
                <a:srgbClr val="ffffff"/>
              </a:solidFill>
              <a:latin typeface="Arial"/>
            </a:endParaRPr>
          </a:p>
        </p:txBody>
      </p:sp>
      <p:sp>
        <p:nvSpPr>
          <p:cNvPr id="304" name="Rectangle 6"/>
          <p:cNvSpPr/>
          <p:nvPr/>
        </p:nvSpPr>
        <p:spPr>
          <a:xfrm>
            <a:off x="3429000" y="1600200"/>
            <a:ext cx="2362320" cy="5335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MINISTER WILL BRING THE PAPE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O THE CABINET</a:t>
            </a:r>
            <a:endParaRPr b="0" lang="en-US" sz="1200" spc="-1" strike="noStrike">
              <a:solidFill>
                <a:srgbClr val="ffffff"/>
              </a:solidFill>
              <a:latin typeface="Arial"/>
            </a:endParaRPr>
          </a:p>
        </p:txBody>
      </p:sp>
      <p:sp>
        <p:nvSpPr>
          <p:cNvPr id="305" name="Rectangle 7"/>
          <p:cNvSpPr/>
          <p:nvPr/>
        </p:nvSpPr>
        <p:spPr>
          <a:xfrm>
            <a:off x="6781680" y="2362320"/>
            <a:ext cx="1295640" cy="609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CABINET MEETING</a:t>
            </a:r>
            <a:endParaRPr b="0" lang="en-US" sz="1200" spc="-1" strike="noStrike">
              <a:solidFill>
                <a:srgbClr val="ffffff"/>
              </a:solidFill>
              <a:latin typeface="Arial"/>
            </a:endParaRPr>
          </a:p>
        </p:txBody>
      </p:sp>
      <p:sp>
        <p:nvSpPr>
          <p:cNvPr id="306" name="Rectangle 8"/>
          <p:cNvSpPr/>
          <p:nvPr/>
        </p:nvSpPr>
        <p:spPr>
          <a:xfrm>
            <a:off x="3429000" y="3200400"/>
            <a:ext cx="2362320" cy="609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PPROVAL FROM THE CABINET</a:t>
            </a:r>
            <a:endParaRPr b="0" lang="en-US" sz="1200" spc="-1" strike="noStrike">
              <a:solidFill>
                <a:srgbClr val="ffffff"/>
              </a:solidFill>
              <a:latin typeface="Arial"/>
            </a:endParaRPr>
          </a:p>
        </p:txBody>
      </p:sp>
      <p:sp>
        <p:nvSpPr>
          <p:cNvPr id="307" name="Rectangle 9"/>
          <p:cNvSpPr/>
          <p:nvPr/>
        </p:nvSpPr>
        <p:spPr>
          <a:xfrm>
            <a:off x="4114800" y="914400"/>
            <a:ext cx="106668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CABINET PAPER</a:t>
            </a:r>
            <a:endParaRPr b="0" lang="en-US" sz="1200" spc="-1" strike="noStrike">
              <a:solidFill>
                <a:srgbClr val="ffffff"/>
              </a:solidFill>
              <a:latin typeface="Arial"/>
            </a:endParaRPr>
          </a:p>
        </p:txBody>
      </p:sp>
      <p:sp>
        <p:nvSpPr>
          <p:cNvPr id="308" name="Rectangle 10"/>
          <p:cNvSpPr/>
          <p:nvPr/>
        </p:nvSpPr>
        <p:spPr>
          <a:xfrm>
            <a:off x="6781680" y="3962520"/>
            <a:ext cx="182880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G WILL PREPARE 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DRAFT TO BE TABLED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IN PARLIAMENT</a:t>
            </a:r>
            <a:endParaRPr b="0" lang="en-US" sz="1200" spc="-1" strike="noStrike">
              <a:solidFill>
                <a:srgbClr val="ffffff"/>
              </a:solidFill>
              <a:latin typeface="Arial"/>
            </a:endParaRPr>
          </a:p>
        </p:txBody>
      </p:sp>
      <p:sp>
        <p:nvSpPr>
          <p:cNvPr id="309" name="Rectangle 11"/>
          <p:cNvSpPr/>
          <p:nvPr/>
        </p:nvSpPr>
        <p:spPr>
          <a:xfrm>
            <a:off x="3352680" y="4952880"/>
            <a:ext cx="243864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PPROVAL FROM THE PARLIAMEN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LEGISLATIVE PROCESS)</a:t>
            </a:r>
            <a:endParaRPr b="0" lang="en-US" sz="1200" spc="-1" strike="noStrike">
              <a:solidFill>
                <a:srgbClr val="ffffff"/>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0" lang="en-US" sz="1200" spc="-1" strike="noStrike">
                <a:solidFill>
                  <a:srgbClr val="ffffff"/>
                </a:solidFill>
                <a:latin typeface="Arial Narrow"/>
              </a:rPr>
              <a:t>HOUSE OF REPRESENTATIVE</a:t>
            </a:r>
            <a:endParaRPr b="0" lang="en-US" sz="1200" spc="-1" strike="noStrike">
              <a:solidFill>
                <a:srgbClr val="ffffff"/>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0" lang="en-US" sz="1200" spc="-1" strike="noStrike">
                <a:solidFill>
                  <a:srgbClr val="ffffff"/>
                </a:solidFill>
                <a:latin typeface="Arial Narrow"/>
              </a:rPr>
              <a:t>HOUSE OF SENATE</a:t>
            </a:r>
            <a:endParaRPr b="0" lang="en-US" sz="1200" spc="-1" strike="noStrike">
              <a:solidFill>
                <a:srgbClr val="ffffff"/>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HE KING</a:t>
            </a:r>
            <a:endParaRPr b="0" lang="en-US" sz="1200" spc="-1" strike="noStrike">
              <a:solidFill>
                <a:srgbClr val="ffffff"/>
              </a:solidFill>
              <a:latin typeface="Arial"/>
            </a:endParaRPr>
          </a:p>
        </p:txBody>
      </p:sp>
      <p:sp>
        <p:nvSpPr>
          <p:cNvPr id="310" name="Line 12"/>
          <p:cNvSpPr/>
          <p:nvPr/>
        </p:nvSpPr>
        <p:spPr>
          <a:xfrm>
            <a:off x="4648320" y="609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1" name="Line 13"/>
          <p:cNvSpPr/>
          <p:nvPr/>
        </p:nvSpPr>
        <p:spPr>
          <a:xfrm>
            <a:off x="464832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2" name="Line 14"/>
          <p:cNvSpPr/>
          <p:nvPr/>
        </p:nvSpPr>
        <p:spPr>
          <a:xfrm>
            <a:off x="4648320" y="21337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15"/>
          <p:cNvSpPr/>
          <p:nvPr/>
        </p:nvSpPr>
        <p:spPr>
          <a:xfrm>
            <a:off x="4648320" y="38098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16"/>
          <p:cNvSpPr/>
          <p:nvPr/>
        </p:nvSpPr>
        <p:spPr>
          <a:xfrm>
            <a:off x="464832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5" name="Line 17"/>
          <p:cNvSpPr/>
          <p:nvPr/>
        </p:nvSpPr>
        <p:spPr>
          <a:xfrm flipH="1">
            <a:off x="4648320" y="2666880"/>
            <a:ext cx="2133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6" name="Line 18"/>
          <p:cNvSpPr/>
          <p:nvPr/>
        </p:nvSpPr>
        <p:spPr>
          <a:xfrm flipH="1">
            <a:off x="4648320" y="4419720"/>
            <a:ext cx="2133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7" name="Text Box 19"/>
          <p:cNvSpPr/>
          <p:nvPr/>
        </p:nvSpPr>
        <p:spPr>
          <a:xfrm>
            <a:off x="228600" y="30492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MAKING RWU POLICY INTO AN ACT OF PARLIAMEN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ISLATIVE PROCES</a:t>
            </a:r>
            <a:endParaRPr b="0" lang="en-US" sz="4000" spc="-1" strike="noStrike">
              <a:solidFill>
                <a:srgbClr val="ccecff"/>
              </a:solidFill>
              <a:latin typeface="Arial"/>
            </a:endParaRPr>
          </a:p>
        </p:txBody>
      </p:sp>
      <p:graphicFrame>
        <p:nvGraphicFramePr>
          <p:cNvPr id="319" name=""/>
          <p:cNvGraphicFramePr/>
          <p:nvPr/>
        </p:nvGraphicFramePr>
        <p:xfrm>
          <a:off x="457200" y="1600200"/>
          <a:ext cx="8229600" cy="4525920"/>
        </p:xfrm>
        <a:graphic>
          <a:graphicData uri="http://schemas.openxmlformats.org/drawingml/2006/table">
            <a:tbl>
              <a:tblPr/>
              <a:tblGrid>
                <a:gridCol w="4114800"/>
                <a:gridCol w="4114800"/>
              </a:tblGrid>
              <a:tr h="150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FIRST READING: MINISTER INTRODUCES THE BILL – READ THE SHORT TITLE – TEXT PRINTED AND DISTRIBUTED AFTER THE BILL IS PASS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SECOND READING: MEMBERS WILL DEBATE ON THE GENERAL PRINCIPLES OF THE BILL AND VO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09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COMMITTEE STAGE: DETAILED EXAMINATION OF THE BILL AND MAY AMEND IT – SUBMIT REPORT TO THE HOUS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THIRD READING: FURTHER DEBATE AND AMENDMENTS PUT TO A NOTE – THE HOUSE EITHER PASSES OR DEFEAT THE BI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OTHER HOUSE: SIMILAR PROCEDURES – AMENDMENT NEEDS APPROVAL OF THE FIRST HOUS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ROYAL ASSENT: THE BILL PASSED IN BOTH HOUSES IS SENT TO YDPA FOR ROYAL ASSENT – THE BILL BECOMES A LAW UPON PUBLICATION/GAZET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ATE LEGISLATION</a:t>
            </a:r>
            <a:endParaRPr b="0" lang="en-US" sz="40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MADE BY THE ST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AS ENACTMENT EXCEPT SARAWA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IARY LEGISLATION</a:t>
            </a:r>
            <a:endParaRPr b="0" lang="en-US" sz="4000" spc="-1" strike="noStrike">
              <a:solidFill>
                <a:srgbClr val="ccecff"/>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LAW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IARY LAW</a:t>
            </a:r>
            <a:endParaRPr b="0" lang="en-US" sz="4000" spc="-1" strike="noStrike">
              <a:solidFill>
                <a:srgbClr val="ccecff"/>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SIDIARY LAW CAN ONLY BE MADE IF THE RESPECTIVE ACT (KNOWN AS ENABLING ACT) GIVES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3733920" y="228600"/>
            <a:ext cx="1295280" cy="457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MPOWERING CLAUSE</a:t>
            </a:r>
            <a:endParaRPr b="0" lang="en-US" sz="1000" spc="-1" strike="noStrike">
              <a:solidFill>
                <a:srgbClr val="ffffff"/>
              </a:solidFill>
              <a:latin typeface="Arial"/>
            </a:endParaRPr>
          </a:p>
        </p:txBody>
      </p:sp>
      <p:sp>
        <p:nvSpPr>
          <p:cNvPr id="327" name="Rectangle 5"/>
          <p:cNvSpPr/>
          <p:nvPr/>
        </p:nvSpPr>
        <p:spPr>
          <a:xfrm>
            <a:off x="2209680" y="1752480"/>
            <a:ext cx="3962520" cy="3812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DRAFT WILL BE DISCUSSED  AT THE JAWATANKUASA</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 </a:t>
            </a:r>
            <a:r>
              <a:rPr b="0" lang="en-US" sz="1000" spc="-1" strike="noStrike">
                <a:solidFill>
                  <a:srgbClr val="ffffff"/>
                </a:solidFill>
                <a:latin typeface="Arial Narrow"/>
              </a:rPr>
              <a:t>PERLAKSANAAN AKTA MEETING</a:t>
            </a:r>
            <a:endParaRPr b="0" lang="en-US" sz="1000" spc="-1" strike="noStrike">
              <a:solidFill>
                <a:srgbClr val="ffffff"/>
              </a:solidFill>
              <a:latin typeface="Arial"/>
            </a:endParaRPr>
          </a:p>
        </p:txBody>
      </p:sp>
      <p:sp>
        <p:nvSpPr>
          <p:cNvPr id="328" name="Rectangle 6"/>
          <p:cNvSpPr/>
          <p:nvPr/>
        </p:nvSpPr>
        <p:spPr>
          <a:xfrm>
            <a:off x="6248520" y="762120"/>
            <a:ext cx="1371600" cy="2286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ECHNICAL COMMITTEE</a:t>
            </a:r>
            <a:endParaRPr b="0" lang="en-US" sz="1000" spc="-1" strike="noStrike">
              <a:solidFill>
                <a:srgbClr val="ffffff"/>
              </a:solidFill>
              <a:latin typeface="Arial"/>
            </a:endParaRPr>
          </a:p>
        </p:txBody>
      </p:sp>
      <p:sp>
        <p:nvSpPr>
          <p:cNvPr id="329" name="Rectangle 7"/>
          <p:cNvSpPr/>
          <p:nvPr/>
        </p:nvSpPr>
        <p:spPr>
          <a:xfrm>
            <a:off x="4114800" y="1219320"/>
            <a:ext cx="533520" cy="3045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RAFT</a:t>
            </a:r>
            <a:endParaRPr b="0" lang="en-US" sz="1000" spc="-1" strike="noStrike">
              <a:solidFill>
                <a:srgbClr val="ffffff"/>
              </a:solidFill>
              <a:latin typeface="Arial"/>
            </a:endParaRPr>
          </a:p>
        </p:txBody>
      </p:sp>
      <p:sp>
        <p:nvSpPr>
          <p:cNvPr id="330" name="Rectangle 8"/>
          <p:cNvSpPr/>
          <p:nvPr/>
        </p:nvSpPr>
        <p:spPr>
          <a:xfrm>
            <a:off x="2209680" y="2362320"/>
            <a:ext cx="39625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DRAFT WILL BE DISCUSSED  AT THE TCPD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TATE DIRECTORS MEETING</a:t>
            </a:r>
            <a:endParaRPr b="0" lang="en-US" sz="1000" spc="-1" strike="noStrike">
              <a:solidFill>
                <a:srgbClr val="ffffff"/>
              </a:solidFill>
              <a:latin typeface="Arial"/>
            </a:endParaRPr>
          </a:p>
        </p:txBody>
      </p:sp>
      <p:sp>
        <p:nvSpPr>
          <p:cNvPr id="331" name="Rectangle 9"/>
          <p:cNvSpPr/>
          <p:nvPr/>
        </p:nvSpPr>
        <p:spPr>
          <a:xfrm>
            <a:off x="6248520" y="1219320"/>
            <a:ext cx="1371600" cy="2286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EGAL DEPARTMENT</a:t>
            </a:r>
            <a:endParaRPr b="0" lang="en-US" sz="1000" spc="-1" strike="noStrike">
              <a:solidFill>
                <a:srgbClr val="ffffff"/>
              </a:solidFill>
              <a:latin typeface="Arial"/>
            </a:endParaRPr>
          </a:p>
        </p:txBody>
      </p:sp>
      <p:sp>
        <p:nvSpPr>
          <p:cNvPr id="332" name="Rectangle 10"/>
          <p:cNvSpPr/>
          <p:nvPr/>
        </p:nvSpPr>
        <p:spPr>
          <a:xfrm>
            <a:off x="2209680" y="2971800"/>
            <a:ext cx="3962520" cy="457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DRAFT WILL BE</a:t>
            </a:r>
            <a:r>
              <a:rPr b="0" lang="en-US" sz="1800" spc="-1" strike="noStrike">
                <a:solidFill>
                  <a:srgbClr val="ffffff"/>
                </a:solidFill>
                <a:latin typeface="Arial"/>
              </a:rPr>
              <a:t> </a:t>
            </a:r>
            <a:r>
              <a:rPr b="0" lang="en-US" sz="1000" spc="-1" strike="noStrike">
                <a:solidFill>
                  <a:srgbClr val="ffffff"/>
                </a:solidFill>
                <a:latin typeface="Arial Narrow"/>
              </a:rPr>
              <a:t>DISCUSSED  AT THE JAWATANKUASA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ERANCANGAN &amp; PEMBANGUNAN (TCPD)</a:t>
            </a:r>
            <a:endParaRPr b="0" lang="en-US" sz="1000" spc="-1" strike="noStrike">
              <a:solidFill>
                <a:srgbClr val="ffffff"/>
              </a:solidFill>
              <a:latin typeface="Arial"/>
            </a:endParaRPr>
          </a:p>
        </p:txBody>
      </p:sp>
      <p:sp>
        <p:nvSpPr>
          <p:cNvPr id="333" name="Rectangle 11"/>
          <p:cNvSpPr/>
          <p:nvPr/>
        </p:nvSpPr>
        <p:spPr>
          <a:xfrm>
            <a:off x="2209680" y="3657600"/>
            <a:ext cx="39625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DRAFT WILL BE DISCUSSED  AT THE JAWATANKUASA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ERANCANGAN &amp; PEMBANGUNAN (MINISTRY)</a:t>
            </a:r>
            <a:endParaRPr b="0" lang="en-US" sz="1000" spc="-1" strike="noStrike">
              <a:solidFill>
                <a:srgbClr val="ffffff"/>
              </a:solidFill>
              <a:latin typeface="Arial"/>
            </a:endParaRPr>
          </a:p>
        </p:txBody>
      </p:sp>
      <p:sp>
        <p:nvSpPr>
          <p:cNvPr id="334" name="Rectangle 12"/>
          <p:cNvSpPr/>
          <p:nvPr/>
        </p:nvSpPr>
        <p:spPr>
          <a:xfrm>
            <a:off x="2209680" y="4267080"/>
            <a:ext cx="3962520" cy="30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DRAFT WILL BE PRESENTED AND APPROVED A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 </a:t>
            </a:r>
            <a:r>
              <a:rPr b="0" lang="en-US" sz="1000" spc="-1" strike="noStrike">
                <a:solidFill>
                  <a:srgbClr val="ffffff"/>
                </a:solidFill>
                <a:latin typeface="Arial Narrow"/>
              </a:rPr>
              <a:t>THE MAJLIS PERANCANGAN FIZIKAL NEGARA</a:t>
            </a:r>
            <a:endParaRPr b="0" lang="en-US" sz="1000" spc="-1" strike="noStrike">
              <a:solidFill>
                <a:srgbClr val="ffffff"/>
              </a:solidFill>
              <a:latin typeface="Arial"/>
            </a:endParaRPr>
          </a:p>
        </p:txBody>
      </p:sp>
      <p:sp>
        <p:nvSpPr>
          <p:cNvPr id="335" name="Rectangle 13"/>
          <p:cNvSpPr/>
          <p:nvPr/>
        </p:nvSpPr>
        <p:spPr>
          <a:xfrm>
            <a:off x="228600" y="4952880"/>
            <a:ext cx="3124080" cy="30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MPFN WILL HAND THE DRAFT TO THE STATE AUTHORITY</a:t>
            </a:r>
            <a:endParaRPr b="0" lang="en-US" sz="1000" spc="-1" strike="noStrike">
              <a:solidFill>
                <a:srgbClr val="ffffff"/>
              </a:solidFill>
              <a:latin typeface="Arial"/>
            </a:endParaRPr>
          </a:p>
        </p:txBody>
      </p:sp>
      <p:sp>
        <p:nvSpPr>
          <p:cNvPr id="336" name="Rectangle 14"/>
          <p:cNvSpPr/>
          <p:nvPr/>
        </p:nvSpPr>
        <p:spPr>
          <a:xfrm>
            <a:off x="5181480" y="4952880"/>
            <a:ext cx="3581640" cy="30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MPFN WILL HAND THE DRAFT TO THE MINISTER</a:t>
            </a:r>
            <a:endParaRPr b="0" lang="en-US" sz="1000" spc="-1" strike="noStrike">
              <a:solidFill>
                <a:srgbClr val="ffffff"/>
              </a:solidFill>
              <a:latin typeface="Arial"/>
            </a:endParaRPr>
          </a:p>
        </p:txBody>
      </p:sp>
      <p:sp>
        <p:nvSpPr>
          <p:cNvPr id="337" name="Rectangle 15"/>
          <p:cNvSpPr/>
          <p:nvPr/>
        </p:nvSpPr>
        <p:spPr>
          <a:xfrm>
            <a:off x="5181480" y="6019920"/>
            <a:ext cx="358164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EGAL ADVISOR (MINISTRY) WILL GAZZETT THE DRAFT</a:t>
            </a:r>
            <a:endParaRPr b="0" lang="en-US" sz="1000" spc="-1" strike="noStrike">
              <a:solidFill>
                <a:srgbClr val="ffffff"/>
              </a:solidFill>
              <a:latin typeface="Arial"/>
            </a:endParaRPr>
          </a:p>
        </p:txBody>
      </p:sp>
      <p:sp>
        <p:nvSpPr>
          <p:cNvPr id="338" name="Rectangle 16"/>
          <p:cNvSpPr/>
          <p:nvPr/>
        </p:nvSpPr>
        <p:spPr>
          <a:xfrm>
            <a:off x="152280" y="6019920"/>
            <a:ext cx="320040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EGAL ADVISOR (STATE ) WILL GAZZET THE DRAFT</a:t>
            </a:r>
            <a:endParaRPr b="0" lang="en-US" sz="1000" spc="-1" strike="noStrike">
              <a:solidFill>
                <a:srgbClr val="ffffff"/>
              </a:solidFill>
              <a:latin typeface="Arial"/>
            </a:endParaRPr>
          </a:p>
        </p:txBody>
      </p:sp>
      <p:sp>
        <p:nvSpPr>
          <p:cNvPr id="339" name="Rectangle 17"/>
          <p:cNvSpPr/>
          <p:nvPr/>
        </p:nvSpPr>
        <p:spPr>
          <a:xfrm>
            <a:off x="3809880" y="6248520"/>
            <a:ext cx="685800" cy="457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Y-LAWS</a:t>
            </a:r>
            <a:endParaRPr b="0" lang="en-US" sz="1000" spc="-1" strike="noStrike">
              <a:solidFill>
                <a:srgbClr val="ffffff"/>
              </a:solidFill>
              <a:latin typeface="Arial"/>
            </a:endParaRPr>
          </a:p>
        </p:txBody>
      </p:sp>
      <p:sp>
        <p:nvSpPr>
          <p:cNvPr id="340" name="Line 18"/>
          <p:cNvSpPr/>
          <p:nvPr/>
        </p:nvSpPr>
        <p:spPr>
          <a:xfrm>
            <a:off x="4343400" y="685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1" name="Line 19"/>
          <p:cNvSpPr/>
          <p:nvPr/>
        </p:nvSpPr>
        <p:spPr>
          <a:xfrm>
            <a:off x="4343400" y="1523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2" name="Line 20"/>
          <p:cNvSpPr/>
          <p:nvPr/>
        </p:nvSpPr>
        <p:spPr>
          <a:xfrm>
            <a:off x="4343400" y="2133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21"/>
          <p:cNvSpPr/>
          <p:nvPr/>
        </p:nvSpPr>
        <p:spPr>
          <a:xfrm>
            <a:off x="4343400" y="27432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22"/>
          <p:cNvSpPr/>
          <p:nvPr/>
        </p:nvSpPr>
        <p:spPr>
          <a:xfrm>
            <a:off x="434340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5" name="Line 23"/>
          <p:cNvSpPr/>
          <p:nvPr/>
        </p:nvSpPr>
        <p:spPr>
          <a:xfrm>
            <a:off x="43434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6" name="Line 24"/>
          <p:cNvSpPr/>
          <p:nvPr/>
        </p:nvSpPr>
        <p:spPr>
          <a:xfrm>
            <a:off x="6172200" y="4419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7" name="Line 25"/>
          <p:cNvSpPr/>
          <p:nvPr/>
        </p:nvSpPr>
        <p:spPr>
          <a:xfrm>
            <a:off x="7162920" y="4419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8" name="Line 26"/>
          <p:cNvSpPr/>
          <p:nvPr/>
        </p:nvSpPr>
        <p:spPr>
          <a:xfrm>
            <a:off x="716292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9" name="Line 27"/>
          <p:cNvSpPr/>
          <p:nvPr/>
        </p:nvSpPr>
        <p:spPr>
          <a:xfrm>
            <a:off x="7162920" y="6400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0" name="Line 28"/>
          <p:cNvSpPr/>
          <p:nvPr/>
        </p:nvSpPr>
        <p:spPr>
          <a:xfrm flipH="1">
            <a:off x="4495320" y="655308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1" name="Line 29"/>
          <p:cNvSpPr/>
          <p:nvPr/>
        </p:nvSpPr>
        <p:spPr>
          <a:xfrm flipH="1">
            <a:off x="1523520" y="44197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 name="Line 30"/>
          <p:cNvSpPr/>
          <p:nvPr/>
        </p:nvSpPr>
        <p:spPr>
          <a:xfrm>
            <a:off x="1523880" y="4419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 name="Line 31"/>
          <p:cNvSpPr/>
          <p:nvPr/>
        </p:nvSpPr>
        <p:spPr>
          <a:xfrm>
            <a:off x="15238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32"/>
          <p:cNvSpPr/>
          <p:nvPr/>
        </p:nvSpPr>
        <p:spPr>
          <a:xfrm>
            <a:off x="1523880" y="6400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33"/>
          <p:cNvSpPr/>
          <p:nvPr/>
        </p:nvSpPr>
        <p:spPr>
          <a:xfrm>
            <a:off x="1523880" y="65530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6" name="Line 34"/>
          <p:cNvSpPr/>
          <p:nvPr/>
        </p:nvSpPr>
        <p:spPr>
          <a:xfrm flipH="1">
            <a:off x="6019560" y="838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7" name="Line 35"/>
          <p:cNvSpPr/>
          <p:nvPr/>
        </p:nvSpPr>
        <p:spPr>
          <a:xfrm flipH="1">
            <a:off x="6019560" y="1371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8" name="Line 36"/>
          <p:cNvSpPr/>
          <p:nvPr/>
        </p:nvSpPr>
        <p:spPr>
          <a:xfrm flipV="1">
            <a:off x="6019920" y="8380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9" name="Line 37"/>
          <p:cNvSpPr/>
          <p:nvPr/>
        </p:nvSpPr>
        <p:spPr>
          <a:xfrm flipH="1">
            <a:off x="4343040" y="91440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0" name="Text Box 38"/>
          <p:cNvSpPr/>
          <p:nvPr/>
        </p:nvSpPr>
        <p:spPr>
          <a:xfrm>
            <a:off x="152280" y="297000"/>
            <a:ext cx="2514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HE PROCESS OF MAKING RWH BY-LAWS: A TYPICAL TCPD EXAMPLE</a:t>
            </a:r>
            <a:endParaRPr b="0" lang="en-US" sz="1000" spc="-1" strike="noStrike">
              <a:solidFill>
                <a:srgbClr val="ffffff"/>
              </a:solidFill>
              <a:latin typeface="Arial"/>
            </a:endParaRPr>
          </a:p>
        </p:txBody>
      </p:sp>
      <p:sp>
        <p:nvSpPr>
          <p:cNvPr id="361" name="Rectangle 39"/>
          <p:cNvSpPr/>
          <p:nvPr/>
        </p:nvSpPr>
        <p:spPr>
          <a:xfrm>
            <a:off x="6781680" y="3657600"/>
            <a:ext cx="1600200" cy="30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EVISED BY LEGAL ADVISOR</a:t>
            </a:r>
            <a:endParaRPr b="0" lang="en-US" sz="1000" spc="-1" strike="noStrike">
              <a:solidFill>
                <a:srgbClr val="ffffff"/>
              </a:solidFill>
              <a:latin typeface="Arial"/>
            </a:endParaRPr>
          </a:p>
        </p:txBody>
      </p:sp>
      <p:sp>
        <p:nvSpPr>
          <p:cNvPr id="362" name="Line 40"/>
          <p:cNvSpPr/>
          <p:nvPr/>
        </p:nvSpPr>
        <p:spPr>
          <a:xfrm>
            <a:off x="6172200" y="38098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3" name="Line 41"/>
          <p:cNvSpPr/>
          <p:nvPr/>
        </p:nvSpPr>
        <p:spPr>
          <a:xfrm>
            <a:off x="70866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4" name="Line 42"/>
          <p:cNvSpPr/>
          <p:nvPr/>
        </p:nvSpPr>
        <p:spPr>
          <a:xfrm flipH="1">
            <a:off x="4343400" y="41911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TROLS OVER SUBSIDIARY LAW</a:t>
            </a:r>
            <a:endParaRPr b="0" lang="en-US" sz="3600" spc="-1" strike="noStrike">
              <a:solidFill>
                <a:srgbClr val="ccecff"/>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ATIO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ITY</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LIAMENTARY CONTROL</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ICIAL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UDICIAL DECISION</a:t>
            </a:r>
            <a:endParaRPr b="0" lang="en-US" sz="4000" spc="-1" strike="noStrike">
              <a:solidFill>
                <a:srgbClr val="ccecff"/>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PRINCIPLES CREATED IN COU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UDICIAL DECISION</a:t>
            </a:r>
            <a:endParaRPr b="0" lang="en-US" sz="4000" spc="-1" strike="noStrike">
              <a:solidFill>
                <a:srgbClr val="ccecff"/>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DECISION MADE BY PREVIOUS COURT IN A SIMILAR FAC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FOLLOW THE PRECEDENT WOULD RESULT TO REVERSE ON APPE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EDENT IS OBTAINED FROM THE DECISION OF THE SUPERIOR COU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judicial_structureEN"/>
          <p:cNvPicPr/>
          <p:nvPr/>
        </p:nvPicPr>
        <p:blipFill>
          <a:blip r:embed="rId1"/>
          <a:stretch/>
        </p:blipFill>
        <p:spPr>
          <a:xfrm>
            <a:off x="609480" y="457200"/>
            <a:ext cx="792504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PHILOSOPHY OF LAW</a:t>
            </a:r>
            <a:endParaRPr b="0" lang="en-US" sz="36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TRUE NATURE OF LA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CONT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FUNC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OW JUDICIAL PRECEDENT WORKS</a:t>
            </a:r>
            <a:endParaRPr b="0" lang="en-US" sz="3600" spc="-1" strike="noStrike">
              <a:solidFill>
                <a:srgbClr val="ccecff"/>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WILL ONLY FOLLOW THE PRECEDENT WHEN THE FACT IS SIMILA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FACT IS NOT SIMILAR THE COURT WILL DISTINGUISH THE CASE AND NEED NOT TO FOLLOW THE EARLIER DECI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CAN OVERULE THE PRECEDENT IF IT IS PROVED THAT THE PREVIOUS DECISION WAS WRO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GLISH COMMON LAW AND EQUITY</a:t>
            </a:r>
            <a:endParaRPr b="0" lang="en-US" sz="3600" spc="-1" strike="noStrike">
              <a:solidFill>
                <a:srgbClr val="ccecff"/>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3(1)(a) CIVIL LAW ACT 1956, ‘ THE COURT SHALL IN WEST MALAYSIA OR ANY PART THEREOF, APPLY THE COMMON LAW OF ENGLAND AND THE RULES OF EQUITY AS ADMINISTERED IN ENGLAND ON THE 7</a:t>
            </a:r>
            <a:r>
              <a:rPr b="0" lang="en-US" sz="2800" spc="-1" strike="noStrike" baseline="30000">
                <a:solidFill>
                  <a:srgbClr val="ffffff"/>
                </a:solidFill>
                <a:latin typeface="Arial"/>
              </a:rPr>
              <a:t>TH</a:t>
            </a:r>
            <a:r>
              <a:rPr b="0" lang="en-US" sz="2800" spc="-1" strike="noStrike">
                <a:solidFill>
                  <a:srgbClr val="ffffff"/>
                </a:solidFill>
                <a:latin typeface="Arial"/>
              </a:rPr>
              <a:t> APRIL 1956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GLISH COMMON LAW AND EQUITY</a:t>
            </a:r>
            <a:endParaRPr b="0" lang="en-US" sz="3600" spc="-1" strike="noStrike">
              <a:solidFill>
                <a:srgbClr val="ccecff"/>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CHANGES OR DEVELOPMENT AFTER 7</a:t>
            </a:r>
            <a:r>
              <a:rPr b="0" lang="en-US" sz="2800" spc="-1" strike="noStrike" baseline="30000">
                <a:solidFill>
                  <a:srgbClr val="ffffff"/>
                </a:solidFill>
                <a:latin typeface="Arial"/>
              </a:rPr>
              <a:t>TH</a:t>
            </a:r>
            <a:r>
              <a:rPr b="0" lang="en-US" sz="2800" spc="-1" strike="noStrike">
                <a:solidFill>
                  <a:srgbClr val="ffffff"/>
                </a:solidFill>
                <a:latin typeface="Arial"/>
              </a:rPr>
              <a:t> APRIL 1956 THE ENGLISH COMMON LAW AND EQUITY WILL NOT BECOME THE LAWS OF MALAYSIA, IT ONLY ACTS AS PERSUASIVE AUTH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GLISH COMMON LAW AND EQUITY</a:t>
            </a:r>
            <a:endParaRPr b="0" lang="en-US" sz="3600" spc="-1" strike="noStrike">
              <a:solidFill>
                <a:srgbClr val="ccecff"/>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ONDITIONS FOR THE APPLICATION:-</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99ff99"/>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OF LOCAL STATUTE COVERING THE SAME MATTER</a:t>
            </a:r>
            <a:endParaRPr b="0" lang="en-US" sz="2800" spc="-1" strike="noStrike">
              <a:solidFill>
                <a:srgbClr val="ffffff"/>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99ff99"/>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IF SUITED TO LOCAL CIRCUMSTA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GLISH COMMERCIAL LAW</a:t>
            </a:r>
            <a:endParaRPr b="0" lang="en-US" sz="4000" spc="-1" strike="noStrike">
              <a:solidFill>
                <a:srgbClr val="ccecff"/>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5(1) CIVIL LAW ACT 1956, ‘IN ALL QUESTIONS OR ISSUES WHICH ARISE OR WHICH HAVE TO BE DECIDED IN THE STATES OF WEST MALAYSIA OTHER THAN MALACCA AND PENANG WITH RESPECT TO THE LAW OF PARTNERSHIPS, CORPORATIONS, BANKS AND BANKING, PRINCIPALS AND AGENTS, CARRIERS BY AIR, LAND AND SEA, MARINE INSURANCE, AND WITH RESPECT TO MERCHANTILE LAW GENERALLY, THE LAW TO BE ADMINISTERED SHALL BE THE SAME AS WOULD BE ADMINISTERED IN ENGLAND IN THE LIKE CASE AT THE DATE OF THE COMING INTO FORCE OF THIS ACT, IF SUCH QUESTION OR ISSUE HAD ARISEN OR HAD TO BE DECIDED IN ENGLAND, UNLESS IN ANY CASE OTHER PROVISION IS OR SHALL BE MADE BY ANY WRITTEN LA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STOMS</a:t>
            </a:r>
            <a:endParaRPr b="0" lang="en-US" sz="4000" spc="-1" strike="noStrike">
              <a:solidFill>
                <a:srgbClr val="ccecff"/>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RACIAL AND RELIGIOUS GROUP IS GOVERNED BY THEIR OWN SET OF PERSONAL LAWS, EG. ISLAMIC LAW FOR MUSLIM, IRRESPECTIVE OF THEIR ETHNICITY, NATIVE LAW FOR THE NATIVES (KHADAZAN, BIDAYUH, MURUT, ETC.)</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NESE AND INDIAN CUSTOMARY: PREVIOUSLY JUDICIAL RECOGNITION ON VARIOUS CUSTOMARY LAW ON MARRIAG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 REFORM (MARRIAGE AND DIVORCE) ACT 1976 GOVERNS MARRIAGES AMONG NON-MUSLIM (ABOLISHMENT OF POLYGAMOUS MARRIA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W OF CONTRACT: SOURCES </a:t>
            </a:r>
            <a:endParaRPr b="0" lang="en-US" sz="4000" spc="-1" strike="noStrike">
              <a:solidFill>
                <a:srgbClr val="ccecff"/>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UTES</a:t>
            </a:r>
            <a:endParaRPr b="0" lang="en-US" sz="3200" spc="-1" strike="noStrike">
              <a:solidFill>
                <a:srgbClr val="ffffff"/>
              </a:solidFill>
              <a:latin typeface="Arial"/>
            </a:endParaRPr>
          </a:p>
          <a:p>
            <a:pPr lvl="2" marL="1131480" indent="-2260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 ACT 1950</a:t>
            </a:r>
            <a:endParaRPr b="0" lang="en-US" sz="2400" spc="-1" strike="noStrike">
              <a:solidFill>
                <a:srgbClr val="ffffff"/>
              </a:solidFill>
              <a:latin typeface="Arial"/>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LAWS</a:t>
            </a:r>
            <a:endParaRPr b="0" lang="en-US" sz="3200" spc="-1" strike="noStrike">
              <a:solidFill>
                <a:srgbClr val="ffffff"/>
              </a:solidFill>
              <a:latin typeface="Arial"/>
            </a:endParaRPr>
          </a:p>
          <a:p>
            <a:pPr lvl="2" marL="1131480" indent="-2260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 DECIDED IN COURTS</a:t>
            </a:r>
            <a:endParaRPr b="0" lang="en-US" sz="2400" spc="-1" strike="noStrike">
              <a:solidFill>
                <a:srgbClr val="ffffff"/>
              </a:solidFill>
              <a:latin typeface="Arial"/>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COMMON LAW</a:t>
            </a:r>
            <a:endParaRPr b="0" lang="en-US" sz="3200" spc="-1" strike="noStrike">
              <a:solidFill>
                <a:srgbClr val="ffffff"/>
              </a:solidFill>
              <a:latin typeface="Arial"/>
            </a:endParaRPr>
          </a:p>
          <a:p>
            <a:pPr lvl="2" marL="1131480" indent="-2260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7</a:t>
            </a:r>
            <a:r>
              <a:rPr b="0" lang="en-US" sz="2400" spc="-1" strike="noStrike" baseline="30000">
                <a:solidFill>
                  <a:srgbClr val="ffffff"/>
                </a:solidFill>
                <a:latin typeface="Arial"/>
              </a:rPr>
              <a:t>TH</a:t>
            </a:r>
            <a:r>
              <a:rPr b="0" lang="en-US" sz="2400" spc="-1" strike="noStrike">
                <a:solidFill>
                  <a:srgbClr val="ffffff"/>
                </a:solidFill>
                <a:latin typeface="Arial"/>
              </a:rPr>
              <a:t> APRIL 195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LAW OF CONTRACT: INTRODUCTION</a:t>
            </a:r>
            <a:endParaRPr b="0" lang="en-US" sz="3600" spc="-1" strike="noStrike">
              <a:solidFill>
                <a:srgbClr val="ccecff"/>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IS THE NUCLEUS OF ALL COMMERCIAL TRANSA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CONTRACT?</a:t>
            </a:r>
            <a:endParaRPr b="0" lang="en-US" sz="4000" spc="-1" strike="noStrike">
              <a:solidFill>
                <a:srgbClr val="ccecff"/>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 IS AN AGREEMENT WHICH IS ENFORCEABLE IN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HAT IS AGREEMENT</a:t>
            </a:r>
            <a:endParaRPr b="0" lang="en-US" sz="3600" spc="-1" strike="noStrike">
              <a:solidFill>
                <a:srgbClr val="ccecff"/>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ING OF THE MIND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PERSONS ARE SAID TO CONSENT WHEN THEY AGREE UPON THE SAME THING IN THE SAME SENS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SENSUS AD ID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REE MAIN FACTORS THAT CONTRIBUTE TO THE DISAGREEMENT</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ONLY PART OF THE SOCIETY’S NORMATIVE SYSTE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S OF THE LA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FERENCE THAT A WRITER H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BUT …</a:t>
            </a:r>
            <a:endParaRPr b="0" lang="en-US" sz="4000" spc="-1" strike="noStrike">
              <a:solidFill>
                <a:srgbClr val="ccecff"/>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AGREEMENTS ARE CONTRACT. THERE ARE SOME AGREEMENTS WHICH ARE NOT CONSIDERED AS CONTRAC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SOCIAL AGREE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GREEMENTS WHICH ARE CONTRACT</a:t>
            </a:r>
            <a:endParaRPr b="0" lang="en-US" sz="3600" spc="-1" strike="noStrike">
              <a:solidFill>
                <a:srgbClr val="ccecff"/>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N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TION TO CREATE LEGAL RELATIONSHIP</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EN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CONS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AL</a:t>
            </a:r>
            <a:endParaRPr b="0" lang="en-US" sz="4000" spc="-1" strike="noStrike">
              <a:solidFill>
                <a:srgbClr val="ccecff"/>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AL IS AN ACT THAT SIGNIFIES A PERSON’S WILLINGNESS TO DO OR TO ABSTAIN FROM DOING SOMETHING WITH A VIEW TO OBTAINING THE ASSENT OF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AL</a:t>
            </a:r>
            <a:endParaRPr b="0" lang="en-US" sz="4000" spc="-1" strike="noStrike">
              <a:solidFill>
                <a:srgbClr val="ccecff"/>
              </a:solidFill>
              <a:latin typeface="Arial"/>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N OFFER OR A PROMISE TO BE BOUND BY HIS/HER TERMS IF THEY ARE ACCEPTED BY THE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PRINCIPLE</a:t>
            </a:r>
            <a:endParaRPr b="0" lang="en-US" sz="4000" spc="-1" strike="noStrike">
              <a:solidFill>
                <a:srgbClr val="ccecff"/>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UPON THIS BASIS THAT A PROPOSAL SHOULD BE MADE CLEAR AND DEFINI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POSAL SHOULD NOT BE MADE IN UNAMBIGUOUS STATEM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BARGAINING IS STILL POSSIBLE IN THE ARRANGEMENT THE SUPPOSED PROPOSAL SHOULD NOT BE CONSIDERED AS PROPOSAL AT AL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AL</a:t>
            </a:r>
            <a:endParaRPr b="0" lang="en-US" sz="4000" spc="-1" strike="noStrike">
              <a:solidFill>
                <a:srgbClr val="ccecff"/>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EMENT SHOULD SHOW A CLEAR WILLINGNESS TO BE BOUND BY HIS/HER TERMS IF ACCEPTED BY THE OTHER PA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 RESPONSE TO A REQUEST FOR INFORMATION</a:t>
            </a:r>
            <a:endParaRPr b="0" lang="en-US" sz="3600" spc="-1" strike="noStrike">
              <a:solidFill>
                <a:srgbClr val="ccecff"/>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VEY V FACEY</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IFF: WILL YOU SELL US A BUMPER HALL PEN? TELEGRAPH LOWEST CASH PRI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DANT: LOWEST PRICE FOR BUMPER HALL PEN, GBP 9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VITATION TO TREAT</a:t>
            </a:r>
            <a:endParaRPr b="0" lang="en-US" sz="4000" spc="-1" strike="noStrike">
              <a:solidFill>
                <a:srgbClr val="ccecff"/>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ATION TO TREAT IS AN ACT TO INVITE OTHERS TO MAKE AN OFF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ATION TO TREAT IS NOT A PROPOS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ILL NOT RESULT TO A CONTRACT IF ACCEPTED BY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XAMPLES OF INVITATION TO TREAT</a:t>
            </a:r>
            <a:endParaRPr b="0" lang="en-US" sz="3600" spc="-1" strike="noStrike">
              <a:solidFill>
                <a:srgbClr val="ccecff"/>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CTIONS</a:t>
            </a:r>
            <a:endParaRPr b="0" lang="en-US" sz="28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NE V CAVE</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EMENTS</a:t>
            </a:r>
            <a:endParaRPr b="0" lang="en-US" sz="28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ELHO V THE PUBLIC SERVICES COMMISSIO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MS DISPLAYED IN SHOPS</a:t>
            </a:r>
            <a:endParaRPr b="0" lang="en-US" sz="28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RMACEUTICAL SOCIETY OF GREAT BRITAIN V BOOTS CASH CHEMIST LTD</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POSAL: LEGAL PRINCIPLE</a:t>
            </a:r>
            <a:endParaRPr b="0" lang="en-US" sz="4000" spc="-1" strike="noStrike">
              <a:solidFill>
                <a:srgbClr val="ccecff"/>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POSAL CAN BE ADDRESSED TO A PARTICULAR PERSON OR TO A GENERAL PUBL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ULTON V JONES</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LILL V CARBOLIC SMOKE B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1. LAW AS PART OF SOCIETY’S NORMS </a:t>
            </a:r>
            <a:endParaRPr b="0" lang="en-US" sz="36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Oval 4"/>
          <p:cNvSpPr/>
          <p:nvPr/>
        </p:nvSpPr>
        <p:spPr>
          <a:xfrm>
            <a:off x="2743200" y="2133720"/>
            <a:ext cx="3429000" cy="1143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ETY’S NORMATIVE SYSTEM</a:t>
            </a:r>
            <a:endParaRPr b="0" lang="en-US" sz="1600" spc="-1" strike="noStrike">
              <a:solidFill>
                <a:srgbClr val="ffffff"/>
              </a:solidFill>
              <a:latin typeface="Arial"/>
            </a:endParaRPr>
          </a:p>
        </p:txBody>
      </p:sp>
      <p:sp>
        <p:nvSpPr>
          <p:cNvPr id="225" name="Rectangle 6"/>
          <p:cNvSpPr/>
          <p:nvPr/>
        </p:nvSpPr>
        <p:spPr>
          <a:xfrm>
            <a:off x="3809880" y="5181480"/>
            <a:ext cx="1600200" cy="6098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GAL RULES</a:t>
            </a:r>
            <a:endParaRPr b="0" lang="en-US" sz="1600" spc="-1" strike="noStrike">
              <a:solidFill>
                <a:srgbClr val="ffffff"/>
              </a:solidFill>
              <a:latin typeface="Arial"/>
            </a:endParaRPr>
          </a:p>
        </p:txBody>
      </p:sp>
      <p:sp>
        <p:nvSpPr>
          <p:cNvPr id="226" name="Rectangle 7"/>
          <p:cNvSpPr/>
          <p:nvPr/>
        </p:nvSpPr>
        <p:spPr>
          <a:xfrm>
            <a:off x="1523880" y="4648320"/>
            <a:ext cx="1600200" cy="609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AL RULES</a:t>
            </a:r>
            <a:endParaRPr b="0" lang="en-US" sz="1600" spc="-1" strike="noStrike">
              <a:solidFill>
                <a:srgbClr val="ffffff"/>
              </a:solidFill>
              <a:latin typeface="Arial"/>
            </a:endParaRPr>
          </a:p>
        </p:txBody>
      </p:sp>
      <p:sp>
        <p:nvSpPr>
          <p:cNvPr id="227" name="Rectangle 8"/>
          <p:cNvSpPr/>
          <p:nvPr/>
        </p:nvSpPr>
        <p:spPr>
          <a:xfrm>
            <a:off x="6095880" y="4572000"/>
            <a:ext cx="1752840" cy="609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RULES</a:t>
            </a:r>
            <a:endParaRPr b="0" lang="en-US" sz="1600" spc="-1" strike="noStrike">
              <a:solidFill>
                <a:srgbClr val="ffffff"/>
              </a:solidFill>
              <a:latin typeface="Arial"/>
            </a:endParaRPr>
          </a:p>
        </p:txBody>
      </p:sp>
      <p:sp>
        <p:nvSpPr>
          <p:cNvPr id="228" name="AutoShape 16"/>
          <p:cNvSpPr/>
          <p:nvPr/>
        </p:nvSpPr>
        <p:spPr>
          <a:xfrm rot="18603000">
            <a:off x="2290320" y="3811680"/>
            <a:ext cx="1300320" cy="27144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AutoShape 17"/>
          <p:cNvSpPr/>
          <p:nvPr/>
        </p:nvSpPr>
        <p:spPr>
          <a:xfrm rot="13297200">
            <a:off x="5771880" y="3761640"/>
            <a:ext cx="1455480" cy="22860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AutoShape 18"/>
          <p:cNvSpPr/>
          <p:nvPr/>
        </p:nvSpPr>
        <p:spPr>
          <a:xfrm rot="16200000">
            <a:off x="3962520" y="4191120"/>
            <a:ext cx="1218960" cy="304560"/>
          </a:xfrm>
          <a:prstGeom prst="pi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PRINCIPLE</a:t>
            </a:r>
            <a:endParaRPr b="0" lang="en-US" sz="4000" spc="-1" strike="noStrike">
              <a:solidFill>
                <a:srgbClr val="ccecff"/>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POSAL MAY BE WRITTEN, SPOKEN OR IMPLIED FROM CONDU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MMUNICATION OF PROPOSAL</a:t>
            </a:r>
            <a:endParaRPr b="0" lang="en-US" sz="3600" spc="-1" strike="noStrike">
              <a:solidFill>
                <a:srgbClr val="ccecff"/>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ROPOSAL MADE SHOULD BE COMMUNICATED TO THE OTHER PART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PARTY SHOULD HAVE THE KNOWLEDGE BEFORE ACCEPTING A PROPOS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V CLARKE</a:t>
            </a:r>
            <a:endParaRPr b="0" lang="en-US" sz="2000" spc="-1" strike="noStrike">
              <a:solidFill>
                <a:srgbClr val="ffffff"/>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ere cannot be assent without knowledge of the offer’</a:t>
            </a:r>
            <a:endParaRPr b="0" lang="en-US" sz="1800" spc="-1" strike="noStrike">
              <a:solidFill>
                <a:srgbClr val="ffffff"/>
              </a:solidFill>
              <a:latin typeface="Arial"/>
            </a:endParaRPr>
          </a:p>
          <a:p>
            <a:pPr lvl="3" marL="1600200" indent="0" algn="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gins J</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MMUNICATION OF PROPOSAL: WHEN COMPLETE</a:t>
            </a:r>
            <a:endParaRPr b="0" lang="en-US" sz="3600" spc="-1" strike="noStrike">
              <a:solidFill>
                <a:srgbClr val="ccecff"/>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COMMUNICATION OF A PROPOSAL IS COMPLETE WHEN IT COMES TO THE KNOWLEDGE OF THE PERSON TO WHOM IT IS MA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4 (1)</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CCEPTANCE</a:t>
            </a:r>
            <a:endParaRPr b="0" lang="en-US" sz="4000" spc="-1" strike="noStrike">
              <a:solidFill>
                <a:srgbClr val="ccecff"/>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CEPTANCE IS AN ACT WHICH SHOWS THAT THE PERSON TO WHOM THE PROPOSAL IS MADE GIVES HIS/HER ASSENT TO THE PROPOS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PRINCIPLE</a:t>
            </a:r>
            <a:endParaRPr b="0" lang="en-US" sz="4000" spc="-1" strike="noStrike">
              <a:solidFill>
                <a:srgbClr val="ccecff"/>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VERT A PROPOSAL INTO A PROMISE THE ACCEPTANCE SHOULD BE ABSOLUTE AND UNQUALIFI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PRINCIPLE</a:t>
            </a:r>
            <a:endParaRPr b="0" lang="en-US" sz="4000" spc="-1" strike="noStrike">
              <a:solidFill>
                <a:srgbClr val="ccecff"/>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AL PRINCIPLE IS THAT THE ACCEPTANCE SHOULD BE A ‘MIRROR IMAGE’ TO THE PROPOS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UNTER OFFER</a:t>
            </a:r>
            <a:endParaRPr b="0" lang="en-US" sz="4000" spc="-1" strike="noStrike">
              <a:solidFill>
                <a:srgbClr val="ccecff"/>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ODIFICATION OR VARIATION OF THE PROPOSAL DOES NOT CONSTITUTE AN ACCEPTANCE BUT AMOUNTS TO A ‘COUNTER OFFER’. A COUNTER OFFER DESTROYS THE ORIGINAL OFF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YDE V WRENCH</a:t>
            </a:r>
            <a:endParaRPr b="0" lang="en-US" sz="4000" spc="-1" strike="noStrike">
              <a:solidFill>
                <a:srgbClr val="ccecff"/>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DANT OFFERED TO SELL HIS ESTATE FOR GBP 100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IFF AGREED TO BUY BUT FOR GBP 9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DANT REFUSED TO SEL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IF AGREED WITH THE ORIGINAL OFF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BATTLE OF THE FORMS</a:t>
            </a:r>
            <a:endParaRPr b="0" lang="en-US" sz="36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Butler Machine Tool v Ex-Cell-O-Corporation</a:t>
            </a:r>
            <a:r>
              <a:rPr b="0" lang="en-US" sz="2800" spc="-1" strike="noStrike">
                <a:solidFill>
                  <a:srgbClr val="ffffff"/>
                </a:solidFill>
                <a:latin typeface="Arial"/>
              </a:rPr>
              <a:t> [1979] 1 All ER 965 – An arrangement to sell a machine. Both parties have their own standard terms. A makes an offer with ‘price variation clause’. B accepts but with its own terms i.e. without ‘price variation clause’ The court give the judgment to the person who last make an off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GAL PRINCIPLE</a:t>
            </a:r>
            <a:endParaRPr b="0" lang="en-US" sz="4000" spc="-1" strike="noStrike">
              <a:solidFill>
                <a:srgbClr val="ccecff"/>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ILENCE’ SHOULD NOT BE PRESCRIBED AS A FORM OF ACCEPT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THOUSE V BINDL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2. ORIGIN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S (RELIGI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RULE</a:t>
            </a:r>
            <a:endParaRPr b="0" lang="en-US" sz="4000" spc="-1" strike="noStrike">
              <a:solidFill>
                <a:srgbClr val="ccecff"/>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CEPTANCE SHOULD BE MADE KNOWN (COMMUNICATED) TO THE PERSON TO WHOM THE PROPOSAL IS MADE</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E TO FACE CONTRACT</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 THROUGH TELEPHONE</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 THROUGH TELEX</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XCEPTION TO THE GENERAL RULE</a:t>
            </a:r>
            <a:endParaRPr b="0" lang="en-US" sz="3600" spc="-1" strike="noStrike">
              <a:solidFill>
                <a:srgbClr val="ccecff"/>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LATERAL CONTRA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L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HEN COMMUNICATION IS COMPLETE?</a:t>
            </a:r>
            <a:endParaRPr b="0" lang="en-US" sz="3600" spc="-1" strike="noStrike">
              <a:solidFill>
                <a:srgbClr val="ccecff"/>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2) THE COMMUNICATION OF ACCEPTANCE IS COMPLE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S AGAINST THE PROPOSER WHEN IT IS PUT IN A COURSE OF TRANSMISSION TO HIM SO AS TO BE OUT OF THE POWER OF THE ACCEPTOR; AN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S AGAINST THE ACCEPTOR WHEN IT COMES TO THE KNOWLEDGE OF THE PROPOS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OSTAL RULE</a:t>
            </a:r>
            <a:endParaRPr b="0" lang="en-US" sz="4000" spc="-1" strike="noStrike">
              <a:solidFill>
                <a:srgbClr val="ccecff"/>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MS V LINDSELL</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DANT OFFERED TO SELL CERTAIN AMOUNT OF WOOL BY LETTER (THE LETTER WAS MISDIREC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INTIFF ACCEPTED THE OFFER BY LET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THE LETTER ARRIVED DEFENDANT SOLD THE WOOL TO A THIRD PARTY</a:t>
            </a:r>
            <a:endParaRPr b="0" lang="en-US" sz="24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mmunication of acceptance is complete and a contract is concluded when the acceptor has posted the letter of acceptan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VOCATION OF PROPOSAL</a:t>
            </a:r>
            <a:endParaRPr b="0" lang="en-US" sz="4000" spc="-1" strike="noStrike">
              <a:solidFill>
                <a:srgbClr val="ccecff"/>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A PROPOSAL MAY BE REVOKED AT ANY TIME BEFORE THE COMMUNICATION OF ITS ACCEPTANCE IS COMPLETE AS AGAINST THE PROPOSER, BUT NOT AFTERW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MMUNICATION OF REVOCATION</a:t>
            </a:r>
            <a:endParaRPr b="0" lang="en-US" sz="3600" spc="-1" strike="noStrike">
              <a:solidFill>
                <a:srgbClr val="ccecff"/>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VOCATIONS MUST BE MADE KNOWN TO THE OTHER PAR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YRNE V VAN TIEN HOVEN</a:t>
            </a:r>
            <a:endParaRPr b="0" lang="en-US" sz="4000" spc="-1" strike="noStrike">
              <a:solidFill>
                <a:srgbClr val="ccecff"/>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endants wrote from Cardiff on 1 October offering to sell a quantity of tinplates to the plaintiffs in New York. On 8 October, the defendants posted a letter withdrawing the offer. On 11 October, the offer reached the plaintiffs, who accepted at once by telegram (and the plaintiffs also confirmed this in writing on 15 October). The defendants’ letter of withdrawal reached the plaintiffs on 20 Octobe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d: Mere posting of a letter of revocation does not amount to an effective communication to the accep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a:t>
            </a:r>
            <a:endParaRPr b="0" lang="en-US" sz="4000" spc="-1" strike="noStrike">
              <a:solidFill>
                <a:srgbClr val="ccecff"/>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 IS THE SYMBOL OF BARGAIN AND RECIPROCAL OBLIG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REQUIRES THAT THE PROMISOR ASKS FOR AND RECEIVES SOMETHING IN RETURN FOR HIS PROMIS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MUST BE SOME ELEMENT OF EXCHANGE – SOME DEGREE OF MUTUA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CONSIDERATION?</a:t>
            </a:r>
            <a:endParaRPr b="0" lang="en-US" sz="4000" spc="-1" strike="noStrike">
              <a:solidFill>
                <a:srgbClr val="ccecff"/>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ATION IS A ‘PRICE’ GIVEN IN RETURN FOR A PROM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 SHOULD BE SOMETHING OF VALUE IN THE EYES OF THE LA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PERSONAL PREDILECTION</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OF THE LAW</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ENFORCEMENT OF JUSTICE</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S OF THE LAW</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LL OF THE PEOPLE</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TO ENFORCE THE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RRIE V MISA</a:t>
            </a:r>
            <a:endParaRPr b="0" lang="en-US" sz="4000" spc="-1" strike="noStrike">
              <a:solidFill>
                <a:srgbClr val="ccecff"/>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VALUABLE CONSIDERATION, IN THE EYES OF THE LAW, MAY CONSISTS EITHER IN SOME RIGHT, INTEREST, PROFIT, OR BENEFIT ACCRUING TO THE ONE PARTY, OR SOME FORBEARANCE, DETRIMENT, LOSS, OR RESPONSIBILITY GIVEN, SUFFERED OR UNDERTAKEN BY THE 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ECTION 2 (d) CONTRACT ACT 1950</a:t>
            </a:r>
            <a:endParaRPr b="0" lang="en-US" sz="3600" spc="-1" strike="noStrike">
              <a:solidFill>
                <a:srgbClr val="ccecff"/>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EN, AT THE DESIRE OF THE PROMISOR, THE PROMISEE OR ANY OTHER PERSON HAS DONE OR ABSTAINED FROM DOING, OR DOES OR ABSTAINS FROM DOING, OR PROMISES TO DO OR TO ABSTAIN FROM DOING, SOMETHING, SUCH ACT OR ABSTINANCE OR PROMISE IS CALLED A CONSIDERATION FOR THE PROMI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LASSIFICATION</a:t>
            </a:r>
            <a:endParaRPr b="0" lang="en-US" sz="4000" spc="-1" strike="noStrike">
              <a:solidFill>
                <a:srgbClr val="ccecff"/>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ORY CONSIDERATION</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mise is made in return for a promi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D CONSIDERATION</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formance is made in return for a promise</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CONSIDERATION</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mise is made subsequent to and in return for an act that has already been performed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AST CONSIDERATION</a:t>
            </a:r>
            <a:endParaRPr b="0" lang="en-US" sz="4000" spc="-1" strike="noStrike">
              <a:solidFill>
                <a:srgbClr val="ccecff"/>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 FINDS X’S PERSIAN C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 RETURNS THE CAT TO 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 PROMISES TO REWARD Y RM 1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Y CONTRACT?</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Y CONSID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GLISH COMMON LAW</a:t>
            </a:r>
            <a:endParaRPr b="0" lang="en-US" sz="4000" spc="-1" strike="noStrike">
              <a:solidFill>
                <a:srgbClr val="ccecff"/>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consideration is not valid because it has been done without reference to the existing promis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 McArdle </a:t>
            </a:r>
            <a:r>
              <a:rPr b="0" lang="en-US" sz="2800" spc="-1" strike="noStrike">
                <a:solidFill>
                  <a:srgbClr val="ffffff"/>
                </a:solidFill>
                <a:latin typeface="Arial"/>
              </a:rPr>
              <a:t>[1951] Ch 669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mpleigh v Brathwait </a:t>
            </a:r>
            <a:r>
              <a:rPr b="0" lang="en-US" sz="2800" spc="-1" strike="noStrike">
                <a:solidFill>
                  <a:srgbClr val="ffffff"/>
                </a:solidFill>
                <a:latin typeface="Arial"/>
              </a:rPr>
              <a:t>(1615) Hob 105</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LAYSIAN LAW</a:t>
            </a:r>
            <a:endParaRPr b="0" lang="en-US" sz="4000" spc="-1" strike="noStrike">
              <a:solidFill>
                <a:srgbClr val="ccecff"/>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2(d) Contract Act 1950</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consideration is considered as valid “when, at the desire of the promisor, the promisee or any other person has done or abstained from doing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SIDERATION FROM A THIRD PARTY</a:t>
            </a:r>
            <a:endParaRPr b="0" lang="en-US" sz="3600" spc="-1" strike="noStrike">
              <a:solidFill>
                <a:srgbClr val="ccecff"/>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nglish Common Law</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Consideration must move from the promisee/acceptor</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ection 2(d) Contract Act 1950</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a:t>
            </a:r>
            <a:r>
              <a:rPr b="0" lang="en-US" sz="2800" spc="-1" strike="noStrike">
                <a:solidFill>
                  <a:srgbClr val="ffffff"/>
                </a:solidFill>
                <a:latin typeface="Arial"/>
              </a:rPr>
              <a:t>the promisee or </a:t>
            </a:r>
            <a:r>
              <a:rPr b="0" lang="en-US" sz="2800" spc="-1" strike="noStrike" u="sng">
                <a:solidFill>
                  <a:srgbClr val="ffffff"/>
                </a:solidFill>
                <a:uFillTx/>
                <a:latin typeface="Arial"/>
              </a:rPr>
              <a:t>any other person</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enkata Chinnaya v Verikatara Ma’ya</a:t>
            </a:r>
            <a:r>
              <a:rPr b="0" lang="en-US" sz="2800" spc="-1" strike="noStrike">
                <a:solidFill>
                  <a:srgbClr val="ffffff"/>
                </a:solidFill>
                <a:latin typeface="Arial"/>
              </a:rPr>
              <a:t> (1881) ILR 4 Mad. 137</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RFORMANCE OF A LEGAL DUTY</a:t>
            </a:r>
            <a:endParaRPr b="0" lang="en-US" sz="3600" spc="-1" strike="noStrike">
              <a:solidFill>
                <a:srgbClr val="ccecff"/>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PUBLIC DUTY IMPOSED BY LAW</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lassbrook Bros. v Glamorgan County Council </a:t>
            </a:r>
            <a:r>
              <a:rPr b="0" lang="en-US" sz="2800" spc="-1" strike="noStrike">
                <a:solidFill>
                  <a:srgbClr val="ffffff"/>
                </a:solidFill>
                <a:latin typeface="Arial"/>
              </a:rPr>
              <a:t>[1925] AC 270</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PERFORMANCE OF A DUTY OWED TO PROMISOR</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ilk v Myrick </a:t>
            </a:r>
            <a:r>
              <a:rPr b="0" lang="en-US" sz="2800" spc="-1" strike="noStrike">
                <a:solidFill>
                  <a:srgbClr val="ffffff"/>
                </a:solidFill>
                <a:latin typeface="Arial"/>
              </a:rPr>
              <a:t>(1809) 2 Camp 31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SIDERATION NEED NOT BE ADEQUATE</a:t>
            </a:r>
            <a:endParaRPr b="0" lang="en-US" sz="3600" spc="-1" strike="noStrike">
              <a:solidFill>
                <a:srgbClr val="ccecff"/>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ion 2 of Section 2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ng Swee Kim v Beh I Hock (1964) MLJ 383</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rrangement to sell a piece of land for RM500 which worth more than that</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XCEPTIONS TO GENERAL RULE</a:t>
            </a:r>
            <a:endParaRPr b="0" lang="en-US" sz="3600" spc="-1" strike="noStrike">
              <a:solidFill>
                <a:srgbClr val="ccecff"/>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ction 26(a)</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greement made in writing and register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ction 26(b)</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greement to compensate for something don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ction 26(c)</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greement to pay a statute barred deb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W AND THE JURIST</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I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INTENTION TO CREATE A LEGAL RELATIONSHIP</a:t>
            </a:r>
            <a:endParaRPr b="0" lang="en-US" sz="3600" spc="-1" strike="noStrike">
              <a:solidFill>
                <a:srgbClr val="ccecff"/>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IES CONTEMPLATE THAT THE AGREEMENT BE ENFORCEABLE IN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OW TO PROVE THE PRESENCE OF INTENTION</a:t>
            </a:r>
            <a:endParaRPr b="0" lang="en-US" sz="3600" spc="-1" strike="noStrike">
              <a:solidFill>
                <a:srgbClr val="ccecff"/>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WILL DECIDE UPON CASES AND THE PRINCIPLE OF ‘REBUTTABLE PRESUMP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BUTTABLE PRESUMPTION</a:t>
            </a:r>
            <a:endParaRPr b="0" lang="en-US" sz="4000" spc="-1" strike="noStrike">
              <a:solidFill>
                <a:srgbClr val="ccecff"/>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BUTTABLE PRESUMPTION MEANS A SUGGESTION HOLDS GOOD SO LONG AS THERE IS NO EVIDENCE TO THE CONTR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GREEMENTS ARE CATEGORISED</a:t>
            </a:r>
            <a:endParaRPr b="0" lang="en-US" sz="3600" spc="-1" strike="noStrike">
              <a:solidFill>
                <a:srgbClr val="ccecff"/>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AGRE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DOMESTIC AND FAMILY AGRE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ERCIAL AGREEMENTS</a:t>
            </a:r>
            <a:endParaRPr b="0" lang="en-US" sz="4000" spc="-1" strike="noStrike">
              <a:solidFill>
                <a:srgbClr val="ccecff"/>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UMP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N INTENTION TO CREATE LEGAL RELATIOSHIPS UNLESS IT IS PROVEN OTHERW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ERCIAL AGREEMENTS</a:t>
            </a:r>
            <a:endParaRPr b="0" lang="en-US" sz="4000" spc="-1" strike="noStrike">
              <a:solidFill>
                <a:srgbClr val="ccecff"/>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UMPTION REMAIN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lill v Carbolic Smoke Ball (1892) 2 QB 484</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ERCIAL AGREEMENTS</a:t>
            </a:r>
            <a:endParaRPr b="0" lang="en-US" sz="4000" spc="-1" strike="noStrike">
              <a:solidFill>
                <a:srgbClr val="ccecff"/>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UMPTION REFUTED</a:t>
            </a:r>
            <a:endParaRPr b="0" lang="en-US" sz="3200" spc="-1" strike="noStrike">
              <a:solidFill>
                <a:srgbClr val="ffffff"/>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es v Vernons Pools [1938] 2 All ER 626</a:t>
            </a:r>
            <a:endParaRPr b="0" lang="en-US" sz="3200" spc="-1" strike="noStrike">
              <a:solidFill>
                <a:srgbClr val="ffffff"/>
              </a:solidFill>
              <a:latin typeface="Arial"/>
            </a:endParaRPr>
          </a:p>
          <a:p>
            <a:pPr lvl="2" marL="1131480" indent="-22608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Deny of the Intention</a:t>
            </a:r>
            <a:endParaRPr b="0" lang="en-US" sz="24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se and Frank v Crompton  Bros [1923] 2 KB 261</a:t>
            </a:r>
            <a:endParaRPr b="0" lang="en-US" sz="3200" spc="-1" strike="noStrike">
              <a:solidFill>
                <a:srgbClr val="ffffff"/>
              </a:solidFill>
              <a:latin typeface="Arial"/>
            </a:endParaRPr>
          </a:p>
          <a:p>
            <a:pPr lvl="2" marL="1131480" indent="-22608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andum of Understanding (MoU)</a:t>
            </a:r>
            <a:endParaRPr b="0" lang="en-US" sz="2400" spc="-1" strike="noStrike">
              <a:solidFill>
                <a:srgbClr val="ffffff"/>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OCIAL, DOMESTIC AND FAMILY AGREEMENTS</a:t>
            </a:r>
            <a:endParaRPr b="0" lang="en-US" sz="3600" spc="-1" strike="noStrike">
              <a:solidFill>
                <a:srgbClr val="ccecff"/>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UMP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INTENTION TO CREATE LEGAL RELATIONSHIPS UNLESS PROVEN OTHERW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OCIAL, DOMESTIC AND FAMILY AGREEMENTS</a:t>
            </a:r>
            <a:endParaRPr b="0" lang="en-US" sz="3600" spc="-1" strike="noStrike">
              <a:solidFill>
                <a:srgbClr val="ccecff"/>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UMPTION REMAIN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four v Balfour [1919] 2 KB 57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es v Padavatton [1969] 2 All ER 6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OCIAL, DOMESTIC AND FAMILY AGREEMENTS</a:t>
            </a:r>
            <a:endParaRPr b="0" lang="en-US" sz="3600" spc="-1" strike="noStrike">
              <a:solidFill>
                <a:srgbClr val="ccecff"/>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UMPTION REFUTED</a:t>
            </a:r>
            <a:endParaRPr b="0" lang="en-US" sz="2400" spc="-1" strike="noStrike">
              <a:solidFill>
                <a:srgbClr val="ffffff"/>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ritt v Merritt [1970] 2 All ER 760</a:t>
            </a:r>
            <a:endParaRPr b="0" lang="en-US" sz="24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separated</a:t>
            </a:r>
            <a:endParaRPr b="0" lang="en-US" sz="18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kins v Pays [1955] 1 WLR 975</a:t>
            </a:r>
            <a:endParaRPr b="0" lang="en-US" sz="24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Household Agreement</a:t>
            </a:r>
            <a:endParaRPr b="0" lang="en-US" sz="18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ker v Clark [1960] 1 WLR 286</a:t>
            </a:r>
            <a:endParaRPr b="0" lang="en-US" sz="2400" spc="-1" strike="noStrike">
              <a:solidFill>
                <a:srgbClr val="ffffff"/>
              </a:solidFill>
              <a:latin typeface="Arial"/>
            </a:endParaRPr>
          </a:p>
          <a:p>
            <a:pPr lvl="2" marL="1119960" indent="-22392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ly rely upon the promise; has given up something of value</a:t>
            </a:r>
            <a:endParaRPr b="0" lang="en-US" sz="18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ner v Tanner [1975] 1 WLR 1346</a:t>
            </a:r>
            <a:endParaRPr b="0" lang="en-US" sz="2400" spc="-1" strike="noStrike">
              <a:solidFill>
                <a:srgbClr val="ffffff"/>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5:40:08Z</dcterms:created>
  <dc:creator>Fakulti Ekonomi &amp; Pengurusan</dc:creator>
  <dc:description/>
  <dc:language>en-US</dc:language>
  <cp:lastModifiedBy>SUHAIMI</cp:lastModifiedBy>
  <dcterms:modified xsi:type="dcterms:W3CDTF">2011-06-14T13:31:35Z</dcterms:modified>
  <cp:revision>58</cp:revision>
  <dc:subject/>
  <dc:title>BUSINESS LAW AND ETH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